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476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-144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13160" indent="-274320">
              <a:spcBef>
                <a:spcPts val="9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3" marL="1536120" indent="-219240">
              <a:spcBef>
                <a:spcPts val="9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4" marL="1974960" indent="-219240">
              <a:spcBef>
                <a:spcPts val="9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5" marL="1974960" indent="-219240">
              <a:spcBef>
                <a:spcPts val="9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6" marL="1974960" indent="-219240">
              <a:spcBef>
                <a:spcPts val="9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4800600"/>
            <a:ext cx="22096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3: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Constructors, Scope, Wrappers, Inheritance, a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Orien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Java for the Impatient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heritance and Sc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927000"/>
            <a:ext cx="8229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bles (e.g. strNois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first examin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rrent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ooks for loc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variable or parame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then examin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rrent class (e.g. Do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then examin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erclass (e.g. Animal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inues up the class hierarch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il no mo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erclasses to ex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s (e.g. doYourThing() or identifySelf(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first examin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rrent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then examin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er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inues up inheri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erarch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il no mo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erclasses to ex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pecifying Sc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143000"/>
            <a:ext cx="777240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allows you to override the scope rules by saying which variable/method you’re referring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wor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for specifying method or variable fr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percla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e.g.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per.doYourThing(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wor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for specifying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variable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bject, e.g.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is.doYourThing(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8440" y="380880"/>
            <a:ext cx="74966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Dog extends Animal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Do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.strNoise = “Woof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of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doYourThing ( 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.identifySelf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“I am a dog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strNoi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// of doYour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of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9800" y="5334120"/>
            <a:ext cx="33361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(in this case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Noise = “Woof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strNoise = “Woof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5334120"/>
            <a:ext cx="292464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(in this case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entifySel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.identifySel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5335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sing su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752480"/>
            <a:ext cx="57150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Dog extends Animal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onstructor as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doYourThing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entifySel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Nois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// of doYour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identifySelf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identifySel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“I am a dog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// of identify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// of 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920" y="380880"/>
            <a:ext cx="3148560" cy="1186200"/>
            <a:chOff x="5335920" y="380880"/>
            <a:chExt cx="3148560" cy="1186200"/>
          </a:xfrm>
        </p:grpSpPr>
        <p:sp>
          <p:nvSpPr>
            <p:cNvPr id="101" name=""/>
            <p:cNvSpPr/>
            <p:nvPr/>
          </p:nvSpPr>
          <p:spPr>
            <a:xfrm>
              <a:off x="5335920" y="380880"/>
              <a:ext cx="3148560" cy="1186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g     Cat     H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710320" y="852480"/>
              <a:ext cx="61920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76960" y="852480"/>
              <a:ext cx="47952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0240" y="8524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728880" y="2666880"/>
            <a:ext cx="5414760" cy="1003680"/>
            <a:chOff x="3728880" y="2666880"/>
            <a:chExt cx="5414760" cy="1003680"/>
          </a:xfrm>
        </p:grpSpPr>
        <p:sp>
          <p:nvSpPr>
            <p:cNvPr id="106" name=""/>
            <p:cNvSpPr/>
            <p:nvPr/>
          </p:nvSpPr>
          <p:spPr>
            <a:xfrm>
              <a:off x="5896800" y="2666880"/>
              <a:ext cx="3246840" cy="1003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.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this.identifySelf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newly defined belo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728880" y="3072600"/>
              <a:ext cx="209448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19440" y="5562720"/>
            <a:ext cx="2315160" cy="10036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e.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Sel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efined in Ani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190760" y="5028840"/>
            <a:ext cx="315720" cy="9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343400" y="1752480"/>
            <a:ext cx="42670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Shap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double PI = 3.1415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String name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ring getName (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this.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getName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 area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are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A geometry example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141560" y="2513160"/>
            <a:ext cx="190152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7440" y="4040280"/>
            <a:ext cx="1901880" cy="68256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0040" y="4040280"/>
            <a:ext cx="1901880" cy="68256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1160" y="3200400"/>
            <a:ext cx="915840" cy="839880"/>
          </a:xfrm>
          <a:custGeom>
            <a:avLst/>
            <a:gdLst/>
            <a:ahLst/>
            <a:rect l="l" t="t" r="r" b="b"/>
            <a:pathLst>
              <a:path w="577" h="529">
                <a:moveTo>
                  <a:pt x="0" y="528"/>
                </a:move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95560" y="3200400"/>
            <a:ext cx="1144440" cy="839880"/>
          </a:xfrm>
          <a:custGeom>
            <a:avLst/>
            <a:gdLst/>
            <a:ahLst/>
            <a:rect l="l" t="t" r="r" b="b"/>
            <a:pathLst>
              <a:path w="721" h="529">
                <a:moveTo>
                  <a:pt x="72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0680" y="368280"/>
            <a:ext cx="450036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Rectangle extends Shap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length, width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tangl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(0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onstructor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tangle (int l, int w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( l, w, “rectangl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onstructor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tangle (int l, int w, String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= 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th = 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 area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length * wid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92320" y="380880"/>
            <a:ext cx="40950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ring getNam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length == 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"squar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super.getNam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getName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ring toString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s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new String ("A "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Name(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 with length " + leng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" and width " + wid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to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48320" y="522360"/>
            <a:ext cx="0" cy="581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2920" y="743040"/>
            <a:ext cx="883008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va’s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irst line of constructor is not an explicit call to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erclass constructor, Java will implicitly pu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er(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first line, calling the superclass default constructor.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g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Noise = “Woof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// of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exception to this ru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ine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 call t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s(params)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uper(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use superclass constructor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s, call them explicit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er(str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tructors and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90440" y="3276720"/>
            <a:ext cx="5778000" cy="454680"/>
            <a:chOff x="2890440" y="3276720"/>
            <a:chExt cx="5778000" cy="454680"/>
          </a:xfrm>
        </p:grpSpPr>
        <p:sp>
          <p:nvSpPr>
            <p:cNvPr id="123" name=""/>
            <p:cNvSpPr/>
            <p:nvPr/>
          </p:nvSpPr>
          <p:spPr>
            <a:xfrm>
              <a:off x="4737960" y="3276720"/>
              <a:ext cx="3930480" cy="454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lied call to Animal()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890440" y="3513240"/>
              <a:ext cx="1839960" cy="13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eritance and Sc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560" y="990720"/>
            <a:ext cx="1959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1280" y="1676520"/>
            <a:ext cx="810792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(xxx)                // calls a superclas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.xxx                 // accesses superclass’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.xxx( )             // calls superclass’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(xxx)                  // calls a current-clas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.xxx                    // accesses current class’s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.xxx( )                // calls current class’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nno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.super&lt;somethin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n achieve this effect vi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rarely should;  details later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eritance and Sc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685800"/>
            <a:ext cx="79981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StaffMe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str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affMember(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 (“in default StaffMem constr; No Nam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Name(“No Nam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of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affMember(String strName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 (“in 2nd StaffMem constructior; have a Nam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Name(str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setName(String strNam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.strName = str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se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// of Staff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0400" y="915840"/>
            <a:ext cx="51163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Employee1 extends StaffMember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Employee1(String str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Name(str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constr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Employe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900000">
            <a:off x="6324120" y="3200040"/>
            <a:ext cx="2422800" cy="10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ppen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eritance and Sc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523880"/>
            <a:ext cx="2587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Employee has no local setName()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6400" y="2643120"/>
            <a:ext cx="20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360" y="3416400"/>
            <a:ext cx="51696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Employee2 extends StaffMe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Employee2(String strNam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Name(str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constr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setName(String strNam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setName(str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 (“Name se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Employe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990720"/>
            <a:ext cx="380880" cy="1906560"/>
          </a:xfrm>
          <a:custGeom>
            <a:avLst/>
            <a:gdLst/>
            <a:ahLst/>
            <a:rect l="l" t="t" r="r" b="b"/>
            <a:pathLst>
              <a:path w="240" h="1201">
                <a:moveTo>
                  <a:pt x="0" y="0"/>
                </a:moveTo>
                <a:lnTo>
                  <a:pt x="23" y="3"/>
                </a:lnTo>
                <a:lnTo>
                  <a:pt x="46" y="9"/>
                </a:lnTo>
                <a:lnTo>
                  <a:pt x="68" y="17"/>
                </a:lnTo>
                <a:lnTo>
                  <a:pt x="86" y="29"/>
                </a:lnTo>
                <a:lnTo>
                  <a:pt x="108" y="61"/>
                </a:lnTo>
                <a:lnTo>
                  <a:pt x="120" y="99"/>
                </a:lnTo>
                <a:lnTo>
                  <a:pt x="120" y="499"/>
                </a:lnTo>
                <a:lnTo>
                  <a:pt x="131" y="537"/>
                </a:lnTo>
                <a:lnTo>
                  <a:pt x="154" y="569"/>
                </a:lnTo>
                <a:lnTo>
                  <a:pt x="171" y="581"/>
                </a:lnTo>
                <a:lnTo>
                  <a:pt x="194" y="590"/>
                </a:lnTo>
                <a:lnTo>
                  <a:pt x="216" y="596"/>
                </a:lnTo>
                <a:lnTo>
                  <a:pt x="239" y="598"/>
                </a:lnTo>
                <a:lnTo>
                  <a:pt x="216" y="601"/>
                </a:lnTo>
                <a:lnTo>
                  <a:pt x="194" y="607"/>
                </a:lnTo>
                <a:lnTo>
                  <a:pt x="171" y="616"/>
                </a:lnTo>
                <a:lnTo>
                  <a:pt x="154" y="628"/>
                </a:lnTo>
                <a:lnTo>
                  <a:pt x="131" y="660"/>
                </a:lnTo>
                <a:lnTo>
                  <a:pt x="120" y="698"/>
                </a:lnTo>
                <a:lnTo>
                  <a:pt x="120" y="1098"/>
                </a:lnTo>
                <a:lnTo>
                  <a:pt x="108" y="1139"/>
                </a:lnTo>
                <a:lnTo>
                  <a:pt x="86" y="1171"/>
                </a:lnTo>
                <a:lnTo>
                  <a:pt x="68" y="1182"/>
                </a:lnTo>
                <a:lnTo>
                  <a:pt x="46" y="1191"/>
                </a:lnTo>
                <a:lnTo>
                  <a:pt x="23" y="1197"/>
                </a:lnTo>
                <a:lnTo>
                  <a:pt x="0" y="120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ding classes &amp; inheriting fields/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this and sup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structor ch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lymorphism &amp; cas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ngle and multiple inherita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sibility modifi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7940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0120" y="304920"/>
            <a:ext cx="57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Object Oriented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s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914400"/>
            <a:ext cx="731196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provides a base clas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lasses that do not have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te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use implicitly inherit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irectly fromcla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va.lang.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boolean equals (Object 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boolean String toString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create your ow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tring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class, you are overriding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tring(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1522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Object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9080" y="1752480"/>
            <a:ext cx="2343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     Cat    Hu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57080" y="2147760"/>
            <a:ext cx="3146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66880" y="2147760"/>
            <a:ext cx="20016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415880" y="2147760"/>
            <a:ext cx="3672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560" y="99072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24120" y="1328760"/>
            <a:ext cx="82224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68600" y="1328760"/>
            <a:ext cx="78444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0360" y="1828800"/>
            <a:ext cx="2241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ried       Hou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733560" y="2209680"/>
            <a:ext cx="3142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209680"/>
            <a:ext cx="199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3920" y="990720"/>
            <a:ext cx="3974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ss Object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toString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 equals(Object ob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few othe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98400" y="3429000"/>
            <a:ext cx="4070520" cy="2893320"/>
            <a:chOff x="1598400" y="3429000"/>
            <a:chExt cx="4070520" cy="2893320"/>
          </a:xfrm>
        </p:grpSpPr>
        <p:sp>
          <p:nvSpPr>
            <p:cNvPr id="152" name=""/>
            <p:cNvSpPr/>
            <p:nvPr/>
          </p:nvSpPr>
          <p:spPr>
            <a:xfrm>
              <a:off x="1598400" y="4191120"/>
              <a:ext cx="23439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g     Cat    Hu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76040" y="4586400"/>
              <a:ext cx="3142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85840" y="4586400"/>
              <a:ext cx="2001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634840" y="4586400"/>
              <a:ext cx="3636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9520" y="342900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043080" y="3767400"/>
              <a:ext cx="82224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2880" y="5037120"/>
              <a:ext cx="78444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7200" y="5410440"/>
              <a:ext cx="22417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laried       Hour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957120" y="5799240"/>
              <a:ext cx="3142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90960" y="5799240"/>
              <a:ext cx="20016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3429000"/>
            <a:ext cx="208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how abo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762120"/>
            <a:ext cx="83818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types (e.g.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no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sometimes, we may have need to mak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mi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ypes in a context that requires that we manipula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many collection classes are collection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provides a se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.k.a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 wrapp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.k.a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velope cla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support treating primitives as objec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oes this by providing a specific class that corresponds 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rimi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in java.lang, so the nam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rapper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rapper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66560" y="1144440"/>
            <a:ext cx="497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ss 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rresponds t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Primitiv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15600" y="1525680"/>
            <a:ext cx="4354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                                   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                                 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                                        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                                        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                                    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                                       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                                         fl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                                    dou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119480"/>
            <a:ext cx="807732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ach 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us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ipulate primitives a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s usefu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version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Integer contai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eger valueOf(String 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.valueOf(“27”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object corresponding to int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s usefu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tility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.g. for hash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87320" y="3808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480" y="762120"/>
            <a:ext cx="71794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ing wrappers to bridge between objects and primitiv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create and initialize an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i = 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create an Integer object and convert the int t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intObject = new Integer( i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retrieve the int by unwrapping it from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( intObject.intValue 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convert a string into an Integ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strS = “27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int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bject = new Integer (Integer.valueOf(strS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then to an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= intObject.int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rapper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62160" y="3352680"/>
            <a:ext cx="1164600" cy="820440"/>
          </a:xfrm>
          <a:prstGeom prst="rect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724280" y="3733920"/>
            <a:ext cx="27432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8088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Instanc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vs.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143000"/>
            <a:ext cx="792468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tance metho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ch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ha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ts own behav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les vs. descartes vs. ab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YourThing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meth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the class itself sh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maintain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gle behavi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ll instances of th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from one type to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method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used to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you can s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.valueOf(strValu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Object.valueOf(str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subclasses may have different methods for accomplishing the same/similar behavi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care about the details when you call a method, provided you know that the obj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form a method with that signa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you have a simulated ecology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imals in it (SimZoo) and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make the animals mov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nimals move in diffrerent way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0480" y="838080"/>
            <a:ext cx="71002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Anim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move (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(“I am an animal and am moving.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of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of 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Fish extends Anima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move( )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(“Glug glug gurgle gurgl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of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of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ird extends Animal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move(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(“Tweet tweet flap flap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of 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of B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morphism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7240" y="914400"/>
            <a:ext cx="698436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og extends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oid move 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“Sniff sniff woof woof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// of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oid bark 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“Arf Arf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// of b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// of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9840" y="990720"/>
            <a:ext cx="712008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Driver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atic void main (String[ ] argv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[ ] animalArray = new Animal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iInde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Array[0] = new Bird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Array[1] = new Dog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Array[2] = new Fish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(iIndex=0; iIndex &lt; animalArray.length;  iIndex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Array[iIndex].move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et tweet flap f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iff sniff woof w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g glug gurgle gur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432320" y="3645000"/>
            <a:ext cx="3429000" cy="1778040"/>
            <a:chOff x="4432320" y="3645000"/>
            <a:chExt cx="3429000" cy="1778040"/>
          </a:xfrm>
        </p:grpSpPr>
        <p:sp>
          <p:nvSpPr>
            <p:cNvPr id="185" name=""/>
            <p:cNvSpPr/>
            <p:nvPr/>
          </p:nvSpPr>
          <p:spPr>
            <a:xfrm>
              <a:off x="4432320" y="3645000"/>
              <a:ext cx="342900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7800" y="4191120"/>
              <a:ext cx="259092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32320" y="3645000"/>
              <a:ext cx="342900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114800" y="4343400"/>
            <a:ext cx="2666880" cy="12193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94160" y="3581280"/>
            <a:ext cx="90360" cy="103320"/>
          </a:xfrm>
          <a:custGeom>
            <a:avLst/>
            <a:gdLst/>
            <a:ahLst/>
            <a:rect l="l" t="t" r="r" b="b"/>
            <a:pathLst>
              <a:path w="57" h="65">
                <a:moveTo>
                  <a:pt x="56" y="40"/>
                </a:moveTo>
                <a:lnTo>
                  <a:pt x="8" y="0"/>
                </a:lnTo>
                <a:lnTo>
                  <a:pt x="0" y="64"/>
                </a:lnTo>
                <a:lnTo>
                  <a:pt x="56" y="4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4495680"/>
            <a:ext cx="2590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animals can move, so any member of the array can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495680"/>
            <a:ext cx="6248520" cy="2057400"/>
          </a:xfrm>
          <a:prstGeom prst="roundRect">
            <a:avLst>
              <a:gd name="adj" fmla="val 16639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5000" y="685800"/>
            <a:ext cx="796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, hierarchical way of organizing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12360" y="1447920"/>
            <a:ext cx="473220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ff Member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         Volun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rly      Sala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4840" y="2759040"/>
            <a:ext cx="27612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82400" y="3292560"/>
            <a:ext cx="314280" cy="19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15920" y="2759040"/>
            <a:ext cx="31428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28640" y="1981080"/>
            <a:ext cx="31428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981080"/>
            <a:ext cx="27612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920" y="4572000"/>
            <a:ext cx="57729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in terms of “is a” relationshi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mploye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ff Member, 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s a Volunte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Hourly worke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ploy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sultan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a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urly employ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38480" y="3505320"/>
            <a:ext cx="2286000" cy="533160"/>
          </a:xfrm>
          <a:prstGeom prst="rightArrow">
            <a:avLst>
              <a:gd name="adj1" fmla="val 50000"/>
              <a:gd name="adj2" fmla="val 1072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ubclass of Hour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480" y="2819520"/>
            <a:ext cx="2590920" cy="609480"/>
          </a:xfrm>
          <a:prstGeom prst="rightArrow">
            <a:avLst>
              <a:gd name="adj1" fmla="val 50000"/>
              <a:gd name="adj2" fmla="val 1063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ubclass of Employ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7800" y="2209680"/>
            <a:ext cx="2361960" cy="533520"/>
          </a:xfrm>
          <a:prstGeom prst="rightArrow">
            <a:avLst>
              <a:gd name="adj1" fmla="val 50000"/>
              <a:gd name="adj2" fmla="val 11076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ubclass of Staf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638680" y="1447920"/>
            <a:ext cx="2438640" cy="533160"/>
          </a:xfrm>
          <a:prstGeom prst="rightArrow">
            <a:avLst>
              <a:gd name="adj1" fmla="val 50000"/>
              <a:gd name="adj2" fmla="val 1144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upercla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990720"/>
            <a:ext cx="78469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y form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.. an object of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given class can adapt take the formof any of its sub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means that the correc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ve(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will always be c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ubclass can be substituted for its superclass, e.g., a bird f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n animal.  “A bi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imal.”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verse is not true: can’t substitute superclass for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ubclass, 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substitute an animal for a b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rd?”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interface for multiple behavior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Only one interface for the method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behaviors based on the sub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-9000" y="914400"/>
            <a:ext cx="679860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river2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static void main(String[ ] argv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[ ] = animalArray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 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iInde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Array[0] = new Bird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Array[1] = new Dog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Array[2] = new Fish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1=0; 1 &lt; animalArray.length; iIndex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animalArray[iIndex] instanceof 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d = (Dog) animalArray[iInde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bark( 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//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// 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//  Driv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860640" y="4572000"/>
            <a:ext cx="4381560" cy="1625760"/>
            <a:chOff x="3860640" y="4572000"/>
            <a:chExt cx="4381560" cy="1625760"/>
          </a:xfrm>
        </p:grpSpPr>
        <p:sp>
          <p:nvSpPr>
            <p:cNvPr id="196" name=""/>
            <p:cNvSpPr/>
            <p:nvPr/>
          </p:nvSpPr>
          <p:spPr>
            <a:xfrm>
              <a:off x="3860640" y="4572000"/>
              <a:ext cx="438156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38680" y="4965840"/>
              <a:ext cx="259092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60640" y="4572000"/>
              <a:ext cx="438156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797280" y="4533840"/>
            <a:ext cx="103320" cy="90720"/>
          </a:xfrm>
          <a:custGeom>
            <a:avLst/>
            <a:gdLst/>
            <a:ahLst/>
            <a:rect l="l" t="t" r="r" b="b"/>
            <a:pathLst>
              <a:path w="65" h="57">
                <a:moveTo>
                  <a:pt x="64" y="8"/>
                </a:moveTo>
                <a:lnTo>
                  <a:pt x="0" y="0"/>
                </a:lnTo>
                <a:lnTo>
                  <a:pt x="32" y="56"/>
                </a:lnTo>
                <a:lnTo>
                  <a:pt x="64" y="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133720"/>
            <a:ext cx="3047760" cy="14605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st before calling bark() 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gs can bark. So some array members cannot execute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914400"/>
            <a:ext cx="761688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here to give an object of a superclass the form 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ppropriate subclass, 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animalArray[iIndex] instanceof D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Array[iIndex].bar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uld produce an error because objects of cla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no method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So, we first cast w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tance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lls us is a Dog a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animalArray[iIndex] instanceof D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(Dog) animalArray[iInde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bark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00120" y="1219320"/>
            <a:ext cx="8235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wor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stanceo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sed to interogate an object to see if it is an instan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of the specified clas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this particular animal of class Dog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sting … 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886200"/>
            <a:ext cx="693108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Java can determine that a giv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r is not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i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ance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the need to cast it t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before Java can recognize that it c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can’t Java do it for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3581280"/>
            <a:ext cx="80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447920" y="2673000"/>
            <a:ext cx="5701680" cy="1650600"/>
            <a:chOff x="1447920" y="2673000"/>
            <a:chExt cx="5701680" cy="1650600"/>
          </a:xfrm>
        </p:grpSpPr>
        <p:sp>
          <p:nvSpPr>
            <p:cNvPr id="208" name=""/>
            <p:cNvSpPr/>
            <p:nvPr/>
          </p:nvSpPr>
          <p:spPr>
            <a:xfrm>
              <a:off x="1447920" y="2895480"/>
              <a:ext cx="825120" cy="596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6880" y="2895480"/>
              <a:ext cx="901440" cy="596880"/>
            </a:xfrm>
            <a:prstGeom prst="roundRect">
              <a:avLst>
                <a:gd name="adj" fmla="val 1246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mp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86200" y="2895480"/>
              <a:ext cx="825120" cy="596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5160" y="2895480"/>
              <a:ext cx="901440" cy="596880"/>
            </a:xfrm>
            <a:prstGeom prst="roundRect">
              <a:avLst>
                <a:gd name="adj" fmla="val 1246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VM</a:t>
              </a:r>
              <a:br>
                <a:rPr sz="18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terpr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24480" y="2895480"/>
              <a:ext cx="825120" cy="596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95360" y="3193920"/>
              <a:ext cx="35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90640" y="3193920"/>
              <a:ext cx="27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33640" y="3193920"/>
              <a:ext cx="35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29280" y="3193920"/>
              <a:ext cx="27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8960" y="3053880"/>
              <a:ext cx="134532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39960" y="3206520"/>
              <a:ext cx="119268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54760" y="2673000"/>
              <a:ext cx="4087800" cy="165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11360" y="2978280"/>
              <a:ext cx="3783240" cy="134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048120" y="3809880"/>
            <a:ext cx="749160" cy="36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886200"/>
            <a:ext cx="749520" cy="36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066680"/>
            <a:ext cx="83026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difference betwe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ile-ti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-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ype che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sting…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asting (con’td)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219320"/>
            <a:ext cx="33526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ile-time Err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that are discern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out the program execu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guage lega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“Is this a legal statement?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.g.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ndex = chVariable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tement is not leg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17200" y="1219320"/>
            <a:ext cx="5634360" cy="38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n-time Err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that are discerna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ly when th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program is running with actual data val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cution lega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it legal for this variable to have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actual value assigned to it?”, e.g., </a:t>
            </a:r>
            <a:br>
              <a:rPr sz="2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Array[&lt;badIndex&gt;] = some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tement is legal, but particular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ex value isn’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4572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914400"/>
            <a:ext cx="6019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animalArray[iIndex] instanceof Do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Array[iIndex].bar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133720"/>
            <a:ext cx="79250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line is 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nd line isn’t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l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ay has Do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see that 1st line guarantees 2nd is 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not see inter-statement dependencies… unless compiler runs  whole program with all possib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ets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time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uld tell easily. 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most checking at compile-tim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and correct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8560" y="-720"/>
            <a:ext cx="40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sting… 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Casting (Cont’d)</a:t>
            </a:r>
            <a:endParaRPr b="0" lang="en-US" sz="36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4050720" y="1066680"/>
            <a:ext cx="5102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animalArray[iIndex] instanceof Dog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(Dog) animalArray[iInde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bark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295280"/>
            <a:ext cx="7772400" cy="53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, legality of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of code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d at compil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ity of each line discernable without worrying about inter-statement dependencies, i.e., each line can stand b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sure that code is lega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times-lega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Good Use for Cast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olving polymorphic ambiguitie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for the 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1520" y="685800"/>
            <a:ext cx="756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languages allow multiple inherit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1676520"/>
            <a:ext cx="6464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                  Pet      (two super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           (a subclass of tw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2209680"/>
            <a:ext cx="250560" cy="2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362320" y="2133720"/>
            <a:ext cx="10000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581280"/>
            <a:ext cx="830592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nheritance leads to many potentially confusing naming problems (e.g. Pet.doYourThing() vs. Animal.doYourThing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consensus: the benefits of multiple inheritanc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n’t worth the probl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has single inheritanc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doesn’t allow multipl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, the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restricted kind that avo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problems. It involves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we’ll cover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3276720"/>
            <a:ext cx="804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isibility an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9160" y="1822320"/>
            <a:ext cx="783288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sibility Modifi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ess by: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                protected              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 class                 Yes                        No                         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ubclass                  Yes                       Yes                         No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anc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class                 Yes                       Yes                     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5680" y="1523880"/>
            <a:ext cx="537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ways specify a visibility mod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9480" y="2050560"/>
            <a:ext cx="7705800" cy="2467080"/>
            <a:chOff x="609480" y="2050560"/>
            <a:chExt cx="7705800" cy="2467080"/>
          </a:xfrm>
        </p:grpSpPr>
        <p:sp>
          <p:nvSpPr>
            <p:cNvPr id="246" name=""/>
            <p:cNvSpPr/>
            <p:nvPr/>
          </p:nvSpPr>
          <p:spPr>
            <a:xfrm>
              <a:off x="609480" y="2060640"/>
              <a:ext cx="7705800" cy="244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48080" y="2513160"/>
              <a:ext cx="57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532240" y="2050560"/>
              <a:ext cx="0" cy="246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7400" y="2913120"/>
              <a:ext cx="769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400" y="3427560"/>
              <a:ext cx="7693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7400" y="3884760"/>
              <a:ext cx="7693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9160" y="252900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91360" y="2529000"/>
              <a:ext cx="0" cy="1971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08800" y="4952880"/>
            <a:ext cx="6660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delin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Only make public methods that are in the class’s  “contrac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ll fields 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ll other “private” methods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leave off the modifier unless you know abou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4680" y="838080"/>
            <a:ext cx="787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n object use a field or call a meth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000" y="228600"/>
            <a:ext cx="8959680" cy="63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Animal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 String strName = “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 String strNoise =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 int iNumTimesPerformed  = 0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nstructors, accessors &amp; modifiers g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identifySelf(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“My name is “ + str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// of identifySel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perform (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YourThing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umTimesPerformed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of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doYourThing(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 // ‘no-op’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of doYour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of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271680"/>
            <a:ext cx="2587680" cy="9874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3320" y="34923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769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Animals (again!)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288720" y="685800"/>
            <a:ext cx="703944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Anima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strName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strNoise = “”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constructors, accessors &amp; modifiers go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identifySelf(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“My name is “ + str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// of identifySel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doYourThing(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// ‘no-op’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// of doYour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// of 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5257800"/>
            <a:ext cx="3873600" cy="11862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, any object can ask 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l to identify itself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do its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2209680"/>
            <a:ext cx="708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Exception Handling:</a:t>
            </a:r>
            <a:br>
              <a:rPr sz="4800"/>
            </a:br>
            <a:br>
              <a:rPr sz="48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When Bad Things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Happen to Good Code</a:t>
            </a:r>
            <a:br>
              <a:rPr sz="6000"/>
            </a:b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685800"/>
            <a:ext cx="83822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f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one very little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assumed that things will work as in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Rules of Thum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s mu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nd and corre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ile-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oesn’t solve the problem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-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rro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e.g., incorrec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 must insure th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-ti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in  “graceful” program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ceful” means “the program doesn’t ju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wrong  effects or blow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0"/>
            <a:ext cx="7845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ceptions--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1160640"/>
            <a:ext cx="85345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raditional procedural programming languages, there we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arious ways of handl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un-time err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way is to return some kind of value indicating whether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procedure succeeded or no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boolean someMethod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f this method suceeded, return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otherwise return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ur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logical distinction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a bad engineering hab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4640" y="369720"/>
            <a:ext cx="7845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ceptions--Traditional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914400"/>
            <a:ext cx="7783560" cy="53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means of error handling can quickly become ugly,  complex and unmanage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do the sequence of calling three procedures followed by one or more instructions, 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Method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OtherMethod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hirdMethod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do some intended actions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 find ourselves with code that looks like . .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25280" y="503280"/>
            <a:ext cx="245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--Tradition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70440" y="990720"/>
            <a:ext cx="78044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someMethod( ) == 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someOtherMethod( ) == true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someThirdMethod( ) == true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ave not encountered errors;  do intended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andle some error caus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ThirdMeth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andle some error caus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OtherMeth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andle some error caus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--Tradition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76080" y="1752480"/>
            <a:ext cx="5963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iErrorValu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someMethod(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d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omeMeth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s stuff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f there is an error, then set iErrorValue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someOtherMethod( 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OtherMeth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s stuff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f there is an error, then set iErrorValue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someThirdMethod( 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ThirdMeth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s stuff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f there is an error, then set iErrorValu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960" y="826920"/>
            <a:ext cx="80233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way error handling is to have the value of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vari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resent the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--Glob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0240" y="1066680"/>
            <a:ext cx="369252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oid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Metho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OtherMetho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LastMetho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iErrorValue =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iErrorValue =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iErrorValue ==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1066680"/>
            <a:ext cx="436572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What if the run-time error stopped us from continuing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What 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ailed in such a way that we cannot go on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OtherMethod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pe, we find ourselves with code that’s nearly as messy as the earlier  example which featured multip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sted-if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--Glob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235160"/>
            <a:ext cx="0" cy="49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3560" y="673200"/>
            <a:ext cx="3987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doit(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Method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iErrorValue == 1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OtherMethod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iErrorValue == 2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hirdMethod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iErrorValue == 3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intended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//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--Glob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105520" y="990720"/>
            <a:ext cx="3581280" cy="1828800"/>
            <a:chOff x="5105520" y="990720"/>
            <a:chExt cx="3581280" cy="1828800"/>
          </a:xfrm>
        </p:grpSpPr>
        <p:sp>
          <p:nvSpPr>
            <p:cNvPr id="280" name=""/>
            <p:cNvSpPr/>
            <p:nvPr/>
          </p:nvSpPr>
          <p:spPr>
            <a:xfrm>
              <a:off x="5105520" y="990720"/>
              <a:ext cx="3581280" cy="18288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21880" y="1132200"/>
              <a:ext cx="3255480" cy="146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te: with this techn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 potentially must wr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he ENTIRE pro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a series of if/else clause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uplicating code in plac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81480" y="3276720"/>
            <a:ext cx="2971800" cy="9144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o we prefer robus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clarity/maintainabilit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8600" y="550800"/>
            <a:ext cx="8404200" cy="63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you can see, it gets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onvolu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y fa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even for such a simple  sequ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ically, the way programmers got around this was simply to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o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any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error hand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all!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, they generally used one of two approache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on detecting an error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mply terminate the 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“recognizethe error but don’t handle it, just quit”, or else 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even attempt to detect the error; i.e.,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t the program react in anarbitrary and unpredictable ma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(blow up?  bad values?  wrong behavior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of the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olate a basic ten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truc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ng: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ow only 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ngle point of exi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 procedure or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eptions: Traditional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600"/>
            <a:ext cx="480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og extends 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e. “A dog is an animal”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dogs are animal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2050920"/>
            <a:ext cx="55764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og extends Animal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Do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Noise = “Woof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// of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oid doYourThing ( 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Self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“I am a dog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strNoi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// of doYour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// of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590920"/>
            <a:ext cx="3429000" cy="155196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: The Animal class had a no-op method for  doYourThing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653440" y="609480"/>
            <a:ext cx="3148560" cy="1186200"/>
            <a:chOff x="5653440" y="609480"/>
            <a:chExt cx="3148560" cy="1186200"/>
          </a:xfrm>
        </p:grpSpPr>
        <p:sp>
          <p:nvSpPr>
            <p:cNvPr id="68" name=""/>
            <p:cNvSpPr/>
            <p:nvPr/>
          </p:nvSpPr>
          <p:spPr>
            <a:xfrm>
              <a:off x="5653440" y="609480"/>
              <a:ext cx="3148560" cy="1186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g     Cat     H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014880" y="1081080"/>
              <a:ext cx="61920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81520" y="1081080"/>
              <a:ext cx="479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84800" y="108108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914400"/>
            <a:ext cx="845820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of these traditional approaches boil down to a case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grammer simply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gno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real problem, which i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a run-time error occurs in a metho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can we stop the method without allowing it to do any dam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can we take appropriate actions to handle the error without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having the program simply blow up or do something else that’s b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ot accep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programs to fail or to do “bad behavior”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critical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qui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me mechanism to recover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xpected or abnormal run-time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The Re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901800"/>
            <a:ext cx="822960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xception Handling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modern programming concept for dealing with run-time error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xceptio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un-time event that may cause a method to fail or to 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execute incorrectl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urpose of Exception Handl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allow graceful handling of and recovery from run-time erro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examples in Ja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PointerEx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thmeticEx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IndexOutOfBoundsEx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PI contains over two dozen exce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2860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eptions and 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914400"/>
            <a:ext cx="70326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ion Termin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n exceptional condition occurs, an exce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rown”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.e., the exception has bee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recogniz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low of control is tranferred to the point where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ception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aught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I.e., where the exception-handling co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p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it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jargon of some other programming languag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n exception is recognized, an exception is:</a:t>
            </a:r>
            <a:br>
              <a:rPr sz="2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ised” (in place of “thrown”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ndled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in place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caught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ideas, different jar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295280" y="5181480"/>
            <a:ext cx="5334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is us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terest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ype of the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n in manipulating it as an objec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“e” is just an object often thrown a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7840" y="990720"/>
            <a:ext cx="690516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 general  structure of Java’s exception hand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ere goes the code that attempts to perform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// intended action, but that could throw an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t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xceptionType1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ere goes the code to handle exception typ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atch 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xceptionType2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ere goes the code to handle exception typ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atch Typ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Genera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25240" y="1523880"/>
            <a:ext cx="573156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iDivis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iDivid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f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get input for divisor and divi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sult = (float) iDividend / iDivis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(f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 (Arithmetic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ln("The divisor was 0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Simpl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3960" y="906480"/>
            <a:ext cx="797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example showing the structure of Java’s exception hand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1905120"/>
            <a:ext cx="4724280" cy="10666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, we don’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 about the excep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bout its type being arithmetic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838080"/>
            <a:ext cx="82296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 Java handles Excep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ception is throw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a method, then you can do one of two things in respons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ch the exception right then and there, and handle th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exception yourself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ould do this if you have enough information to kn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how to handle the err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clare in the method header that whoe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lled the method has to handle the error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ould do this if you don't have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to know how to handle the err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How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880" y="598320"/>
            <a:ext cx="876312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a fu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a client tries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 item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hould you have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know what it should d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i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 a messag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it try to increase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s siz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it no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item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i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 item to make room for the new item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hould  you do?  To put it simply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ou don't kn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Your design/documentation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state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condition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/** PRE/POST: The queue is not ful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 code will let the exception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ropag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" y="685800"/>
            <a:ext cx="81756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n excep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row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 must b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u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mmediately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clared to be allowed to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ropaga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example of code that will not comp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Queu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boolean isEmpty(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is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dequeue(Object 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isEmpty( ) ==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hrow new QueueEmptyException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de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lass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586040" y="2895480"/>
            <a:ext cx="4267440" cy="830160"/>
            <a:chOff x="4586040" y="2895480"/>
            <a:chExt cx="4267440" cy="830160"/>
          </a:xfrm>
        </p:grpSpPr>
        <p:sp>
          <p:nvSpPr>
            <p:cNvPr id="305" name=""/>
            <p:cNvSpPr/>
            <p:nvPr/>
          </p:nvSpPr>
          <p:spPr>
            <a:xfrm>
              <a:off x="4586040" y="2895480"/>
              <a:ext cx="4267440" cy="454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queue is not allowed to do th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403600" y="3359160"/>
              <a:ext cx="1306440" cy="36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762120"/>
            <a:ext cx="8099280" cy="56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in an error saying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ust catch or decla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EmptyExce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solve this, modif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que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at the exception i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declar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row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dequeue(Object o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s QueueEmptyExcep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isEmpty( ) ==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 new QueueEmptyException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thod header above declares that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n throw a 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ueueEmptyExce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that the method calling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dequeu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us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ch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ueueEmptyExcept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0"/>
            <a:ext cx="7845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ceptions: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68803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use th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 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simulate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 of Custom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you 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Custom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Cashier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ue customerQueue = new Queue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getNextCustomer(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cu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 = (Customer) customerQueue.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e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getNext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as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7621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t extends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“A cat is an animal”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ats are anima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0160" y="2050920"/>
            <a:ext cx="54590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at extends Animal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a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Noise = “Miaow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// of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oid doYourThing ( 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Self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“I am a cat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strNoi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// of doYour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// of 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348880" y="380880"/>
            <a:ext cx="3148560" cy="1186200"/>
            <a:chOff x="5348880" y="380880"/>
            <a:chExt cx="3148560" cy="1186200"/>
          </a:xfrm>
        </p:grpSpPr>
        <p:sp>
          <p:nvSpPr>
            <p:cNvPr id="75" name=""/>
            <p:cNvSpPr/>
            <p:nvPr/>
          </p:nvSpPr>
          <p:spPr>
            <a:xfrm>
              <a:off x="5348880" y="380880"/>
              <a:ext cx="3148560" cy="1186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g     Cat     H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710320" y="852480"/>
              <a:ext cx="61920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76960" y="852480"/>
              <a:ext cx="479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80240" y="85248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1219320"/>
            <a:ext cx="72612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ill result in a compile-time error because meth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Next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u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 excep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EmptyExceptio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EmptyExce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pagates up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we can repai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Next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e of two wa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1: have it catch excep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EmptyException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2: have it declare that this method allow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ueEmptyExcep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pag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4640" y="36972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4640" y="1295280"/>
            <a:ext cx="643752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getNextCustomer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cu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 = (Customer) customerQueue.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e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// 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tch (QueueEmptyException e)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handle the QueueEmptyExceptio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getNext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0960" y="36972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 Exception: Catchi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3520" y="228240"/>
            <a:ext cx="1418760" cy="4546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1676520"/>
            <a:ext cx="79470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getNextCustomer( 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s QueueEmpty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cu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 = (Customer) customerQueue.dequeue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getNext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option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ct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whoever calls meth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NextCustomer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responsibility of handling the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640" y="369720"/>
            <a:ext cx="784548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 Exce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claring that it will propa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463320"/>
            <a:ext cx="1752480" cy="4546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-2880" y="838080"/>
            <a:ext cx="629568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Te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tatic void A( 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array[ ] = new int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 "In A's try.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[  5  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/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atch( ArrayIndexOutOfBoundsException error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 "In A's catch.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/ c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A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tatic void main( String argv[ ]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y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/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atch( Exception e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 "In main's catch.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/ c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( "After try in main.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  //  class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eptions: 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477120" y="2666880"/>
            <a:ext cx="2372760" cy="2348640"/>
            <a:chOff x="6477120" y="2666880"/>
            <a:chExt cx="2372760" cy="2348640"/>
          </a:xfrm>
        </p:grpSpPr>
        <p:sp>
          <p:nvSpPr>
            <p:cNvPr id="322" name=""/>
            <p:cNvSpPr/>
            <p:nvPr/>
          </p:nvSpPr>
          <p:spPr>
            <a:xfrm>
              <a:off x="6477120" y="2666880"/>
              <a:ext cx="2361960" cy="16765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41920" y="2732040"/>
              <a:ext cx="230796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utpu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A's tr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A's catch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try in main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19920" y="990720"/>
            <a:ext cx="2678040" cy="533160"/>
            <a:chOff x="6019920" y="990720"/>
            <a:chExt cx="2678040" cy="533160"/>
          </a:xfrm>
        </p:grpSpPr>
        <p:sp>
          <p:nvSpPr>
            <p:cNvPr id="325" name=""/>
            <p:cNvSpPr/>
            <p:nvPr/>
          </p:nvSpPr>
          <p:spPr>
            <a:xfrm>
              <a:off x="6019920" y="990720"/>
              <a:ext cx="2666880" cy="53316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440" y="1008000"/>
              <a:ext cx="260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happens her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977760"/>
            <a:ext cx="84042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ogniz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exceptional state, use standard if-else log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po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m, you can create your own Exceptions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 are objec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you really define your own classes of exce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xceptions you create are extension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ava.lang.Exce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QueueEmptyException extends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QueueEmptyException( )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QueueEmptyException(String str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(strMess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0960" y="36972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s: Creating Your 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98320" y="598320"/>
            <a:ext cx="7871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take advantage of inheritance when dealing wi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cep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had an inheritance hierarchy of exceptions like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5029200"/>
            <a:ext cx="72309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have more than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 f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 will 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 a sub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at excep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819520"/>
            <a:ext cx="2320920" cy="27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739600" y="3102120"/>
            <a:ext cx="1025640" cy="3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86320" y="3102120"/>
            <a:ext cx="987480" cy="3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28760" y="3490920"/>
            <a:ext cx="2523960" cy="33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78400" y="3490920"/>
            <a:ext cx="3436920" cy="328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Full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94320" y="4176720"/>
            <a:ext cx="2727360" cy="33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OF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22320" y="4176720"/>
            <a:ext cx="4048200" cy="33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NotFound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40160" y="3844800"/>
            <a:ext cx="0" cy="2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71920" y="3844800"/>
            <a:ext cx="2104920" cy="2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8320" y="36972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eritance an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1600200"/>
            <a:ext cx="54324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 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t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ch (QueueFullException e) 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catch QueueFull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ch (FileNotFoundException e) 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catch FileNotFound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ch (IOException e)   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catch IO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22860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eritance an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7880" y="990360"/>
            <a:ext cx="495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 sequence of catches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wo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267080" y="1600200"/>
            <a:ext cx="4496040" cy="1704960"/>
            <a:chOff x="4267080" y="1600200"/>
            <a:chExt cx="4496040" cy="1704960"/>
          </a:xfrm>
        </p:grpSpPr>
        <p:sp>
          <p:nvSpPr>
            <p:cNvPr id="345" name=""/>
            <p:cNvSpPr/>
            <p:nvPr/>
          </p:nvSpPr>
          <p:spPr>
            <a:xfrm>
              <a:off x="5581440" y="1600200"/>
              <a:ext cx="1429560" cy="2761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85240" y="1897200"/>
              <a:ext cx="6350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65240" y="1897200"/>
              <a:ext cx="6030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17280" y="2286000"/>
              <a:ext cx="1554120" cy="333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O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7680" y="2286000"/>
              <a:ext cx="2116080" cy="328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eueFull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3000" y="2971800"/>
              <a:ext cx="1680120" cy="333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OF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7080" y="2971800"/>
              <a:ext cx="2493720" cy="333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leNotFound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63560" y="2639880"/>
              <a:ext cx="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01480" y="2639880"/>
              <a:ext cx="129240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2480" y="1752480"/>
            <a:ext cx="582912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 (IOException e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atch IO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 (FileNotFoundException e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/ this code can never be reached be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/ FileNotFound is subclass of IOEx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atch FileNotFound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080" y="991800"/>
            <a:ext cx="59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 sequence of catches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doesn’t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8320" y="36972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heritance an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886200" y="1981080"/>
            <a:ext cx="4876920" cy="1704960"/>
            <a:chOff x="3886200" y="1981080"/>
            <a:chExt cx="4876920" cy="1704960"/>
          </a:xfrm>
        </p:grpSpPr>
        <p:sp>
          <p:nvSpPr>
            <p:cNvPr id="358" name=""/>
            <p:cNvSpPr/>
            <p:nvPr/>
          </p:nvSpPr>
          <p:spPr>
            <a:xfrm>
              <a:off x="5311800" y="1981080"/>
              <a:ext cx="155088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099040" y="2278080"/>
              <a:ext cx="68904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70480" y="2278080"/>
              <a:ext cx="65412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57640" y="2666880"/>
              <a:ext cx="1685880" cy="333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62560" y="2666880"/>
              <a:ext cx="2295720" cy="328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Ful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0440" y="3352680"/>
              <a:ext cx="1822680" cy="333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OF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6200" y="3352680"/>
              <a:ext cx="2705040" cy="3333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leNotFound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7280" y="30211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59560" y="3021120"/>
              <a:ext cx="140148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4952880" y="3760920"/>
            <a:ext cx="177840" cy="506160"/>
          </a:xfrm>
          <a:prstGeom prst="line">
            <a:avLst/>
          </a:prstGeom>
          <a:ln w="507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505320" y="2922480"/>
            <a:ext cx="635040" cy="354240"/>
          </a:xfrm>
          <a:prstGeom prst="line">
            <a:avLst/>
          </a:prstGeom>
          <a:ln w="507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902040" y="1143000"/>
            <a:ext cx="4721400" cy="4546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hing you can do with excep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1880" y="1219320"/>
            <a:ext cx="59284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 (QueueFullException e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catch QueueFull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 (IOException e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atch IO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 (Exception e)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// this will catch any other kind of ex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// since all exceptions extend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atch bas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0960" y="36972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and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52480" y="3276720"/>
            <a:ext cx="2455560" cy="4546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ch-all” 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28600" y="914400"/>
            <a:ext cx="7713720" cy="61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Java, there are actuall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wo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Except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subclass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subclass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echnoid annoyance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inds deal with run-tim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subclass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untimeExce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to b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plicitly caught or declared in the method hea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go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t prevents code from being cluttered with exception handling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// possible ArrayIndexOutOfB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ustomerArray[10] = new Customer(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// possible Arithmetic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 = y / z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be caught and/or propag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wards like normal excep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ception &amp; Runtime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Example (Cont’d)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82680" y="1066680"/>
            <a:ext cx="5119200" cy="264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g pickles = new Do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kles.setName(“Pickl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kles.doYourTh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My name is Pick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I am a d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Woof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962520"/>
            <a:ext cx="5029200" cy="264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t abby = new Ca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by.setName(“Abby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by.doYourTh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My name is Abb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I am a ca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Mia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0880" y="990720"/>
            <a:ext cx="748044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problem with the internal state of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tract is vi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curity risk arises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urityEx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n error with an object or the data it manipul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ing with ba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ly Excep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ditions (memory, stac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4640" y="36972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eptions: When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74640" y="36972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en to use exceptions: Inter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5200" y="913320"/>
            <a:ext cx="818856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 getAge(int iSocialSecurity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s RecordKeeping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index = getHashKey(iSocialSecurity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iAge = myArray[index].getAge(iSocialSecurityNumb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/* Similar to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util.ASSERT( 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tement.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f (iAge &lt;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 new RecordKeeping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“Exception: Age for “ + iSocialSecurityNumber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t in range: “ + i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iA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8600" y="673200"/>
            <a:ext cx="82519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TreeNode getNodeRecur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t index, TreeNode currentN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s MissingNodeExce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currentNode == null)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 new MissingNode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“Exception: No node with ” 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dex + “ found”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(currentNode.getNumber() == inde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current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(currentNode.getNumber() &gt; inde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getNodeRecursively (index, currentNode.getLeftChild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getNodeRecursively (index, currentNode.getRightChild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// getNodeRecur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to Use Exceptions: Contract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920" y="914400"/>
            <a:ext cx="817560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initializeTreeNode(int iNumberNode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myTree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f (DEBU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ystem.out.println (“Null tree found!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 new NullPointerException (“Null tree found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NOTE: Runtime 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need to declare propagation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(int i=0; i &lt; iNumberNodes; i++) 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Node newNode = new TreeNode( i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.insertNode(newN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initializeTree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22860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to Use Exceptions: Error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990720"/>
            <a:ext cx="7869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eger convertNumber (String strToConver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(int i =0; I &lt; strToConvert.length()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 chTemp = strToConvert.charAt(i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!Character.isDigit(chTemp)) {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f (DEBUG) System.out.printl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“Bad input String: “ + strToConvert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ow new NumberFormatException(“Exception: “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ToConvert + “ is not numeric”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convert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0"/>
            <a:ext cx="784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to Use Exceptions: Ba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3760" y="1208160"/>
            <a:ext cx="444168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Cha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tatic void doStuff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er.count(”Yes it is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t.doStuf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ch (StackOverflowError 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c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0"/>
            <a:ext cx="78454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to Use Exce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uly Exceptional Circum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1220760"/>
            <a:ext cx="37368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Chi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tatic void doStuff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er.count(”No it isn’t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t.doStuf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ch (StackOverflowError 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c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// C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4280" y="4649400"/>
            <a:ext cx="6603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Listen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int i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tatic void count(String strSpeake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un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.out.println (strSpeaker + " is number " + iCou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// Lis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1247760"/>
            <a:ext cx="0" cy="314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9680" y="4419720"/>
            <a:ext cx="840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0"/>
            <a:ext cx="784548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to Use Exce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uly Exceptional Circum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7120" y="1370880"/>
            <a:ext cx="7772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TreeNode getNode(int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Node temp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Nod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Tree.getNodeRecursively(new TreeNode(inde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(StackOverflowError e)  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exit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tempN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// ge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37000" y="5181480"/>
            <a:ext cx="2318040" cy="4546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less obv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334120" y="3505320"/>
            <a:ext cx="76176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3728520" y="4719240"/>
            <a:ext cx="1452600" cy="46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8600" y="914400"/>
            <a:ext cx="817560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an error mess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the 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y the metho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ybe with default parameter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e the system to some previousl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"good" sta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the system to some "safe" sta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 exception propagate to whoever called the method in which the exception ar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tch it and ignore 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atch it and ignore it”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is generally bad:  If the error w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rious enough to throw an exception, it should be de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ith, not ignored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0"/>
            <a:ext cx="784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en Catching Exceptions you can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67240" y="915840"/>
            <a:ext cx="2595600" cy="155196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A/OOD/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”/what kn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to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494160" y="1027080"/>
            <a:ext cx="2766960" cy="1398600"/>
            <a:chOff x="3494160" y="1027080"/>
            <a:chExt cx="2766960" cy="1398600"/>
          </a:xfrm>
        </p:grpSpPr>
        <p:grpSp>
          <p:nvGrpSpPr>
            <p:cNvPr id="400" name=""/>
            <p:cNvGrpSpPr/>
            <p:nvPr/>
          </p:nvGrpSpPr>
          <p:grpSpPr>
            <a:xfrm>
              <a:off x="3494160" y="1360080"/>
              <a:ext cx="2766960" cy="1065600"/>
              <a:chOff x="3494160" y="1360080"/>
              <a:chExt cx="2766960" cy="1065600"/>
            </a:xfrm>
          </p:grpSpPr>
          <p:sp>
            <p:nvSpPr>
              <p:cNvPr id="401" name=""/>
              <p:cNvSpPr/>
              <p:nvPr/>
            </p:nvSpPr>
            <p:spPr>
              <a:xfrm flipH="1" flipV="1">
                <a:off x="3951360" y="1360080"/>
                <a:ext cx="2309760" cy="32868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494160" y="1690560"/>
                <a:ext cx="2766960" cy="201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3951360" y="1690560"/>
                <a:ext cx="2309760" cy="73512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4701960" y="1027080"/>
              <a:ext cx="945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ocal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322960" y="2529000"/>
            <a:ext cx="3651840" cy="1877760"/>
            <a:chOff x="5322960" y="2529000"/>
            <a:chExt cx="3651840" cy="1877760"/>
          </a:xfrm>
        </p:grpSpPr>
        <p:sp>
          <p:nvSpPr>
            <p:cNvPr id="406" name=""/>
            <p:cNvSpPr/>
            <p:nvPr/>
          </p:nvSpPr>
          <p:spPr>
            <a:xfrm flipH="1">
              <a:off x="5703840" y="2529000"/>
              <a:ext cx="1852560" cy="734760"/>
            </a:xfrm>
            <a:prstGeom prst="line">
              <a:avLst/>
            </a:prstGeom>
            <a:ln w="255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22960" y="2529000"/>
              <a:ext cx="2233440" cy="1496880"/>
            </a:xfrm>
            <a:prstGeom prst="line">
              <a:avLst/>
            </a:prstGeom>
            <a:ln w="255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846480" y="2529000"/>
              <a:ext cx="709560" cy="1877760"/>
            </a:xfrm>
            <a:prstGeom prst="line">
              <a:avLst/>
            </a:prstGeom>
            <a:ln w="255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68480" y="3008160"/>
              <a:ext cx="1606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high-level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923400"/>
            <a:ext cx="89247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Define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that defines an unusual or erroneous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at to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handle the exception (program halts. Ugh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 the exception where it occurs (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at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 the exception at another point in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(exception propag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owing an exce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the contract of a method (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bility of the client to handle (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at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0"/>
            <a:ext cx="7832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ceptions: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A Few Words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on Vectors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7621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Human extends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“A human is an animal”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humans are anima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2120" y="1981080"/>
            <a:ext cx="74966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Human extends Animal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Huma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Noise = “I think therefore I am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of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doYourThing ( 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dentifySelf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“I am a sentient being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strNoi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// of doYour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// of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77480" y="609480"/>
            <a:ext cx="3148560" cy="1186200"/>
            <a:chOff x="5577480" y="609480"/>
            <a:chExt cx="3148560" cy="1186200"/>
          </a:xfrm>
        </p:grpSpPr>
        <p:sp>
          <p:nvSpPr>
            <p:cNvPr id="85" name=""/>
            <p:cNvSpPr/>
            <p:nvPr/>
          </p:nvSpPr>
          <p:spPr>
            <a:xfrm>
              <a:off x="5577480" y="609480"/>
              <a:ext cx="3148560" cy="1186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g     Cat     H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938920" y="1081080"/>
              <a:ext cx="61920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05560" y="1081080"/>
              <a:ext cx="479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08840" y="108108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6212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V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06520" y="533520"/>
            <a:ext cx="5047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rray (list) that dynamically resiz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tself to whatever size is need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ial API for V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650960"/>
            <a:ext cx="7696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       addElement( Object obj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boolean  contains(Object e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Object    elementAt(int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Object    firstEleme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           indexOf(Object e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       insertElementAt(Object obj, int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boolean   isEmpt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Object     lastEleme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           lastIndexOf(Object e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       removeAllElement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boolean  removeElement(Object ob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      removeElementAt(int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oid       setElementAt(Object obj, int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          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// of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76212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V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914400"/>
            <a:ext cx="74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i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have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ype Vector instantiated vi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(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get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V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rules of go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gramming ap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access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questing services via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ot vi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rect access (such an arra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1400" y="3276720"/>
            <a:ext cx="4950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ze( 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current number of element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ementAt(int index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reference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element at specified index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ertElementAt( Object obj, int index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insertion into linked list (but  slow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Element (Object obj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 to 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200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1120" y="434340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4572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V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143000"/>
            <a:ext cx="73152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ctor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populated only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be populated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miti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populated with objects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imitiv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need to populate them with primitives, 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ype wrapper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es  e.g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tc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allow you to populate them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ype of object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good programm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qui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he programmer enfor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typing within a Vector, because Jav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4114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3657600"/>
            <a:ext cx="5562720" cy="29718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V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762120"/>
            <a:ext cx="7238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cto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cas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s are a subclass of class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vectors can hand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 of object (i.e., n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chec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s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 obtained from a Vect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voking any methods not defined in cla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01800" y="3886200"/>
            <a:ext cx="508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v = new Vector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s = new Student( “Joe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otherStud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.addElement( 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tudent = (Student) v.elementA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16960" y="1447920"/>
            <a:ext cx="663912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Assume we have vector v and int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Assume int k is an index within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      range [0..(v.size( ) - 1)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= v.elementAt(k);   // no cast needed, already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o instanceof Stud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do stuff for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o instanceof Cafete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do stuff for Cafe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3505320"/>
            <a:ext cx="4876920" cy="990360"/>
          </a:xfrm>
          <a:prstGeom prst="leftArrowCallout">
            <a:avLst>
              <a:gd name="adj1" fmla="val 25002"/>
              <a:gd name="adj2" fmla="val 25000"/>
              <a:gd name="adj3" fmla="val 82073"/>
              <a:gd name="adj4" fmla="val 70284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Ve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240" y="762120"/>
            <a:ext cx="277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ctor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ance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3657600"/>
            <a:ext cx="3200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sign iss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example is legal Java, but is it good programm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Vectors and Arr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1066680"/>
            <a:ext cx="56386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: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ica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s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ynamica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:   can directly access, e.g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Array[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uldn’t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xcep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y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lass 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which they’re declar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efficiency concer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esting purpose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s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st 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s to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ctor services provide 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 mode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Array services 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imp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838080" y="0"/>
            <a:ext cx="751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Vectors versus Linked L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762120"/>
            <a:ext cx="74674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Vectors to simulate a Linked L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want direct access to data, so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ethods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Previous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Next(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tc. that d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d. Linked List th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the list is implemented as a Vector, the client uses i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 i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t’s a Linked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T . .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performance implications (that may or may not matter for a given instan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cost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286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ectors versus Linked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1098720"/>
            <a:ext cx="7288200" cy="57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ordered Linked Li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traversal to locate target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insert/delete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st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ordered V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traversal to locate target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if accessible via direct access, th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r deletion of element implies (average case), m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st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at first glance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quival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what does Big Oh hide 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 Lists: search thru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/2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us insert/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s: search thru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/2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us mov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676520"/>
            <a:ext cx="1676160" cy="12189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Vec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w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30492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Vector 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990720"/>
            <a:ext cx="76914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and shrink to fit nee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grow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pon deman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tiy shrink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you tell it to do s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a meth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imToSize( 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ing trimToSize(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es performance costs upon subsequ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sertion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extra capacity is needed, then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s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mu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s on which of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or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used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85800" y="22860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Vector 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4320" y="914400"/>
            <a:ext cx="72853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 Vector constru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ector (int initialCapacity, int capacityIncrement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ector (int initialCapaci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Vector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constructor (2 paramet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itial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/when it needs to grow, it grows by siz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pacityIncr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constructor( 1 paramete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itial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/when needs to grow, it grows by doub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urren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ird construtor (no paramet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 with capacity of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/when needs to grow, it grows by doubl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urren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Example (Cont’d)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839520" y="1828800"/>
            <a:ext cx="5667840" cy="264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 descartes = new Huma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artes.setName(“Rene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artes.doYourTh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My name is Re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I am a sentient be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“I think therefore I a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Dagon</cp:lastModifiedBy>
  <dcterms:modified xsi:type="dcterms:W3CDTF">1999-04-30T12:16:04Z</dcterms:modified>
  <cp:revision>30</cp:revision>
  <dc:subject/>
  <dc:title>Object-Oriented Programming</dc:title>
</cp:coreProperties>
</file>