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7196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85760"/>
            <a:ext cx="777240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72800"/>
            <a:ext cx="777240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7196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85760"/>
            <a:ext cx="379260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85760"/>
            <a:ext cx="379260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72800"/>
            <a:ext cx="379260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72800"/>
            <a:ext cx="379260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7196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85760"/>
            <a:ext cx="250236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85760"/>
            <a:ext cx="250236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85760"/>
            <a:ext cx="250236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72800"/>
            <a:ext cx="250236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72800"/>
            <a:ext cx="250236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72800"/>
            <a:ext cx="250236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7196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8576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7196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8576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7196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85760"/>
            <a:ext cx="379260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85760"/>
            <a:ext cx="379260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7196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95360"/>
            <a:ext cx="7772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7196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85760"/>
            <a:ext cx="379260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85760"/>
            <a:ext cx="379260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72800"/>
            <a:ext cx="379260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7196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85760"/>
            <a:ext cx="379260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85760"/>
            <a:ext cx="379260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72800"/>
            <a:ext cx="379260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7196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85760"/>
            <a:ext cx="379260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85760"/>
            <a:ext cx="379260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72800"/>
            <a:ext cx="7772400" cy="245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9536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8576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4648320"/>
            <a:ext cx="220968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GSAMS’</a:t>
            </a:r>
            <a:br>
              <a:rPr sz="3600"/>
            </a:br>
            <a:r>
              <a:rPr b="1" i="1" lang="en-US" sz="3600" spc="-1" strike="noStrike">
                <a:solidFill>
                  <a:srgbClr val="ff0066"/>
                </a:solidFill>
                <a:latin typeface="Arial Black"/>
              </a:rPr>
              <a:t>Un</a:t>
            </a: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distinguished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Lecture Series</a:t>
            </a:r>
            <a:br>
              <a:rPr sz="3600"/>
            </a:br>
            <a:br>
              <a:rPr sz="1400"/>
            </a:br>
            <a:r>
              <a:rPr b="1" lang="en-US" sz="2000" spc="-1" strike="noStrike">
                <a:solidFill>
                  <a:srgbClr val="3333cc"/>
                </a:solidFill>
                <a:latin typeface="Arial Black"/>
              </a:rPr>
              <a:t>presents . . .</a:t>
            </a:r>
            <a:br>
              <a:rPr sz="2000"/>
            </a:br>
            <a:endParaRPr b="0" lang="en-US" sz="20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1237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aphical User Interfac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pplets, Graphical Application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vents &amp; Interfac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838080"/>
            <a:ext cx="733284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t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y a clickable label-like compon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ears as a standard button on whatever graphical environment the user happens to be running at the ti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on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en cli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b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one-line field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cannot change this text directly; program changes text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tText(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d to capture events (but could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used as a one-way information 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rovide a message to the u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0"/>
            <a:ext cx="771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Components--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128960" y="533520"/>
            <a:ext cx="673992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java.applet.Apple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ublic class DrawApplet extends Apple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ControlPanel contro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DrawCanvas canv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init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.setLayout(new BorderLayou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vas = new DrawCanvas( (int) (getSize().width *.75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t) (getSize().height *.75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 = new ControlPanel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* introduce the components to each oth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vas.setControls(control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.setCanvas(canva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vas.setColor(Color.re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(canvas, BorderLayout.CENT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(controls, BorderLayout.SOUT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i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}// class Draw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rot="2700000">
            <a:off x="7188120" y="502200"/>
            <a:ext cx="18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 #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65920" y="0"/>
            <a:ext cx="13716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46960" y="0"/>
            <a:ext cx="259056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685800" y="304920"/>
            <a:ext cx="998208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java.awt.even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ublic class ControlPanel extends Panel implements MouseListen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temListen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DrawCanvas canv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Button clearButt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Labe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Choice colorChoi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ControlPanel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.setLayout(new GridLayout(1, 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Button = new Button("Clear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= new Label("Select Pen Color: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Choice = new Choi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Choice.add("Red"); colorChoice.add("Blue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Choice.add("Gree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Choice.addItemListener(thi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Button.addMouseListener(thi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(clearButton); add(label); add(colorChoice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co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setCanvas(DrawCanvas canva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.canvas = canv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setCan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05640" y="304920"/>
            <a:ext cx="4982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/* class ControlPanel (cont’d) . . .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mousePressed(MouseEvent 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e.getSource() == clearButto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vas.setClear(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vas.repa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mouseP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itemStateChang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temEvent 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index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Choice.getSelectedIndex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(index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0://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vas.setColor(Color.red);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1: //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vas.setColor(Color.blue);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vas.setColor(Color.green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switch (what’s wrong with it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itemState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457200" y="762120"/>
            <a:ext cx="6400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/* wasted c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mouseReleased (MouseEvent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mouseRel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mouseClicked  (MouseEvent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mouseCli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mouseExited  (MouseEvent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mouseEx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mouseEntered  (MouseEvent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mouseEnt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}// class Control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452520" y="457200"/>
            <a:ext cx="711504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java.awt.even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ublic class DrawCanvas extends Canv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lements MouseMotionListener, MouseListener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int mouseX, mouseY, oldX, old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boolean bClear, bDraw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Color col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ControlPanel contro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DrawCanvas(int width, int heigh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.setSize(width,he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.addMouseListener(thi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.addMouseMotionListener(this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co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setControls(ControlPanel control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.controls = contro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set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updateCoordinates(MouseEvent 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Coordinates(e.getX(), e.getY()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update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762840" y="533520"/>
            <a:ext cx="51670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/* class DrawCanvas (cont’d) . . .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updateCoordinates(int x, int y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X=mouseX; oldY = mouse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X=x; mouseY=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update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setDrawing(boolean bDrawing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.bDrawing = bDraw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set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setClear(boolean bClea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.bClear = bCle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set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boolean getDrawing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bDraw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get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boolean getClea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bCle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get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52640" y="152280"/>
            <a:ext cx="396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/* class DrawCanvas (cont’d) . . .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Color getColo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col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get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setColor(Color colo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.color = col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set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48320" y="2540160"/>
            <a:ext cx="534852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update(Graphics g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nt(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paint (Graphics g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getClear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.setColor(Color.whit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.fillRect(0,0,getSize().widt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Size().he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Clear(fals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getDrawing())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.setColor(getColor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.drawLine(oldX, oldY, mouseX, mous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53360" y="457200"/>
            <a:ext cx="4918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/* class DrawCanvas (cont’d) . . .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mouseMoved(MouseEvent 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Coordinates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mouseM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mouseEntered(MouseEvent 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Coordinates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mouseEnt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mousePressed(MouseEvent 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Drawing(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Coordinates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mouseP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mouseRel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useEvent 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Drawing(fals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Coordinates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mouseRel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86400" y="152280"/>
            <a:ext cx="3429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mouseDrag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useEvent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Coordinates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int(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mouseDrag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* below is wasted c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mouseCli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useEvent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mouseCli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mouseEx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useEvent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mouseEx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}// class DrawCan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257800" y="152280"/>
            <a:ext cx="0" cy="571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762120"/>
            <a:ext cx="695160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ain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special components that may contain other components with which the user inter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s of Contain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Containment i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same as exten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ame may contain butt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buttons are not subclass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0"/>
            <a:ext cx="77724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GUI Co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685800"/>
            <a:ext cx="830592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ers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ch can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you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t on th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aine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o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ypes of container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1. Applet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(but not always) embedded in HTML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utomatically created for you as the area of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b brows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pletvie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which the applet loa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that extend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pl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utomatically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plet contai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have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y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t on it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onents/contain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ded to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0"/>
            <a:ext cx="771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609480"/>
            <a:ext cx="82296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2. Fram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nd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 the scre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hav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u ba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 them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ull-down m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positioned on the screen via such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setBounds(int x, int y, int width, int h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setLocation(int x, int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3. Pane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intended a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ainer/compon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an be added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other container's lay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produce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mbed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lti-lev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ay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ver us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ne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youts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pane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produce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complex interface desig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0"/>
            <a:ext cx="771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Co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0"/>
            <a:ext cx="77724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Selecting a Cont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685800"/>
            <a:ext cx="830592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on Top-Level Container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-- familiar window object with scrollba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 -- more basic window object, no scrollba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et -- embedded byte code inside HTML doc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ntiatio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Frames and Windows not self-dispos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UI components use more than just memory: Onl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garbage-collected by the JVM. Other resources hav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reclaimed manually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pose(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myFrame = new Fram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Frame.setLayout(new FlowLayou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Frame.add(myButtonInstanc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when don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Frame.disp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(event handling to come shortly . . .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66680" y="1523880"/>
            <a:ext cx="5562720" cy="16002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240" y="685800"/>
            <a:ext cx="6682680" cy="55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types of 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embedded inside HTML document, between t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PPLET code = “MyApplet.clas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 = 400 HEIGHT = 300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APPLET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ts have no main(String arg[])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supplied by browser inst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Applet lifecy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init 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a main() ‘substitute’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tart 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 (Graphics 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top 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destroy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0"/>
            <a:ext cx="77724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Containers -- Appl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5160" y="1979640"/>
            <a:ext cx="1222200" cy="198432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984320"/>
              <a:gd name="textAreaBottom" fmla="*/ 1924920 h 1984320"/>
            </a:gdLst>
            <a:ahLst/>
            <a:rect l="textAreaLeft" t="textAreaTop" r="textAreaRight" b="textAreaBottom"/>
            <a:pathLst>
              <a:path w="21600" h="35065">
                <a:moveTo>
                  <a:pt x="3597" y="0"/>
                </a:moveTo>
                <a:arcTo wR="3597" hR="3597" stAng="16200000" swAng="-5400000"/>
                <a:lnTo>
                  <a:pt x="0" y="31468"/>
                </a:lnTo>
                <a:arcTo wR="3597" hR="3597" stAng="10800000" swAng="-5400000"/>
                <a:lnTo>
                  <a:pt x="18003" y="35065"/>
                </a:lnTo>
                <a:arcTo wR="3597" hR="3597" stAng="5400000" swAng="-5400000"/>
                <a:lnTo>
                  <a:pt x="21600" y="3597"/>
                </a:lnTo>
                <a:arcTo wR="3597" hR="3597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am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389280" y="2655720"/>
            <a:ext cx="709560" cy="10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19920" y="1143000"/>
            <a:ext cx="2895480" cy="266688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838080"/>
            <a:ext cx="566784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pplet.Apple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myApplet extends Applet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init (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define what happen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tart (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define what happen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 (Graphics g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define what happen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top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define what happen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...etc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0"/>
            <a:ext cx="77724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Containers -- Subcla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447920"/>
            <a:ext cx="281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eneral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plets use inheritance 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ames use composition and/or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The Applet ‘Sandbox’ Model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21932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 code runs in 'sandbox’ within the VM, with significant restrictions on what it can 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enforced by the SecurityManager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-arounds for applet security restrictions include digitally signing code, servlett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can similarly invo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Manager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083360" y="2128680"/>
            <a:ext cx="2057400" cy="213048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0480"/>
              <a:gd name="textAreaBottom" fmla="*/ 2030040 h 2130480"/>
            </a:gdLst>
            <a:ahLst/>
            <a:rect l="textAreaLeft" t="textAreaTop" r="textAreaRight" b="textAreaBottom"/>
            <a:pathLst>
              <a:path w="21600" h="22367">
                <a:moveTo>
                  <a:pt x="3600" y="0"/>
                </a:moveTo>
                <a:arcTo wR="3600" hR="3600" stAng="16200000" swAng="-5400000"/>
                <a:lnTo>
                  <a:pt x="0" y="18767"/>
                </a:lnTo>
                <a:arcTo wR="3600" hR="3600" stAng="10800000" swAng="-5400000"/>
                <a:lnTo>
                  <a:pt x="18000" y="223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The Applet ‘Sandbox’ Model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rusted code canno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files (except from host URL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Directori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tain file information (existence, size, date, etc.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, Delete, Rename files or directori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or write from FileDescriptor objec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en/Accept on any privileged port &lt;= 1024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System.exit() or Runtime.ext(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new processes with Runtime.exec(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a print job, access clipboard or event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47640"/>
            <a:ext cx="77724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9360" y="4327560"/>
            <a:ext cx="673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full access to System.getProperty(), but it 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getProperty() to fin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.version, java.class.version, java.vendo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.vendor.url, os.name, os.ver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.arch, file.separator, path.separato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.sepa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99360" y="2362320"/>
            <a:ext cx="1844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aining weak-spot: Denial of Servic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Applet Example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838080"/>
            <a:ext cx="9982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 ReadsFromURL.java -- a trivial applet demonst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   how to read server-side data via a URL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 The applet also uses heavyweights, ca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 slow redra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 import java.apple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net.*; 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ReadsFromURL extends Apple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 URL fileUR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 String resu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 TextArea 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 int off = 1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Lecture Content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746748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UIs and the Java AW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raphical User Interfaces” / “Abstract Windowing Toolk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onents as elements of presentation and interac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osition of UIs with containers of compon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ayout of components within contain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action with GUIs through event-driven programm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00" y="228600"/>
            <a:ext cx="76482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 Default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ReadsFromURL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fault constructor for some fussy V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 initialize the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 @see#readInURL() -- called to initializ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init()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Background(Color.lightGr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 = new TextAre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.setFont(new Font("Courier"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.BOLD, 1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52280"/>
            <a:ext cx="89154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 Set server to read applet sourc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URL = new UR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getCodeBase() + "/ReadsFromURL.java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MalformedURL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wStatus("Error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 Layout the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setLayout(null); // necessitates setBound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t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.setBounds(getSize().width/8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ize().height/8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ize().width*3/4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ize().height*3/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dInUR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// i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00" y="0"/>
            <a:ext cx="82576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  paint the applet, including borders, bevels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     scr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(Graphics g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bevels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w=0; w&lt;getSize().width; w+=12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h=0; h&lt;getSize().height; h+=12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whi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w,h,w+1,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w+1,h,w+5,h+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w+8,h+10,w+12,h+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w+12,h+6,w+13,h+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darkGr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w,h+2,w+5,h+7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w+5,h+7,w+6,h+7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w+9,h+12,w+13,h+8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border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gr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0, 0, getSize().width, of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0, 0, off, getSize().heigh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getSize().width-off,0, off,getSize().heigh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0,getSize().height-off, getSize().width, of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0,0,2*off, 2*of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getSize().width-2*off,0, 2*off, 2*of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0, getSize().height-2*off, 2*off, 2*of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getSize().width-2*off, getSize().height-2*off, 2*off, 2*of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X, dY; int x1=off; int x2=2*off; int x3=getSize().width-(1+2*of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4=getSize().width-(1+of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1=off; int y2=2*off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3=getSize().height-(1+2*of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4=getSize().height-(1+of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4080" y="228600"/>
            <a:ext cx="8562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x4,y2,x3,y2); g.drawLine(x3,y1,x2,y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x2,y1,x2,y2); g.drawLine(x2,y2,x1,y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x1,y2,x1,y3); g.drawLine(x2,y3,x2,y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whi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x3,y1,x3,y2); g.drawLine(x4,y2,x4,y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x4,y3,x3,y3); g.drawLine(x3,y3,x3,y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x3,y4,x2,y4); g.drawLine(x2,y3,x1,y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raised outer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0,0, getSize().width-1, getSize().height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whi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0,0, getSize().width-1,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0,0,0, getSize().height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00" y="0"/>
            <a:ext cx="84103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scr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x=2;x--&gt;0;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y=2;y--&gt;0;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=(x==1)?0:x3;  dY=(y==1)?0:y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whi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Arc(dX+off/2+1,dY+off/2+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)1.5*off,(int)1.5*off,90,1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dX+(int) (1.25*off)+2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Y+(int) (.75*off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+(int) (.75*off)-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Y+(int) (1.5*off)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Oval(dX+off/2,dY+off/2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)1.5*off,(int)1.5*of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dX+(int) (1.25*off)+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Y+(int) (.75*off)-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+(int) (.75*off)-2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Y+(int) (1.5*off)-2);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// p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800" y="0"/>
            <a:ext cx="7191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readInURL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tr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io.InputStream inpu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URL.openStream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Reader buff = new Buffered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ew InputStreamReader(input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(strTemp = buff.readLine()) !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.append(strTemp+"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Be a good net neighbor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ose the stream! 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IOException dar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wStatus("Exception: " + dar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// readIn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// class ReadsFrom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80880"/>
            <a:ext cx="84582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should components be laid out within a container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Why is this a problem?  Because platforms may differ in screen size / resolution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WT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out Managers are AWT classes that encapsulate policies for laying out components in a contain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ensure that the arrangement of objects within a wind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will remain  proportional regardless of changes in wind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imension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f general OOD strategy of pu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s/policies in a coordinator/referee clas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ayout manager is always associ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0"/>
            <a:ext cx="77724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GUI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495360"/>
            <a:ext cx="77724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762120"/>
            <a:ext cx="740880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could specify the location of a Component by specific x and y coordinates.  The Component class contains the method setLocation(int width, int heigh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myButton = new Button (“Click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(myButton); // adds to whatever ‘this’ container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Button.setLocation(25, 7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0"/>
            <a:ext cx="771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Layout Managers --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189240"/>
            <a:ext cx="3527640" cy="2841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99040" y="4184640"/>
            <a:ext cx="1384200" cy="698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4200" y="3352680"/>
            <a:ext cx="304920" cy="765360"/>
          </a:xfrm>
          <a:custGeom>
            <a:avLst/>
            <a:gdLst/>
            <a:ahLst/>
            <a:rect l="l" t="t" r="r" b="b"/>
            <a:pathLst>
              <a:path w="192" h="482">
                <a:moveTo>
                  <a:pt x="0" y="0"/>
                </a:moveTo>
                <a:lnTo>
                  <a:pt x="37" y="4"/>
                </a:lnTo>
                <a:lnTo>
                  <a:pt x="68" y="12"/>
                </a:lnTo>
                <a:lnTo>
                  <a:pt x="87" y="25"/>
                </a:lnTo>
                <a:lnTo>
                  <a:pt x="93" y="41"/>
                </a:lnTo>
                <a:lnTo>
                  <a:pt x="93" y="199"/>
                </a:lnTo>
                <a:lnTo>
                  <a:pt x="99" y="215"/>
                </a:lnTo>
                <a:lnTo>
                  <a:pt x="123" y="228"/>
                </a:lnTo>
                <a:lnTo>
                  <a:pt x="154" y="236"/>
                </a:lnTo>
                <a:lnTo>
                  <a:pt x="191" y="240"/>
                </a:lnTo>
                <a:lnTo>
                  <a:pt x="154" y="245"/>
                </a:lnTo>
                <a:lnTo>
                  <a:pt x="123" y="253"/>
                </a:lnTo>
                <a:lnTo>
                  <a:pt x="99" y="265"/>
                </a:lnTo>
                <a:lnTo>
                  <a:pt x="93" y="282"/>
                </a:lnTo>
                <a:lnTo>
                  <a:pt x="93" y="440"/>
                </a:lnTo>
                <a:lnTo>
                  <a:pt x="87" y="456"/>
                </a:lnTo>
                <a:lnTo>
                  <a:pt x="68" y="469"/>
                </a:lnTo>
                <a:lnTo>
                  <a:pt x="37" y="477"/>
                </a:lnTo>
                <a:lnTo>
                  <a:pt x="0" y="48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560" y="3506760"/>
            <a:ext cx="1809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5 pixels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3214800"/>
            <a:ext cx="0" cy="8874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86400" y="4191120"/>
            <a:ext cx="4302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5080" y="5108400"/>
            <a:ext cx="387360" cy="304920"/>
          </a:xfrm>
          <a:custGeom>
            <a:avLst/>
            <a:gdLst/>
            <a:ahLst/>
            <a:rect l="l" t="t" r="r" b="b"/>
            <a:pathLst>
              <a:path w="244" h="192">
                <a:moveTo>
                  <a:pt x="243" y="0"/>
                </a:moveTo>
                <a:lnTo>
                  <a:pt x="243" y="33"/>
                </a:lnTo>
                <a:lnTo>
                  <a:pt x="238" y="66"/>
                </a:lnTo>
                <a:lnTo>
                  <a:pt x="233" y="87"/>
                </a:lnTo>
                <a:lnTo>
                  <a:pt x="223" y="93"/>
                </a:lnTo>
                <a:lnTo>
                  <a:pt x="142" y="93"/>
                </a:lnTo>
                <a:lnTo>
                  <a:pt x="137" y="98"/>
                </a:lnTo>
                <a:lnTo>
                  <a:pt x="126" y="120"/>
                </a:lnTo>
                <a:lnTo>
                  <a:pt x="121" y="153"/>
                </a:lnTo>
                <a:lnTo>
                  <a:pt x="121" y="191"/>
                </a:lnTo>
                <a:lnTo>
                  <a:pt x="121" y="153"/>
                </a:lnTo>
                <a:lnTo>
                  <a:pt x="116" y="120"/>
                </a:lnTo>
                <a:lnTo>
                  <a:pt x="111" y="98"/>
                </a:lnTo>
                <a:lnTo>
                  <a:pt x="101" y="93"/>
                </a:lnTo>
                <a:lnTo>
                  <a:pt x="20" y="93"/>
                </a:lnTo>
                <a:lnTo>
                  <a:pt x="15" y="87"/>
                </a:lnTo>
                <a:lnTo>
                  <a:pt x="5" y="66"/>
                </a:lnTo>
                <a:lnTo>
                  <a:pt x="0" y="3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6440" y="5487840"/>
            <a:ext cx="169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5 pixels 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85960" y="4613400"/>
            <a:ext cx="20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1160" y="3273480"/>
            <a:ext cx="2521080" cy="1225440"/>
          </a:xfrm>
          <a:prstGeom prst="roundRect">
            <a:avLst>
              <a:gd name="adj" fmla="val 1665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0,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op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7560" y="3203640"/>
            <a:ext cx="1055520" cy="647640"/>
          </a:xfrm>
          <a:custGeom>
            <a:avLst/>
            <a:gdLst/>
            <a:ahLst/>
            <a:rect l="l" t="t" r="r" b="b"/>
            <a:pathLst>
              <a:path w="665" h="408">
                <a:moveTo>
                  <a:pt x="0" y="407"/>
                </a:moveTo>
                <a:lnTo>
                  <a:pt x="50" y="403"/>
                </a:lnTo>
                <a:lnTo>
                  <a:pt x="95" y="388"/>
                </a:lnTo>
                <a:lnTo>
                  <a:pt x="140" y="368"/>
                </a:lnTo>
                <a:lnTo>
                  <a:pt x="176" y="341"/>
                </a:lnTo>
                <a:lnTo>
                  <a:pt x="212" y="310"/>
                </a:lnTo>
                <a:lnTo>
                  <a:pt x="235" y="275"/>
                </a:lnTo>
                <a:lnTo>
                  <a:pt x="253" y="240"/>
                </a:lnTo>
                <a:lnTo>
                  <a:pt x="257" y="201"/>
                </a:lnTo>
                <a:lnTo>
                  <a:pt x="262" y="182"/>
                </a:lnTo>
                <a:lnTo>
                  <a:pt x="267" y="163"/>
                </a:lnTo>
                <a:lnTo>
                  <a:pt x="294" y="128"/>
                </a:lnTo>
                <a:lnTo>
                  <a:pt x="334" y="93"/>
                </a:lnTo>
                <a:lnTo>
                  <a:pt x="384" y="62"/>
                </a:lnTo>
                <a:lnTo>
                  <a:pt x="447" y="38"/>
                </a:lnTo>
                <a:lnTo>
                  <a:pt x="515" y="19"/>
                </a:lnTo>
                <a:lnTo>
                  <a:pt x="587" y="3"/>
                </a:lnTo>
                <a:lnTo>
                  <a:pt x="664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312408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4876920"/>
            <a:ext cx="2362320" cy="1066680"/>
          </a:xfrm>
          <a:prstGeom prst="roundRect">
            <a:avLst>
              <a:gd name="adj" fmla="val 1665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Button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and y coordin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s from top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403848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16480" y="4233960"/>
            <a:ext cx="1549080" cy="1179360"/>
          </a:xfrm>
          <a:custGeom>
            <a:avLst/>
            <a:gdLst/>
            <a:ahLst/>
            <a:rect l="l" t="t" r="r" b="b"/>
            <a:pathLst>
              <a:path w="976" h="743">
                <a:moveTo>
                  <a:pt x="0" y="742"/>
                </a:moveTo>
                <a:lnTo>
                  <a:pt x="92" y="737"/>
                </a:lnTo>
                <a:lnTo>
                  <a:pt x="184" y="726"/>
                </a:lnTo>
                <a:lnTo>
                  <a:pt x="271" y="704"/>
                </a:lnTo>
                <a:lnTo>
                  <a:pt x="357" y="677"/>
                </a:lnTo>
                <a:lnTo>
                  <a:pt x="439" y="644"/>
                </a:lnTo>
                <a:lnTo>
                  <a:pt x="521" y="606"/>
                </a:lnTo>
                <a:lnTo>
                  <a:pt x="597" y="562"/>
                </a:lnTo>
                <a:lnTo>
                  <a:pt x="669" y="513"/>
                </a:lnTo>
                <a:lnTo>
                  <a:pt x="735" y="458"/>
                </a:lnTo>
                <a:lnTo>
                  <a:pt x="796" y="398"/>
                </a:lnTo>
                <a:lnTo>
                  <a:pt x="847" y="338"/>
                </a:lnTo>
                <a:lnTo>
                  <a:pt x="893" y="273"/>
                </a:lnTo>
                <a:lnTo>
                  <a:pt x="929" y="207"/>
                </a:lnTo>
                <a:lnTo>
                  <a:pt x="955" y="137"/>
                </a:lnTo>
                <a:lnTo>
                  <a:pt x="970" y="71"/>
                </a:lnTo>
                <a:lnTo>
                  <a:pt x="975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0"/>
            <a:ext cx="771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Layout Managers --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762120"/>
            <a:ext cx="830592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blems with specifying x, y coordinates for Compon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dious for even mildly complex GU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 of more components requires recalculation of ever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component’s x, y coord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container resizes (e.g., user expands window), calculatio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have to be redone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 components based on a perce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vailable  container size.  Or create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orithm to place components . . 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Java already does this for you 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aphical User Interfac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GUI)</a:t>
            </a:r>
            <a:endParaRPr b="0" lang="en-US" sz="28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762120"/>
            <a:ext cx="8001000" cy="63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ame for one variety of “user interface” (UI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erface in which the user interacts  with objects on the screen (icons, buttons, scroll-bars, etc.) via mouse clicks or keyboard actions.  (Expressed in the Seeheim mode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rized in 1980s by the Macintos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state of the practice, and not final word in U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aced text-based  “command li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“function key”  interfac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pite similarities, GUIs are typ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form-specific (Windows 95/98/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OS, Xt, Ne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0080" y="838080"/>
            <a:ext cx="8551440" cy="53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provid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v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ayout manag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will concentrate here on two of th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order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id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ell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ain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yout manag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use, invoke the metho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Layout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pecify a type of layo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 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pecify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orderLay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Layout (new BorderLayout()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0"/>
            <a:ext cx="771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Layout Managers -- AWT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LayoutManagers: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 Two General Flavor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ne can conceptually divide layout managers into two types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ose that attach constraints to their component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ose that do no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What does this mean?</a:t>
            </a:r>
            <a:br>
              <a:rPr sz="2400"/>
            </a:b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  </a:t>
            </a:r>
            <a:br>
              <a:rPr sz="900"/>
            </a:b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f a manager attaches constraints to a component, then information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bout a component’s location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e.g., compass points) is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generated with the objec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LayoutManagers: Constraint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4724280"/>
            <a:ext cx="6629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BorderLayout specifies constraints corresponding to </a:t>
            </a: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compass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regions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of a container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43000" y="1066680"/>
            <a:ext cx="6933960" cy="2901960"/>
            <a:chOff x="1143000" y="1066680"/>
            <a:chExt cx="6933960" cy="2901960"/>
          </a:xfrm>
        </p:grpSpPr>
        <p:sp>
          <p:nvSpPr>
            <p:cNvPr id="130" name=""/>
            <p:cNvSpPr/>
            <p:nvPr/>
          </p:nvSpPr>
          <p:spPr>
            <a:xfrm>
              <a:off x="1143000" y="1066680"/>
              <a:ext cx="6868440" cy="2901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72960" y="1672560"/>
              <a:ext cx="6511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0880" y="3253320"/>
              <a:ext cx="6511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58560" y="1825200"/>
              <a:ext cx="0" cy="136764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18280" y="1807200"/>
              <a:ext cx="0" cy="136764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68560" y="1219320"/>
              <a:ext cx="283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NOR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68560" y="3400200"/>
              <a:ext cx="283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SOU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21680" y="2235600"/>
              <a:ext cx="1686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CE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80320" y="2164680"/>
              <a:ext cx="119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EA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70880" y="2164680"/>
              <a:ext cx="112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W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LayoutManagers: Constraint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orderLay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n appends constraint information on all components, e.g.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setLayout (new BorderLayout()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 e = new Button (“East”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 w = new Button (“West”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 n = new Button (“North”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e, “East”); // deprecate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“West”, w); // works; deprecate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add(n, BorderLayout.NORTH); // bett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LayoutManagers: Constraint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08576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60195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LayoutManagers: Another Example</a:t>
            </a:r>
            <a:endParaRPr b="0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test extends Applet {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Compass[] = {"North", "South", "East", "West", "Center"}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ALWAYS call super init! */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.init(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set layout */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Layout(new BorderLayout()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(Compass.length) - 1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&gt;= 0; i- -){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 temp = new Button (Compass[i]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temp, Compass[i]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// for loo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// tes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LayoutManager: Example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428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iving: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5499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LayoutManager: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No Constraint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cond typ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youtManag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es not specify constraints for the objects it hold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idLayout(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Layout(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 constraints, you cannot accurately predict layout behavior across platfor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LayoutManager: No Constraints</a:t>
            </a:r>
            <a:endParaRPr b="0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 java.applet.*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class test extends Applet {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init() {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.init(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Labels[] = {"Short", "Short", "Long Label"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"Really Long Label", "Really, really long"}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Layout(new FlowLayout()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(int i = (Labels.length - 1); i &gt;= 0; i- -){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ton temp = new Button (Labels[i]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(temp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fo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ini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class tes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LayoutManager: No Constraint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iving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6095880" cy="36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0"/>
            <a:ext cx="77421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 AWT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Abstract Windowing Toolki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677960"/>
            <a:ext cx="79977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Java implements a platform-independen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Graphical User Interface) on different plat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I to the JVM’s “virtual” user interfa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1.0 &amp; 1.1 GUIs were quite bland because of the need to be platform-independen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d: Java 1.2’s “Swing”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fully-functional GUIs for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9536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LayoutManager: No Constraint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 also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6006960" cy="36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LayoutManager: No Constraint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pixels, fonts and insets vary with each platform, layout without constraints will vary greatly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ss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layout managers without constrai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ly w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you have one or few compon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3365640" cy="2146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3517920" cy="22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LayoutManager: No Constraint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think that layout managers without constraints are not useful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the most useful constraint-free layout manager is “GridLayout”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GridLayout()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GridLayout(int rows, int cols)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GridLayout(int rows, int cols,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hgap, int vgap)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62560" y="1141560"/>
            <a:ext cx="561276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idLay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fies a grid pattern v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Layout (new GridLayout (rows, columns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 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Layout (new GridLayout(2,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28600"/>
            <a:ext cx="771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Grid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5800" y="4267080"/>
            <a:ext cx="5477040" cy="1768320"/>
            <a:chOff x="685800" y="4267080"/>
            <a:chExt cx="5477040" cy="1768320"/>
          </a:xfrm>
        </p:grpSpPr>
        <p:sp>
          <p:nvSpPr>
            <p:cNvPr id="169" name=""/>
            <p:cNvSpPr/>
            <p:nvPr/>
          </p:nvSpPr>
          <p:spPr>
            <a:xfrm>
              <a:off x="685800" y="4267080"/>
              <a:ext cx="5477040" cy="1768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5520" y="5122800"/>
              <a:ext cx="5459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8400" y="4279680"/>
              <a:ext cx="0" cy="17445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38720" y="4279680"/>
              <a:ext cx="0" cy="17445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1295280"/>
            <a:ext cx="8381880" cy="18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d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ain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idLay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particula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locations are not specified (unlik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orderLay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ead,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containers) are positioned by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equence in which they are added, as indicated by numeral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belo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09480" y="4114800"/>
            <a:ext cx="5477040" cy="1768320"/>
            <a:chOff x="609480" y="4114800"/>
            <a:chExt cx="5477040" cy="1768320"/>
          </a:xfrm>
        </p:grpSpPr>
        <p:sp>
          <p:nvSpPr>
            <p:cNvPr id="175" name=""/>
            <p:cNvSpPr/>
            <p:nvPr/>
          </p:nvSpPr>
          <p:spPr>
            <a:xfrm>
              <a:off x="609480" y="4114800"/>
              <a:ext cx="5477040" cy="1768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2720" y="4970520"/>
              <a:ext cx="5472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33600" y="4121280"/>
              <a:ext cx="0" cy="17571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2400" y="4121280"/>
              <a:ext cx="0" cy="17571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214280" y="4400640"/>
            <a:ext cx="825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44960" y="4400640"/>
            <a:ext cx="825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73760" y="4400640"/>
            <a:ext cx="825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16160" y="5257800"/>
            <a:ext cx="825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44960" y="5257800"/>
            <a:ext cx="825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73760" y="5257800"/>
            <a:ext cx="825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2800" y="561960"/>
            <a:ext cx="771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Grid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92200" y="1905120"/>
            <a:ext cx="7515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Layout (new GridLayout (rows, columns, hspace, vspace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a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ecifi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rizon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z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spa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ecifi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erti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ze, e.g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Layout (new GridLayout (2,  2,  7, 5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762120"/>
            <a:ext cx="71294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al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wo additional parameters may be used wit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idLay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specify the horizontal and vertical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pac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ix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id ele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4419720"/>
            <a:ext cx="1714680" cy="7938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5334120"/>
            <a:ext cx="1714680" cy="7938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19720"/>
            <a:ext cx="1714320" cy="7938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5334120"/>
            <a:ext cx="1714320" cy="7938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0"/>
            <a:ext cx="7718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GridLay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Black"/>
              </a:rPr>
              <a:t>GridLayout: Example</a:t>
            </a:r>
            <a:endParaRPr b="0" lang="en-US" sz="40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java.applet.*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class test extends Applet {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init() {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.init()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Layout(new GridLayout(4,3,5,5))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off[]={-2,2,0}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(int i=9; i &gt;= 1; i--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this is “clever” but hard to grok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thus, is ill-advised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(new Button (""+(i+off[i%3])))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(new Button ("."))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(new Button ("0"))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(new Button ("+/-"))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(new MyPanel(null));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// ini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//tes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9536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GridLayout: Example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iving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556236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0"/>
            <a:ext cx="772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A Layout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5120" y="1604880"/>
            <a:ext cx="7502400" cy="277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857680"/>
            <a:ext cx="7518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16320" y="1600200"/>
            <a:ext cx="0" cy="262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16320" y="2228760"/>
            <a:ext cx="3759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9040" y="3305160"/>
            <a:ext cx="3759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9040" y="3648240"/>
            <a:ext cx="3759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81560" y="1714680"/>
            <a:ext cx="141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57880" y="2324160"/>
            <a:ext cx="1428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10880" y="2857680"/>
            <a:ext cx="1061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40960" y="3648240"/>
            <a:ext cx="1485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F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16320" y="4000680"/>
            <a:ext cx="1793880" cy="323640"/>
          </a:xfrm>
          <a:prstGeom prst="roundRect">
            <a:avLst>
              <a:gd name="adj" fmla="val 12495"/>
            </a:avLst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ton Tw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45120" y="4000680"/>
            <a:ext cx="1895400" cy="323640"/>
          </a:xfrm>
          <a:prstGeom prst="roundRect">
            <a:avLst>
              <a:gd name="adj" fmla="val 12495"/>
            </a:avLst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ton Thr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7000" y="1969920"/>
            <a:ext cx="2586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xtArea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he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no label displayed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16320" y="3314880"/>
            <a:ext cx="3724200" cy="323640"/>
          </a:xfrm>
          <a:prstGeom prst="roundRect">
            <a:avLst>
              <a:gd name="adj" fmla="val 12495"/>
            </a:avLst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ton 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685800"/>
            <a:ext cx="746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agine that we wish to create an Applet with the following interface layout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410080"/>
            <a:ext cx="5791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dotted lines do not really appear; shown for refer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914400"/>
            <a:ext cx="72597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this is 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ppl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entire layout is defined in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it(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ppl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ing this implies three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ketch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layout on pa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cla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ance variables of the visib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rang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appropriate using a combination of nest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ain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0"/>
            <a:ext cx="772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A Layout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0"/>
            <a:ext cx="77724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Steps to GUI Co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85800"/>
            <a:ext cx="4365360" cy="3138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Java, to create a GUI, you (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y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ain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using 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yout Manag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/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ainers of  Components . . 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creen as desi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343400"/>
            <a:ext cx="4822920" cy="2009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Java, to make a GUI act as the interface for a program, you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human/comput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alo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using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ste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component-gener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vents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80840" y="1219320"/>
            <a:ext cx="243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.e. UI form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4880" y="2819520"/>
            <a:ext cx="2662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.e. UI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00240" y="1981080"/>
            <a:ext cx="1244520" cy="27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409720" y="3733920"/>
            <a:ext cx="8636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0000" y="914400"/>
            <a:ext cx="557712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Step One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etching the layout on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 shown on earlier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Step Two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laring instance variabl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of the visible componen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Area TextArea1 = new TextArea(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Label1 = new Label ("Label One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Label2 = new Label ("Label Two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Label3 = new Label ("Label 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Label4 = new Label ("Label Four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ton Button1 = new Button ("Button One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ton Button2 = new Button ("Button Two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ton Button3 = new Button ("Button 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0"/>
            <a:ext cx="772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A Layout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4120" y="1066680"/>
            <a:ext cx="526932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tep Three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nging the compon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using nested contain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2057400"/>
            <a:ext cx="721224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 the overall design in terms of one or mo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yout Manag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his example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idLay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sufficien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pplet itself is a container.  Begin there, and create appropriate subdivisions of screen spa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is design, the main container is split into 4 quadrants, each of equal siz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uggests a grid layout on the Applet,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rows and 2 columns, i.e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Layout (new GridLayout (2,2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152280"/>
            <a:ext cx="772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A Layout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752480" y="3733920"/>
            <a:ext cx="2438640" cy="1371600"/>
          </a:xfrm>
          <a:prstGeom prst="rect">
            <a:avLst/>
          </a:prstGeom>
          <a:solidFill>
            <a:srgbClr val="ffff99">
              <a:alpha val="50000"/>
            </a:srgbClr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0"/>
            <a:ext cx="772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A Layout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066680"/>
            <a:ext cx="7543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quadran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of t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idLayo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s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xt Are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llocate the instance variab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xtArea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the first quadrant, simpl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t firs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0760" y="2895480"/>
            <a:ext cx="21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(TextArea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52578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5" idx="2"/>
            <a:endCxn id="226" idx="2"/>
          </p:cNvCxnSpPr>
          <p:nvPr/>
        </p:nvCxnSpPr>
        <p:spPr>
          <a:xfrm flipH="1" rot="16200000">
            <a:off x="1388520" y="3523320"/>
            <a:ext cx="945360" cy="11527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9" name=""/>
          <p:cNvSpPr/>
          <p:nvPr/>
        </p:nvSpPr>
        <p:spPr>
          <a:xfrm>
            <a:off x="1754280" y="3732120"/>
            <a:ext cx="4954320" cy="297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752480" y="3733920"/>
            <a:ext cx="4953240" cy="2971440"/>
            <a:chOff x="1752480" y="3733920"/>
            <a:chExt cx="4953240" cy="2971440"/>
          </a:xfrm>
        </p:grpSpPr>
        <p:sp>
          <p:nvSpPr>
            <p:cNvPr id="231" name=""/>
            <p:cNvSpPr/>
            <p:nvPr/>
          </p:nvSpPr>
          <p:spPr>
            <a:xfrm>
              <a:off x="1757520" y="3738600"/>
              <a:ext cx="4942800" cy="296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52480" y="5077080"/>
              <a:ext cx="4953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28920" y="3733920"/>
              <a:ext cx="0" cy="2808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28920" y="4405320"/>
              <a:ext cx="2476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17400" y="5555520"/>
              <a:ext cx="2476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17400" y="5922000"/>
              <a:ext cx="2476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30920" y="385560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el 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80960" y="4506840"/>
              <a:ext cx="805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bel Tw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81760" y="5077080"/>
              <a:ext cx="712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el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68360" y="5922000"/>
              <a:ext cx="96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el Fo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8920" y="6298560"/>
              <a:ext cx="1181880" cy="345960"/>
            </a:xfrm>
            <a:prstGeom prst="roundRect">
              <a:avLst>
                <a:gd name="adj" fmla="val 1249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tton Tw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3840" y="6298560"/>
              <a:ext cx="1248480" cy="345960"/>
            </a:xfrm>
            <a:prstGeom prst="roundRect">
              <a:avLst>
                <a:gd name="adj" fmla="val 1249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utton Thre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03760" y="4128840"/>
              <a:ext cx="1379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extArea1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is here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{no label displayed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28920" y="5565600"/>
              <a:ext cx="2453400" cy="345960"/>
            </a:xfrm>
            <a:prstGeom prst="roundRect">
              <a:avLst>
                <a:gd name="adj" fmla="val 1249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utton O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0880" y="457200"/>
            <a:ext cx="726300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cond quadran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of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idLayou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tains tw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b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we can hav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nly 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tainer or component per area, we subdivide the quadrant into two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o so, we declare a new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nel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n divide it as two areas, one for eac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create new 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 Panel1 = new Panel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add it to GridLay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   at next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(Panel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subdivide Panel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   as 2 rows, 1 c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1.setLayout (new GridLayout (2,1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add the first two Lab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1.add (Label1); // 1st area: row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1.add (Label2); // 2nd area: row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2286000"/>
            <a:ext cx="1828800" cy="990720"/>
          </a:xfrm>
          <a:prstGeom prst="rect">
            <a:avLst/>
          </a:prstGeom>
          <a:solidFill>
            <a:srgbClr val="ffff99">
              <a:alpha val="5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3657600"/>
            <a:ext cx="30456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7" idx="6"/>
            <a:endCxn id="246" idx="0"/>
          </p:cNvCxnSpPr>
          <p:nvPr/>
        </p:nvCxnSpPr>
        <p:spPr>
          <a:xfrm flipV="1">
            <a:off x="2209320" y="2260080"/>
            <a:ext cx="4801320" cy="1550160"/>
          </a:xfrm>
          <a:prstGeom prst="curvedConnector5">
            <a:avLst>
              <a:gd name="adj1" fmla="val 40469"/>
              <a:gd name="adj2" fmla="val 56538"/>
              <a:gd name="adj3" fmla="val 40469"/>
            </a:avLst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4267080" y="2286000"/>
            <a:ext cx="36576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267080" y="2286000"/>
            <a:ext cx="3657600" cy="2209320"/>
            <a:chOff x="4267080" y="2286000"/>
            <a:chExt cx="3657600" cy="2209320"/>
          </a:xfrm>
        </p:grpSpPr>
        <p:sp>
          <p:nvSpPr>
            <p:cNvPr id="251" name=""/>
            <p:cNvSpPr/>
            <p:nvPr/>
          </p:nvSpPr>
          <p:spPr>
            <a:xfrm>
              <a:off x="4270680" y="2289600"/>
              <a:ext cx="3650040" cy="2205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67080" y="3284640"/>
              <a:ext cx="3657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5880" y="2286000"/>
              <a:ext cx="0" cy="2088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95880" y="27853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87240" y="364068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87240" y="391284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13920" y="237636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el 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50640" y="2860920"/>
              <a:ext cx="805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bel Tw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24440" y="3284640"/>
              <a:ext cx="712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el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40200" y="3912840"/>
              <a:ext cx="7718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abel Fou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95880" y="4192920"/>
              <a:ext cx="872640" cy="257400"/>
            </a:xfrm>
            <a:prstGeom prst="roundRect">
              <a:avLst>
                <a:gd name="adj" fmla="val 1249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utton Tw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85440" y="4192920"/>
              <a:ext cx="921960" cy="257400"/>
            </a:xfrm>
            <a:prstGeom prst="roundRect">
              <a:avLst>
                <a:gd name="adj" fmla="val 1249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utton Thre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52120" y="2579760"/>
              <a:ext cx="1379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extArea1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is here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{no label displayed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5880" y="3647880"/>
              <a:ext cx="1811880" cy="257400"/>
            </a:xfrm>
            <a:prstGeom prst="roundRect">
              <a:avLst>
                <a:gd name="adj" fmla="val 1249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utton O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523880" y="4724280"/>
            <a:ext cx="2590920" cy="152424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4120" y="762120"/>
            <a:ext cx="44884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rd quadran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of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idLayou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h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"skip a space" in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idLay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add a "throw-away" pane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(new Panel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2514600"/>
            <a:ext cx="30456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6" idx="1"/>
            <a:endCxn id="269" idx="4"/>
          </p:cNvCxnSpPr>
          <p:nvPr/>
        </p:nvCxnSpPr>
        <p:spPr>
          <a:xfrm flipH="1" flipV="1" rot="10800000">
            <a:off x="837000" y="1769040"/>
            <a:ext cx="1600920" cy="3793320"/>
          </a:xfrm>
          <a:prstGeom prst="curvedConnector5">
            <a:avLst>
              <a:gd name="adj1" fmla="val -14282"/>
              <a:gd name="adj2" fmla="val 53008"/>
              <a:gd name="adj3" fmla="val -142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2286000" y="5257800"/>
            <a:ext cx="30492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3505320"/>
            <a:ext cx="5257800" cy="2743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523880" y="3505320"/>
            <a:ext cx="5257800" cy="2742840"/>
            <a:chOff x="1523880" y="3505320"/>
            <a:chExt cx="5257800" cy="2742840"/>
          </a:xfrm>
        </p:grpSpPr>
        <p:sp>
          <p:nvSpPr>
            <p:cNvPr id="272" name=""/>
            <p:cNvSpPr/>
            <p:nvPr/>
          </p:nvSpPr>
          <p:spPr>
            <a:xfrm>
              <a:off x="1529280" y="3509640"/>
              <a:ext cx="5246640" cy="2738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23880" y="474516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52600" y="3505320"/>
              <a:ext cx="0" cy="2592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52600" y="4125240"/>
              <a:ext cx="2628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0360" y="5186880"/>
              <a:ext cx="2629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40360" y="5524920"/>
              <a:ext cx="2629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97800" y="361764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el 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1800" y="4218840"/>
              <a:ext cx="805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bel Tw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58360" y="4745160"/>
              <a:ext cx="712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el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36680" y="5524920"/>
              <a:ext cx="96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el Fo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52600" y="5872680"/>
              <a:ext cx="1254240" cy="319320"/>
            </a:xfrm>
            <a:prstGeom prst="roundRect">
              <a:avLst>
                <a:gd name="adj" fmla="val 1249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tton Tw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31680" y="5872680"/>
              <a:ext cx="1325520" cy="319320"/>
            </a:xfrm>
            <a:prstGeom prst="roundRect">
              <a:avLst>
                <a:gd name="adj" fmla="val 1249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utton Thre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91360" y="3870000"/>
              <a:ext cx="1379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extArea1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is here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{no label displayed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52600" y="5196240"/>
              <a:ext cx="2604240" cy="319320"/>
            </a:xfrm>
            <a:prstGeom prst="roundRect">
              <a:avLst>
                <a:gd name="adj" fmla="val 1249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utton O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04920" y="533520"/>
            <a:ext cx="743724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urth quadran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of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idLayou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ve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one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nly 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onent is permitted per area, we subdivide the space as need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create a second 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 Panel2 = new Panel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add it to the next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(Panel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divide it into 4 rows, 1 c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2.setLay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ew GridLayout (4,1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add the componets, row by 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2.add (Label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2.add (Button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2.add (Label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nel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s 4th row hol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ems, so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86600" y="3048120"/>
            <a:ext cx="1828800" cy="144756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3124080"/>
            <a:ext cx="30456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8" idx="6"/>
            <a:endCxn id="287" idx="1"/>
          </p:cNvCxnSpPr>
          <p:nvPr/>
        </p:nvCxnSpPr>
        <p:spPr>
          <a:xfrm>
            <a:off x="2666880" y="3276720"/>
            <a:ext cx="4401360" cy="496080"/>
          </a:xfrm>
          <a:prstGeom prst="curvedConnector5">
            <a:avLst>
              <a:gd name="adj1" fmla="val 50216"/>
              <a:gd name="adj2" fmla="val 49963"/>
              <a:gd name="adj3" fmla="val 5021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5257800" y="1905120"/>
            <a:ext cx="3657600" cy="259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257800" y="1905120"/>
            <a:ext cx="3657600" cy="2590200"/>
            <a:chOff x="5257800" y="1905120"/>
            <a:chExt cx="3657600" cy="2590200"/>
          </a:xfrm>
        </p:grpSpPr>
        <p:sp>
          <p:nvSpPr>
            <p:cNvPr id="292" name=""/>
            <p:cNvSpPr/>
            <p:nvPr/>
          </p:nvSpPr>
          <p:spPr>
            <a:xfrm>
              <a:off x="5261400" y="1909440"/>
              <a:ext cx="3650040" cy="2585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57800" y="3075840"/>
              <a:ext cx="3657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86600" y="1905120"/>
              <a:ext cx="0" cy="2448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86600" y="249048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77960" y="349308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77960" y="381240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04640" y="201132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el 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41360" y="2579040"/>
              <a:ext cx="805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bel Tw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15160" y="3075840"/>
              <a:ext cx="712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el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30920" y="3812400"/>
              <a:ext cx="7718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abel Fou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86600" y="4140720"/>
              <a:ext cx="872640" cy="301680"/>
            </a:xfrm>
            <a:prstGeom prst="roundRect">
              <a:avLst>
                <a:gd name="adj" fmla="val 1249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utton Tw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976160" y="4140720"/>
              <a:ext cx="921960" cy="301680"/>
            </a:xfrm>
            <a:prstGeom prst="roundRect">
              <a:avLst>
                <a:gd name="adj" fmla="val 1249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utton Thre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42840" y="2249280"/>
              <a:ext cx="1379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extArea1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is here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{no label displayed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86600" y="3501720"/>
              <a:ext cx="1811880" cy="301680"/>
            </a:xfrm>
            <a:prstGeom prst="roundRect">
              <a:avLst>
                <a:gd name="adj" fmla="val 1249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utton O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0" y="2743200"/>
            <a:ext cx="2133720" cy="15238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3480" y="533520"/>
            <a:ext cx="463176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urth quadrant (continued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room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tton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tton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new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nel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adding it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nel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subdivid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nel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w of 2 column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create the new Panel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 Panel3 = new Panel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add Panel3 to Pane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2.add (Panel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subdivide Panel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   into 1 row, 2 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3.setLay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ew GridLayout (1,2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add the Buttons to Panel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3.add (Button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3.add (Button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4280" y="1447920"/>
            <a:ext cx="4267440" cy="2819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724280" y="1447920"/>
            <a:ext cx="4267440" cy="2818800"/>
            <a:chOff x="4724280" y="1447920"/>
            <a:chExt cx="4267440" cy="2818800"/>
          </a:xfrm>
        </p:grpSpPr>
        <p:sp>
          <p:nvSpPr>
            <p:cNvPr id="310" name=""/>
            <p:cNvSpPr/>
            <p:nvPr/>
          </p:nvSpPr>
          <p:spPr>
            <a:xfrm>
              <a:off x="4728600" y="1452600"/>
              <a:ext cx="4258440" cy="281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2721960"/>
              <a:ext cx="4267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58000" y="1447920"/>
              <a:ext cx="0" cy="2664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0" y="2084760"/>
              <a:ext cx="2133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47920" y="3175920"/>
              <a:ext cx="2133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47920" y="3523680"/>
              <a:ext cx="2133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61720" y="156348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el 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04920" y="2181240"/>
              <a:ext cx="805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bel Tw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91680" y="2721960"/>
              <a:ext cx="712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el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93040" y="3523680"/>
              <a:ext cx="7718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abel Fou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58000" y="3880800"/>
              <a:ext cx="1018080" cy="328320"/>
            </a:xfrm>
            <a:prstGeom prst="roundRect">
              <a:avLst>
                <a:gd name="adj" fmla="val 1249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utton Tw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95880" y="3880800"/>
              <a:ext cx="1075680" cy="328320"/>
            </a:xfrm>
            <a:prstGeom prst="roundRect">
              <a:avLst>
                <a:gd name="adj" fmla="val 1249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utton Thre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40640" y="1822680"/>
              <a:ext cx="1379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extArea1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is here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{no label displayed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0" y="3185640"/>
              <a:ext cx="2113920" cy="328320"/>
            </a:xfrm>
            <a:prstGeom prst="roundRect">
              <a:avLst>
                <a:gd name="adj" fmla="val 1249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utton O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529200" y="609480"/>
            <a:ext cx="55144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final 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declaration section - usually instance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Area TextArea1 = new TextArea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Label1 = new Label ("Label One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Label2 = new Label ("Label Two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Label3 = new Label ("Label 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Label4 = new Label ("Label Four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ton Button1 = new Button ("Button One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ton Button2 = new Button ("Button Two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ton Button3 = new Button ("Button 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 Panel1 = new Panel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 Panel2 = new Panel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 Panel3 = new Panel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set up the layout (inside a constructor or init( 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Layout (new GridLayout (2,2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quadrant 1 - just a text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(TextArea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04080" y="457200"/>
            <a:ext cx="58849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quadrant 2 - panel with two lab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(Panel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1.setLayout (new GridLayout (2,1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1.add (Label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1.add (Label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quadrant 3 - empty and not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(new Panel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quadrant 4 - Panel containing 4 rows, last of whic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is a Panel containing two but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(Panel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2.setLayout (new GridLayout (4,1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2.add (Label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2.add (Button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2.add (Label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2.add (Panel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3.setLayout (new GridLayout (1,2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3.add (Button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3.add (Button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Lecture Summary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6320" y="761760"/>
            <a:ext cx="9067680" cy="514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UIs and the Java AW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onents as elements of presentation and interac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ayout of components within container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ayout managers encapsulate layout polic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tainers “delegate” this responsibility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order layout fits elements close to edges/cent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rid &amp; flow layouts layout spatially if there’s roo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r “clustered” components, use panel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s sub-container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onents arranged in panels,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ranged in panels, in panels..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Lecture Content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UIs and the Java AW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raphical User Interfaces” / “Abstract Windowing Toolk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onents as elements of presentation and interac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asses of components &amp; the AWT class hierarch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 declaration &amp; presentation Java cod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osition of UIs with containers of compon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ayout of components within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ain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GSAMS--Java Cour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3200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erfaces 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8640" y="1066680"/>
            <a:ext cx="454212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ava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ultiple 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ng functionality and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ared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interfa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ultiple hierarch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fa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vent-driven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ing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ing Event Hand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ing Event Hand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ugging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120" y="22860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Java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762120" y="30492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Java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6360" y="990720"/>
            <a:ext cx="4735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s of solving many problems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all for multiple inheri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328760" y="2747880"/>
            <a:ext cx="6587280" cy="1590480"/>
            <a:chOff x="1328760" y="2747880"/>
            <a:chExt cx="6587280" cy="1590480"/>
          </a:xfrm>
        </p:grpSpPr>
        <p:sp>
          <p:nvSpPr>
            <p:cNvPr id="335" name=""/>
            <p:cNvSpPr/>
            <p:nvPr/>
          </p:nvSpPr>
          <p:spPr>
            <a:xfrm>
              <a:off x="1328760" y="2804760"/>
              <a:ext cx="2726640" cy="27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90120" y="2747880"/>
              <a:ext cx="2725920" cy="27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raw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59440" y="3433680"/>
              <a:ext cx="2726640" cy="27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532160" y="4062240"/>
              <a:ext cx="6078960" cy="276120"/>
              <a:chOff x="1532160" y="4062240"/>
              <a:chExt cx="6078960" cy="276120"/>
            </a:xfrm>
          </p:grpSpPr>
          <p:sp>
            <p:nvSpPr>
              <p:cNvPr id="339" name=""/>
              <p:cNvSpPr/>
              <p:nvPr/>
            </p:nvSpPr>
            <p:spPr>
              <a:xfrm>
                <a:off x="1532160" y="4062240"/>
                <a:ext cx="1710360" cy="276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irc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767040" y="4062240"/>
                <a:ext cx="1710360" cy="276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ct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00760" y="4062240"/>
                <a:ext cx="1710360" cy="276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i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2539440" y="3714480"/>
              <a:ext cx="4064040" cy="285840"/>
              <a:chOff x="2539440" y="3714480"/>
              <a:chExt cx="4064040" cy="285840"/>
            </a:xfrm>
          </p:grpSpPr>
          <p:sp>
            <p:nvSpPr>
              <p:cNvPr id="343" name=""/>
              <p:cNvSpPr/>
              <p:nvPr/>
            </p:nvSpPr>
            <p:spPr>
              <a:xfrm flipH="1">
                <a:off x="2539440" y="3714480"/>
                <a:ext cx="1523880" cy="28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283000" y="3714480"/>
                <a:ext cx="1320480" cy="28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673520" y="3714480"/>
                <a:ext cx="0" cy="28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2742840" y="3085920"/>
              <a:ext cx="152388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079240" y="3028680"/>
              <a:ext cx="132084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754560" y="1828800"/>
            <a:ext cx="5486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to draw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ap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bjec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7080" y="5334120"/>
            <a:ext cx="5261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ultiple inheri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s many annoying complex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does not support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767040" y="4343400"/>
            <a:ext cx="1711080" cy="623520"/>
            <a:chOff x="3767040" y="4343400"/>
            <a:chExt cx="1711080" cy="623520"/>
          </a:xfrm>
        </p:grpSpPr>
        <p:sp>
          <p:nvSpPr>
            <p:cNvPr id="351" name=""/>
            <p:cNvSpPr/>
            <p:nvPr/>
          </p:nvSpPr>
          <p:spPr>
            <a:xfrm>
              <a:off x="3767040" y="4690800"/>
              <a:ext cx="1711080" cy="27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qu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73520" y="4343400"/>
              <a:ext cx="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304920"/>
            <a:ext cx="812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Java Interfaces--Partial Solution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6560" y="1066680"/>
            <a:ext cx="4460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ke a new base clas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(e.g.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awableShape)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ing u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38280" y="4267080"/>
            <a:ext cx="2727360" cy="27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11360" y="4896000"/>
            <a:ext cx="6079680" cy="276120"/>
            <a:chOff x="711360" y="4896000"/>
            <a:chExt cx="6079680" cy="276120"/>
          </a:xfrm>
        </p:grpSpPr>
        <p:sp>
          <p:nvSpPr>
            <p:cNvPr id="357" name=""/>
            <p:cNvSpPr/>
            <p:nvPr/>
          </p:nvSpPr>
          <p:spPr>
            <a:xfrm>
              <a:off x="711360" y="4896000"/>
              <a:ext cx="1710360" cy="27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ir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46600" y="4896000"/>
              <a:ext cx="1710360" cy="27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80680" y="4896000"/>
              <a:ext cx="1710360" cy="27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i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 flipH="1">
            <a:off x="1515960" y="4548240"/>
            <a:ext cx="1524240" cy="28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61040" y="4548240"/>
            <a:ext cx="1320480" cy="28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751200" y="4548240"/>
            <a:ext cx="0" cy="28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2800" y="365760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3240" y="6095880"/>
            <a:ext cx="474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d ide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much redundancy,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ti-O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46240" y="5524560"/>
            <a:ext cx="1711440" cy="27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51200" y="5176800"/>
            <a:ext cx="0" cy="28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838080" y="2057400"/>
            <a:ext cx="6689520" cy="1533240"/>
            <a:chOff x="838080" y="2057400"/>
            <a:chExt cx="6689520" cy="1533240"/>
          </a:xfrm>
        </p:grpSpPr>
        <p:sp>
          <p:nvSpPr>
            <p:cNvPr id="368" name=""/>
            <p:cNvSpPr/>
            <p:nvPr/>
          </p:nvSpPr>
          <p:spPr>
            <a:xfrm>
              <a:off x="2677680" y="2057400"/>
              <a:ext cx="2817720" cy="27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rawable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8080" y="2685960"/>
              <a:ext cx="1767600" cy="27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rawableCir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70640" y="2685960"/>
              <a:ext cx="2218320" cy="27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rawableRect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53560" y="2685960"/>
              <a:ext cx="2174040" cy="27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rawableTri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913040" y="2338200"/>
              <a:ext cx="4200120" cy="285840"/>
              <a:chOff x="1913040" y="2338200"/>
              <a:chExt cx="4200120" cy="285840"/>
            </a:xfrm>
          </p:grpSpPr>
          <p:sp>
            <p:nvSpPr>
              <p:cNvPr id="373" name=""/>
              <p:cNvSpPr/>
              <p:nvPr/>
            </p:nvSpPr>
            <p:spPr>
              <a:xfrm flipH="1">
                <a:off x="1913040" y="2338200"/>
                <a:ext cx="1575000" cy="28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48040" y="2338200"/>
                <a:ext cx="1365120" cy="28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119120" y="2338200"/>
                <a:ext cx="0" cy="28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2870640" y="2967120"/>
              <a:ext cx="2217960" cy="623520"/>
              <a:chOff x="2870640" y="2967120"/>
              <a:chExt cx="2217960" cy="623520"/>
            </a:xfrm>
          </p:grpSpPr>
          <p:sp>
            <p:nvSpPr>
              <p:cNvPr id="377" name=""/>
              <p:cNvSpPr/>
              <p:nvPr/>
            </p:nvSpPr>
            <p:spPr>
              <a:xfrm>
                <a:off x="2870640" y="3314520"/>
                <a:ext cx="2217960" cy="276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rawableSqua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044960" y="2967120"/>
                <a:ext cx="0" cy="28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62120" y="38088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Java Interfaces--Partial Solution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633680" y="2119320"/>
            <a:ext cx="6078960" cy="2219040"/>
            <a:chOff x="1633680" y="2119320"/>
            <a:chExt cx="6078960" cy="2219040"/>
          </a:xfrm>
        </p:grpSpPr>
        <p:sp>
          <p:nvSpPr>
            <p:cNvPr id="381" name=""/>
            <p:cNvSpPr/>
            <p:nvPr/>
          </p:nvSpPr>
          <p:spPr>
            <a:xfrm>
              <a:off x="3361320" y="2747880"/>
              <a:ext cx="2725920" cy="27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aw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61320" y="3376440"/>
              <a:ext cx="2725920" cy="27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61320" y="2119320"/>
              <a:ext cx="2725920" cy="27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1633680" y="4062240"/>
              <a:ext cx="6078960" cy="276120"/>
              <a:chOff x="1633680" y="4062240"/>
              <a:chExt cx="6078960" cy="276120"/>
            </a:xfrm>
          </p:grpSpPr>
          <p:sp>
            <p:nvSpPr>
              <p:cNvPr id="385" name=""/>
              <p:cNvSpPr/>
              <p:nvPr/>
            </p:nvSpPr>
            <p:spPr>
              <a:xfrm>
                <a:off x="1633680" y="4062240"/>
                <a:ext cx="1710000" cy="276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irc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868920" y="4062240"/>
                <a:ext cx="1710000" cy="276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ectang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002640" y="4062240"/>
                <a:ext cx="1710000" cy="276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iang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640600" y="3657600"/>
              <a:ext cx="4064400" cy="285480"/>
              <a:chOff x="2640600" y="3657600"/>
              <a:chExt cx="4064400" cy="285480"/>
            </a:xfrm>
          </p:grpSpPr>
          <p:sp>
            <p:nvSpPr>
              <p:cNvPr id="389" name=""/>
              <p:cNvSpPr/>
              <p:nvPr/>
            </p:nvSpPr>
            <p:spPr>
              <a:xfrm flipH="1">
                <a:off x="2640600" y="3657600"/>
                <a:ext cx="1523880" cy="28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384160" y="3657600"/>
                <a:ext cx="1320840" cy="28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74320" y="3657600"/>
                <a:ext cx="0" cy="28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775040" y="2400120"/>
              <a:ext cx="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75040" y="302868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989640" y="1246320"/>
            <a:ext cx="42966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sert a new class into 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object hierarchy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5486400"/>
            <a:ext cx="6954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d ide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aw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ed not be a property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o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ality where it might not be need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868560" y="4343400"/>
            <a:ext cx="1711080" cy="623520"/>
            <a:chOff x="3868560" y="4343400"/>
            <a:chExt cx="1711080" cy="623520"/>
          </a:xfrm>
        </p:grpSpPr>
        <p:sp>
          <p:nvSpPr>
            <p:cNvPr id="397" name=""/>
            <p:cNvSpPr/>
            <p:nvPr/>
          </p:nvSpPr>
          <p:spPr>
            <a:xfrm>
              <a:off x="3868560" y="4690800"/>
              <a:ext cx="1711080" cy="27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qu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74680" y="4343400"/>
              <a:ext cx="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762120" y="15228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Java</a:t>
            </a: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920" y="838080"/>
            <a:ext cx="6553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s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rea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us to extend functionalit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ithout disturb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hierarchies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3048120"/>
            <a:ext cx="2727360" cy="27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2362320"/>
            <a:ext cx="2727360" cy="27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33720" y="3905280"/>
            <a:ext cx="1711080" cy="27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3040" y="3905280"/>
            <a:ext cx="1711440" cy="27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064040" y="3905280"/>
            <a:ext cx="1711440" cy="27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51160" y="5334120"/>
            <a:ext cx="2016000" cy="27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able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28840" y="264312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211040" y="3328920"/>
            <a:ext cx="609480" cy="51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28840" y="3328920"/>
            <a:ext cx="711360" cy="51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0200" y="3328920"/>
            <a:ext cx="1726920" cy="51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86200" y="4724280"/>
            <a:ext cx="1914480" cy="33336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5334120"/>
            <a:ext cx="2524320" cy="27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awableRect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67080" y="6019920"/>
            <a:ext cx="2320920" cy="27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able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19360" y="4186080"/>
            <a:ext cx="0" cy="108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97000" y="4876920"/>
            <a:ext cx="3589200" cy="5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3040" y="4476600"/>
            <a:ext cx="1305000" cy="27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86400" y="426708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48160" y="4186080"/>
            <a:ext cx="0" cy="108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4960" y="4186080"/>
            <a:ext cx="0" cy="28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3040" y="5791320"/>
            <a:ext cx="2219400" cy="27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able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000" y="4757760"/>
            <a:ext cx="0" cy="9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057400"/>
            <a:ext cx="3641760" cy="1419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s our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plex, but mak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rything els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04920" y="685800"/>
            <a:ext cx="7696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functionalit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tho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urbin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ierarchy, e.g., make our exist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qua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raw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interface Drawabl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no constructors!  no default methods!  just method header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drawMe (Graphics 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of Draw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class DrawableSquare extends Square implements Drawabl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"exte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: we inherit everything that Square has - no nee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re-write any constructors, accessors, modifie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“impl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: must have code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awMe( 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at l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declare it as abstract) in order to satisfy interface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drawMe (Graphics g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.drawRect (0,0,iSideSize,iSideSiz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of draw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of Drawable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2120" y="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Java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00600" y="762120"/>
            <a:ext cx="578376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just what they say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vide interfa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concern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d logical properties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to provide shared interface/functional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e independ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hierarch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, interface identifiers end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ab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i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aw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n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d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rchas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98680" y="5562720"/>
            <a:ext cx="2523960" cy="33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able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98680" y="4191120"/>
            <a:ext cx="2523960" cy="33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43400" y="4191120"/>
            <a:ext cx="2523960" cy="33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343400" y="5562720"/>
            <a:ext cx="2523960" cy="33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able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4876920"/>
            <a:ext cx="2523960" cy="33336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709720" y="4529160"/>
            <a:ext cx="0" cy="9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54800" y="4529160"/>
            <a:ext cx="0" cy="9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2514240" y="5029200"/>
            <a:ext cx="304020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15228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Java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50480" y="838080"/>
            <a:ext cx="80366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interface Printabl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printMe(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of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class PrintableText extends TextFile implements Printabl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inherits from Text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must have printMe( ) method to implement Prin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printMe(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code to print the text file goes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 print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 Printable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class PrintableGraphics extends Graphics implements Printabl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inherits from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must have printMe( ) method to implement Prin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printMe(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code to print the Graphics object goes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 print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 Printable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Interface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03360" y="1371600"/>
            <a:ext cx="5767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now us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n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a type, e.g.,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implement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nter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an arr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nt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able[ ] printerQueue = new Printable[10]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rra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nter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now hand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yth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implements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n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n example of 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polymorphism at work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5228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Interface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685800"/>
            <a:ext cx="8686800" cy="66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nteraction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Java GUI are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generic term for Component in other GUIs (e.g. X Windows) is "widget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 types of components for different 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 (e.g. buttons, etc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actions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ea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thu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ent-driven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rule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not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ded to the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 to rule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p up men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u it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ded to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0"/>
            <a:ext cx="77724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GUI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69720" y="1295280"/>
            <a:ext cx="72867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yntax notes re: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face metho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must be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must be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instance method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abs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default (no need to explicitly decla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them to be abstract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 variables may be inheri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interf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2860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Interface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838080" y="30492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Java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83880" y="1600200"/>
            <a:ext cx="5177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independ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class hierarch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now consider bo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you a &lt;ClassName&g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n you do &lt;Functionality&g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interfaces wh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want t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actor out commonal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mong classes, 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o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want a relationsh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hose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552600"/>
            <a:ext cx="80773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Example Interface: Enum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" y="1523880"/>
            <a:ext cx="7086600" cy="39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umeration i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not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ass Vector and others (e.g. Hashtable)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be implemented by any other classes which are defin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o implement it (e.g., linked list, BST, graph, etc.)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face specifies that all classes which imple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Enumera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st impl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two metho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blic boolean hasMoreElements(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blic Object nextElement(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533520" y="1523880"/>
            <a:ext cx="741204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s methods needed to enumerate (or iterate through) a se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of value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, use methods in a loop to see if there’s an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element to return and, if so, to return a reference to it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kes no promises about the order in which elements a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encountered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 may be iterated through only once;  there is no way 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set to the begin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" y="5526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ample Interface: Enum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685800" y="304920"/>
            <a:ext cx="774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Event Driven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92000" y="1246320"/>
            <a:ext cx="751392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ditional programm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gram’s main algorithm governs the flow of contro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throughout th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ral mod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step A, then do step B, then do C or D, then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nt-driven programm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gram waits for the user to do something, processes tha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event, then waits for the user agai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ral mod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t user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ss user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 something that respo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 that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d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457200" y="1219320"/>
            <a:ext cx="67262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ype of event-driven programm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ype of application that uses graphic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ppl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s for the user to do something, e.g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the m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he m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a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es that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something based on that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 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gra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i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til you press a butt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gra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you pressed a butt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gram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es someth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d on the fact tha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you pressed that button, e.g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 the sc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art a g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152280"/>
            <a:ext cx="774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vent Driven Programming: Applet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28600" y="1143000"/>
            <a:ext cx="754380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all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ecific st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n applet’s lifecyc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init(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by browser or applet viewer: tells applet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 has be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loa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o the system.  I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 appl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start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by browser or applet viewer, tells applet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ecut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paint(Graphics 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nts the component (draws the component): tells app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int (draw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contents of a compon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stop(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by browser or applet viewe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ls it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op exec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destroy(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by browser or applet viewer: tells applet that it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ing kill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at it should destroy resources that it h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d so that they can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laim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other u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52280"/>
            <a:ext cx="774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vent Driven Programming: Applet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09480" y="152280"/>
            <a:ext cx="774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2280" y="762120"/>
            <a:ext cx="7898040" cy="50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ava.awt.ev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eatures common event method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Performed(ActionEvent)  //  Called if an action occurs in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//  Compon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Pressed(KeyEvent)               //  Called if a character is pres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Released(KeyEvent)              //  Called if a character is rel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Pressed(MouseEvent)     // Called if the mouse is dow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Dragged(MouseEvent)    //  Called if the mouse is drag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Entered(MouseEvent)      //  Called when the mouse ent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//  compon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Exited(MouseEvent)        // Called when the mouse exits 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//  compon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Moved(MouseEvent)        //  Called if the mo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moves (button is up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mouseReleased(MouseEvent)   //  Called if the mo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 button is rel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5800" y="304920"/>
            <a:ext cx="774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Handling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2280" y="1143000"/>
            <a:ext cx="6904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component, such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n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nu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ave events happen to i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 example, a user c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a menu item from a Menu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g the mouse over a Can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text into a Text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n a Check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c.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void slow-downs in program execution, Java do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utomatically "handle" any of these events . . 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l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programm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plicit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ls Jav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o 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80880" y="1143000"/>
            <a:ext cx="756468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rder to capture an event, you need to have an appropriate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vent listen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vent listen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specifies some event-handling methods for the particular type of event to be hand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 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onListen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fies the metho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actionPerformed(ActionEvent &lt;eventName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 complete listing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ste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tho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y requi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refer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.1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ava in a Nutshell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 the java.awt.event.* pack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228600"/>
            <a:ext cx="774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Handling Events --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9360" y="914400"/>
            <a:ext cx="748584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        - generic widget that you can interact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ton           - a widget that you can 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vas          - a widget that you can draw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box      - a widget that is checked or not che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ice           - an option menu that drop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er      - a generic class that contains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el             - a container to be used inside anoth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container; used to split an existing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            - a single line of read-only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               - a list of Str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ollbar       - a horizontal or vertical scroll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Area   - multi-line editable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Field   - single-line editable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52280"/>
            <a:ext cx="876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The AWT Component </a:t>
            </a:r>
            <a:r>
              <a:rPr b="1" i="1" lang="en-US" sz="3200" spc="-1" strike="noStrike">
                <a:solidFill>
                  <a:srgbClr val="3333cc"/>
                </a:solidFill>
                <a:latin typeface="Arial Black"/>
              </a:rPr>
              <a:t>Class</a:t>
            </a: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687240" y="512640"/>
            <a:ext cx="774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Registering Event Hand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143000"/>
            <a:ext cx="7694640" cy="50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have Java us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vent listen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you must tell Java to do so b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st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specific event, 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dListen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built in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each compon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 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nuI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the metho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ActionListener(ActionListener 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on listen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itself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ng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on listen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fies that, whenever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nuI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ts an action event, it will call the metho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onPerformed(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n all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onListe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en added 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 interfaces are contracts, Java guarante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any class that implement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onListen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must provide code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onPerformed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228600"/>
            <a:ext cx="774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riting Event Hand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1219320"/>
            <a:ext cx="700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 write an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vent hand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a class that implements one or more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sten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terfa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 "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tch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" the ev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code for the appropria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ent handler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ying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pon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v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your event handler class with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dListen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ose even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you want to cat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828800" y="5334120"/>
            <a:ext cx="2895120" cy="457200"/>
            <a:chOff x="1828800" y="5334120"/>
            <a:chExt cx="2895120" cy="457200"/>
          </a:xfrm>
        </p:grpSpPr>
        <p:sp>
          <p:nvSpPr>
            <p:cNvPr id="464" name=""/>
            <p:cNvSpPr/>
            <p:nvPr/>
          </p:nvSpPr>
          <p:spPr>
            <a:xfrm>
              <a:off x="1828800" y="5334120"/>
              <a:ext cx="212328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xample follo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52080" y="5562720"/>
              <a:ext cx="771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03120" y="914400"/>
            <a:ext cx="78462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java.applet.Apple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java.awt.even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class simpleApplet extends Applet implements ActionListen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ton other, printHel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vas myCanv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init(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set up "other" button; have its action event go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= new Button( "other"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.addActionListener (thi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set up "printHello" button; action event go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Hello = new Button( "Print ‘Hello World’"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Hello.addActionListener (this);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52280"/>
            <a:ext cx="774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riting Event Handlers: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362320" y="5638680"/>
            <a:ext cx="1828800" cy="457200"/>
            <a:chOff x="2362320" y="5638680"/>
            <a:chExt cx="1828800" cy="457200"/>
          </a:xfrm>
        </p:grpSpPr>
        <p:sp>
          <p:nvSpPr>
            <p:cNvPr id="469" name=""/>
            <p:cNvSpPr/>
            <p:nvPr/>
          </p:nvSpPr>
          <p:spPr>
            <a:xfrm>
              <a:off x="2362320" y="5638680"/>
              <a:ext cx="129564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ntinu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57960" y="58672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48320" y="685800"/>
            <a:ext cx="69361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set up Canvas to draw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Canvas = new Canvas(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place components on scre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Layout( new BorderLayout( 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( printHello, "North"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( other, "South"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( myCanvas, "Center"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 i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actionPerformed ( ActionEvent evt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print a simple message to see what button was p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getSource( ) returns a reference to the object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/ caused the event to happen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 evt.getSource( ) = = othe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.out.println( “other pressed.”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.out.println( “Print 'Hello World' pressed.”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int(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 actionPerfor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4724280" y="5867280"/>
            <a:ext cx="1828800" cy="457200"/>
            <a:chOff x="4724280" y="5867280"/>
            <a:chExt cx="1828800" cy="457200"/>
          </a:xfrm>
        </p:grpSpPr>
        <p:sp>
          <p:nvSpPr>
            <p:cNvPr id="473" name=""/>
            <p:cNvSpPr/>
            <p:nvPr/>
          </p:nvSpPr>
          <p:spPr>
            <a:xfrm>
              <a:off x="4724280" y="5867280"/>
              <a:ext cx="1295640" cy="457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ntinu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19920" y="60958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583200" y="1355760"/>
            <a:ext cx="69487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paint( Graphics g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.out.println( "paint( ) called"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Canvas.getGraphics( ).drawString( "painting!", 0, 115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Canvas.getGraphics( ).setColor( Color.magenta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Canvas.getGraphics( ).fillOval( 220, 220, 50, 50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Canvas.getGraphics( ).setColor( Color.black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Canvas.getGraphics( ).drawOval( 220, 220, 50, 50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 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 simple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5800" y="152280"/>
            <a:ext cx="774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vent Handling: General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71520" y="1066680"/>
            <a:ext cx="62676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ur general options for event handl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 Event Liste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use interfaces.  Good for low-level contr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  Event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use objects.  More selec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.  Semantic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for simple event hand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.  ‘Old’ JDK 1.02 ev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not recommended; useful in r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um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609480" y="152280"/>
            <a:ext cx="774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Option #1: Event Liste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4920" y="914400"/>
            <a:ext cx="740700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noted, one can ‘ad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Y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ener’ to a component, e.g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TestApplet extends Applet implements MouseListener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myButt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init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Button = new Button(“Click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Button.addMouseListener(thi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 // Test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using listener interfaces, one must cod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vent methods-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ven those we are not interested in.  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Wasted code aris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void mouseEntered(MouseEvent e){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void mouseExited(MouseEvent e){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void mouseClicked(MouseEvent e){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void mouseReleased(MouseEvent e){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void mousePr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ouseEvent e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* handle mouse event */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43434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449568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-op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2280" y="5410080"/>
            <a:ext cx="212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method 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something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09680" y="5867280"/>
            <a:ext cx="6098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295280" y="3276720"/>
            <a:ext cx="4953240" cy="129528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52280"/>
            <a:ext cx="774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Option #2: Event Adap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6840" y="838080"/>
            <a:ext cx="746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ddition to interfaces, the java.awt.event.* package prov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er” classes that can be subclas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need to code every method; just override the method you ne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8480" y="3352680"/>
            <a:ext cx="5484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void mouseEntered(MouseEvent e){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void mouseExited(MouseEvent e){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void mouseClicked(MouseEvent e){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void mouseReleased(MouseEvent e){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void mousePressed(MouseEvent e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* handle mouse event */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14400" y="3048120"/>
            <a:ext cx="563868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066680" y="3048120"/>
            <a:ext cx="563904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3040" y="2286000"/>
            <a:ext cx="576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class EventHandler extends MouseAdapt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560" y="5791320"/>
            <a:ext cx="36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Less wasted code; but you 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up your single inheritanc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685800" y="228600"/>
            <a:ext cx="774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Event Adapters: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4920" y="838080"/>
            <a:ext cx="5867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class TestApplet extends Apple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Button myButt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EventHandler han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init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 = new EventHandler(thi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Button = new Button(“Click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Button.addMouseListener(thi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 . . . 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takeActions() { . . . 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class EventHandler extends MouseAdapter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Applet myApple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EventHandler(TestApplet myApple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.myApplet = myApple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void mousePressed(MouseEvent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pplet .takeActions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29400" y="1295280"/>
            <a:ext cx="1676520" cy="137160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ng ‘thi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-b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81480" y="5334120"/>
            <a:ext cx="1676520" cy="137160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 hand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ac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6019560" y="160020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3047760" y="6095880"/>
            <a:ext cx="20574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324120" y="2514600"/>
            <a:ext cx="121932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85800" y="228600"/>
            <a:ext cx="774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Option #3: Semantic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990720"/>
            <a:ext cx="7010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regoing options (interfaces and objects) inv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-level ev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 processing may also occur through the use of semantic ev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ike listeners/adapters, these are high-level, component-based ev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essentially ‘funnel’ a variety of low-level events into a single meth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You lose ability to catch small, granular events (e.g., mouseEntered/Exited are not possibl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ALL events delivered to a few method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 handling relies on complex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if/else struc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762120"/>
            <a:ext cx="748512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v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ically a drawing surface on which shapes, graphs, pictures, etc can be drawn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ze mouse events and mouse motion events to interact with the user to accomplish the drawing task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xtFiel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one-line data entry are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oretically infinite in leng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genera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ey ev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indicate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ser has typed a ke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ypically, it generates 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tion ev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user finishes the data entry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t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xtFie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52280"/>
            <a:ext cx="771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Components--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28600" y="1447920"/>
            <a:ext cx="7086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9144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90720" y="990720"/>
            <a:ext cx="170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ntic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79120" y="990720"/>
            <a:ext cx="325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and Firing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79280" y="1614600"/>
            <a:ext cx="13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911400" y="1614600"/>
            <a:ext cx="19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ton (activa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909960" y="1879560"/>
            <a:ext cx="222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 (double-click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11760" y="2141640"/>
            <a:ext cx="219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Item (selec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10680" y="2406600"/>
            <a:ext cx="183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Field (ty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079640" y="2936880"/>
            <a:ext cx="187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justment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11400" y="2936880"/>
            <a:ext cx="19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ollbar (mov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143000" y="365760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86920" y="3657600"/>
            <a:ext cx="32878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box (toggl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boxMenuItem (selec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ice (selec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 (selec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143000" y="510552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09880" y="5105520"/>
            <a:ext cx="3708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Compon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ext chan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4600" y="152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emantic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51080" y="1447920"/>
            <a:ext cx="7180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earlier version of Java used “boolean” return valu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o indicate consumption of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recommended; still used for some web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not mix JDK 1.1 and JDK 1.02 event handlers--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mponent ceases to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re use: JDK 1.02 guarantees which event will arr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irst to a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94160" y="304920"/>
            <a:ext cx="58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(non) Option #4: JDK 1.02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07080" y="1676520"/>
            <a:ext cx="2008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 Liste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terfa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 Adap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herit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ntic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92240" y="121932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                       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39720" y="1676520"/>
            <a:ext cx="218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code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s; wastef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-ops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15680" y="2819520"/>
            <a:ext cx="179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up si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514960" y="41911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f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030640" y="4191120"/>
            <a:ext cx="138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031000" y="167652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089680" y="30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029200" y="2819520"/>
            <a:ext cx="215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abstrac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ride tho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n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0880" y="16002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62320" y="12193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75600" y="228600"/>
            <a:ext cx="71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Event Handling Options: How to De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609480" y="228600"/>
            <a:ext cx="774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Debugging</a:t>
            </a: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re: Event Hand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1066680"/>
            <a:ext cx="75168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bugging an event-driven program (whether applet or graphica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application) is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ore trick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n debugging a non-event-driv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program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an event-driven Java program,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you don't explicitly code any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kind of event-handling lo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"polls" for occurring events, 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calls the appropriate handler(s) for those ev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the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ava internals handle this polling action for yo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Debugging becomes trickier because now you have to make su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hat your event handling code works correctly.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also have to make sure you're handling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correct ev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first place!  For examp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code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useEntered(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work perfectl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if you're expecting it to get called when 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user clicks a mouse button, it won't be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85800" y="228600"/>
            <a:ext cx="774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Debugging re: Event Hand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880" y="1143000"/>
            <a:ext cx="74152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n debugging event-driven programs writ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Java, the steps a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 sure you're handling the appropriate ev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 out on paper what events get thrown from wh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mponents, and what class(es) handle th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ndle the events appropriately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his is the kind of debugging you're already familiar with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Once you're sure the appropriate ev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getting handled, the rest is being s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vent-handling code (and the code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vent handlers call) wo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Example: Create a Paint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0480" y="1066680"/>
            <a:ext cx="351396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Go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reate applet th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user to dra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m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use drag dra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use up stops dra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 color selec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ton to clear can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show three versions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using different even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ing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28600" y="1828440"/>
            <a:ext cx="223920" cy="3071880"/>
            <a:chOff x="228600" y="1828440"/>
            <a:chExt cx="223920" cy="3071880"/>
          </a:xfrm>
        </p:grpSpPr>
        <p:pic>
          <p:nvPicPr>
            <p:cNvPr id="538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228600" y="1828440"/>
              <a:ext cx="22392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228600" y="2742840"/>
              <a:ext cx="22392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228600" y="3352680"/>
              <a:ext cx="22392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228600" y="3962160"/>
              <a:ext cx="22392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5"/>
            <a:stretch/>
          </p:blipFill>
          <p:spPr>
            <a:xfrm flipH="1" rot="10800000">
              <a:off x="228600" y="4571640"/>
              <a:ext cx="223920" cy="32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"/>
          <p:cNvSpPr/>
          <p:nvPr/>
        </p:nvSpPr>
        <p:spPr>
          <a:xfrm rot="10800000">
            <a:off x="7543800" y="4191120"/>
            <a:ext cx="1224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648320" y="914400"/>
            <a:ext cx="3352680" cy="3657600"/>
            <a:chOff x="4648320" y="914400"/>
            <a:chExt cx="3352680" cy="3657600"/>
          </a:xfrm>
        </p:grpSpPr>
        <p:sp>
          <p:nvSpPr>
            <p:cNvPr id="545" name=""/>
            <p:cNvSpPr/>
            <p:nvPr/>
          </p:nvSpPr>
          <p:spPr>
            <a:xfrm>
              <a:off x="7467480" y="4114800"/>
              <a:ext cx="238320" cy="1890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06880" y="1152360"/>
              <a:ext cx="2694240" cy="28022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00600" y="4114800"/>
              <a:ext cx="719280" cy="18900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83280" y="4097160"/>
              <a:ext cx="479520" cy="189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7880" y="403848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nColor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48320" y="914400"/>
              <a:ext cx="3352680" cy="3657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884560" y="2772720"/>
            <a:ext cx="462240" cy="440280"/>
            <a:chOff x="5884560" y="2772720"/>
            <a:chExt cx="462240" cy="440280"/>
          </a:xfrm>
        </p:grpSpPr>
        <p:sp>
          <p:nvSpPr>
            <p:cNvPr id="552" name=""/>
            <p:cNvSpPr/>
            <p:nvPr/>
          </p:nvSpPr>
          <p:spPr>
            <a:xfrm rot="18900000">
              <a:off x="5943600" y="2819880"/>
              <a:ext cx="244800" cy="268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8900000">
              <a:off x="6218640" y="3007800"/>
              <a:ext cx="61200" cy="21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5334120" y="1371600"/>
            <a:ext cx="2066760" cy="1908000"/>
          </a:xfrm>
          <a:custGeom>
            <a:avLst/>
            <a:gdLst/>
            <a:ahLst/>
            <a:rect l="l" t="t" r="r" b="b"/>
            <a:pathLst>
              <a:path w="1628" h="1703">
                <a:moveTo>
                  <a:pt x="487" y="1326"/>
                </a:moveTo>
                <a:cubicBezTo>
                  <a:pt x="485" y="1314"/>
                  <a:pt x="486" y="1301"/>
                  <a:pt x="480" y="1291"/>
                </a:cubicBezTo>
                <a:cubicBezTo>
                  <a:pt x="476" y="1284"/>
                  <a:pt x="465" y="1283"/>
                  <a:pt x="459" y="1277"/>
                </a:cubicBezTo>
                <a:cubicBezTo>
                  <a:pt x="423" y="1241"/>
                  <a:pt x="400" y="1213"/>
                  <a:pt x="348" y="1200"/>
                </a:cubicBezTo>
                <a:cubicBezTo>
                  <a:pt x="324" y="1182"/>
                  <a:pt x="297" y="1175"/>
                  <a:pt x="278" y="1152"/>
                </a:cubicBezTo>
                <a:cubicBezTo>
                  <a:pt x="263" y="1134"/>
                  <a:pt x="236" y="1096"/>
                  <a:pt x="236" y="1096"/>
                </a:cubicBezTo>
                <a:cubicBezTo>
                  <a:pt x="224" y="1059"/>
                  <a:pt x="211" y="1022"/>
                  <a:pt x="201" y="984"/>
                </a:cubicBezTo>
                <a:cubicBezTo>
                  <a:pt x="203" y="951"/>
                  <a:pt x="196" y="917"/>
                  <a:pt x="208" y="886"/>
                </a:cubicBezTo>
                <a:cubicBezTo>
                  <a:pt x="214" y="870"/>
                  <a:pt x="250" y="858"/>
                  <a:pt x="250" y="858"/>
                </a:cubicBezTo>
                <a:cubicBezTo>
                  <a:pt x="376" y="863"/>
                  <a:pt x="488" y="868"/>
                  <a:pt x="606" y="907"/>
                </a:cubicBezTo>
                <a:cubicBezTo>
                  <a:pt x="673" y="905"/>
                  <a:pt x="741" y="910"/>
                  <a:pt x="808" y="900"/>
                </a:cubicBezTo>
                <a:cubicBezTo>
                  <a:pt x="825" y="898"/>
                  <a:pt x="836" y="881"/>
                  <a:pt x="850" y="872"/>
                </a:cubicBezTo>
                <a:cubicBezTo>
                  <a:pt x="857" y="867"/>
                  <a:pt x="871" y="858"/>
                  <a:pt x="871" y="858"/>
                </a:cubicBezTo>
                <a:cubicBezTo>
                  <a:pt x="876" y="851"/>
                  <a:pt x="880" y="844"/>
                  <a:pt x="885" y="838"/>
                </a:cubicBezTo>
                <a:cubicBezTo>
                  <a:pt x="894" y="828"/>
                  <a:pt x="905" y="820"/>
                  <a:pt x="913" y="810"/>
                </a:cubicBezTo>
                <a:cubicBezTo>
                  <a:pt x="937" y="779"/>
                  <a:pt x="946" y="742"/>
                  <a:pt x="955" y="705"/>
                </a:cubicBezTo>
                <a:cubicBezTo>
                  <a:pt x="953" y="663"/>
                  <a:pt x="956" y="620"/>
                  <a:pt x="948" y="579"/>
                </a:cubicBezTo>
                <a:cubicBezTo>
                  <a:pt x="941" y="541"/>
                  <a:pt x="818" y="527"/>
                  <a:pt x="794" y="524"/>
                </a:cubicBezTo>
                <a:cubicBezTo>
                  <a:pt x="545" y="530"/>
                  <a:pt x="326" y="536"/>
                  <a:pt x="76" y="531"/>
                </a:cubicBezTo>
                <a:cubicBezTo>
                  <a:pt x="46" y="511"/>
                  <a:pt x="40" y="487"/>
                  <a:pt x="27" y="454"/>
                </a:cubicBezTo>
                <a:cubicBezTo>
                  <a:pt x="33" y="320"/>
                  <a:pt x="0" y="256"/>
                  <a:pt x="124" y="231"/>
                </a:cubicBezTo>
                <a:cubicBezTo>
                  <a:pt x="323" y="235"/>
                  <a:pt x="413" y="228"/>
                  <a:pt x="571" y="251"/>
                </a:cubicBezTo>
                <a:cubicBezTo>
                  <a:pt x="666" y="283"/>
                  <a:pt x="772" y="315"/>
                  <a:pt x="871" y="335"/>
                </a:cubicBezTo>
                <a:cubicBezTo>
                  <a:pt x="927" y="369"/>
                  <a:pt x="978" y="366"/>
                  <a:pt x="1045" y="377"/>
                </a:cubicBezTo>
                <a:cubicBezTo>
                  <a:pt x="1093" y="385"/>
                  <a:pt x="1138" y="403"/>
                  <a:pt x="1185" y="412"/>
                </a:cubicBezTo>
                <a:cubicBezTo>
                  <a:pt x="1224" y="431"/>
                  <a:pt x="1249" y="462"/>
                  <a:pt x="1275" y="496"/>
                </a:cubicBezTo>
                <a:cubicBezTo>
                  <a:pt x="1285" y="509"/>
                  <a:pt x="1303" y="538"/>
                  <a:pt x="1303" y="538"/>
                </a:cubicBezTo>
                <a:cubicBezTo>
                  <a:pt x="1311" y="570"/>
                  <a:pt x="1327" y="596"/>
                  <a:pt x="1338" y="628"/>
                </a:cubicBezTo>
                <a:cubicBezTo>
                  <a:pt x="1340" y="635"/>
                  <a:pt x="1345" y="649"/>
                  <a:pt x="1345" y="649"/>
                </a:cubicBezTo>
                <a:cubicBezTo>
                  <a:pt x="1340" y="721"/>
                  <a:pt x="1357" y="800"/>
                  <a:pt x="1324" y="865"/>
                </a:cubicBezTo>
                <a:cubicBezTo>
                  <a:pt x="1285" y="941"/>
                  <a:pt x="1205" y="999"/>
                  <a:pt x="1143" y="1054"/>
                </a:cubicBezTo>
                <a:cubicBezTo>
                  <a:pt x="1134" y="1062"/>
                  <a:pt x="1125" y="1069"/>
                  <a:pt x="1115" y="1075"/>
                </a:cubicBezTo>
                <a:cubicBezTo>
                  <a:pt x="1106" y="1081"/>
                  <a:pt x="1095" y="1082"/>
                  <a:pt x="1087" y="1089"/>
                </a:cubicBezTo>
                <a:cubicBezTo>
                  <a:pt x="1011" y="1152"/>
                  <a:pt x="967" y="1237"/>
                  <a:pt x="899" y="1305"/>
                </a:cubicBezTo>
                <a:cubicBezTo>
                  <a:pt x="897" y="1314"/>
                  <a:pt x="895" y="1324"/>
                  <a:pt x="892" y="1333"/>
                </a:cubicBezTo>
                <a:cubicBezTo>
                  <a:pt x="888" y="1343"/>
                  <a:pt x="881" y="1351"/>
                  <a:pt x="878" y="1361"/>
                </a:cubicBezTo>
                <a:cubicBezTo>
                  <a:pt x="871" y="1384"/>
                  <a:pt x="864" y="1431"/>
                  <a:pt x="864" y="1431"/>
                </a:cubicBezTo>
                <a:cubicBezTo>
                  <a:pt x="869" y="1489"/>
                  <a:pt x="870" y="1547"/>
                  <a:pt x="878" y="1605"/>
                </a:cubicBezTo>
                <a:cubicBezTo>
                  <a:pt x="884" y="1645"/>
                  <a:pt x="949" y="1679"/>
                  <a:pt x="982" y="1696"/>
                </a:cubicBezTo>
                <a:cubicBezTo>
                  <a:pt x="1050" y="1691"/>
                  <a:pt x="1121" y="1703"/>
                  <a:pt x="1185" y="1682"/>
                </a:cubicBezTo>
                <a:cubicBezTo>
                  <a:pt x="1267" y="1655"/>
                  <a:pt x="1321" y="1622"/>
                  <a:pt x="1380" y="1563"/>
                </a:cubicBezTo>
                <a:cubicBezTo>
                  <a:pt x="1387" y="1556"/>
                  <a:pt x="1400" y="1556"/>
                  <a:pt x="1408" y="1549"/>
                </a:cubicBezTo>
                <a:lnTo>
                  <a:pt x="1457" y="1500"/>
                </a:lnTo>
                <a:cubicBezTo>
                  <a:pt x="1457" y="1500"/>
                  <a:pt x="1457" y="1500"/>
                  <a:pt x="1457" y="1500"/>
                </a:cubicBezTo>
                <a:cubicBezTo>
                  <a:pt x="1490" y="1452"/>
                  <a:pt x="1517" y="1403"/>
                  <a:pt x="1547" y="1354"/>
                </a:cubicBezTo>
                <a:cubicBezTo>
                  <a:pt x="1559" y="1306"/>
                  <a:pt x="1582" y="1261"/>
                  <a:pt x="1596" y="1214"/>
                </a:cubicBezTo>
                <a:cubicBezTo>
                  <a:pt x="1610" y="1167"/>
                  <a:pt x="1610" y="1116"/>
                  <a:pt x="1617" y="1068"/>
                </a:cubicBezTo>
                <a:cubicBezTo>
                  <a:pt x="1628" y="908"/>
                  <a:pt x="1628" y="957"/>
                  <a:pt x="1617" y="740"/>
                </a:cubicBezTo>
                <a:cubicBezTo>
                  <a:pt x="1611" y="622"/>
                  <a:pt x="1559" y="480"/>
                  <a:pt x="1492" y="384"/>
                </a:cubicBezTo>
                <a:cubicBezTo>
                  <a:pt x="1479" y="365"/>
                  <a:pt x="1466" y="344"/>
                  <a:pt x="1450" y="328"/>
                </a:cubicBezTo>
                <a:cubicBezTo>
                  <a:pt x="1443" y="321"/>
                  <a:pt x="1435" y="315"/>
                  <a:pt x="1429" y="307"/>
                </a:cubicBezTo>
                <a:cubicBezTo>
                  <a:pt x="1381" y="244"/>
                  <a:pt x="1434" y="298"/>
                  <a:pt x="1387" y="245"/>
                </a:cubicBezTo>
                <a:cubicBezTo>
                  <a:pt x="1322" y="171"/>
                  <a:pt x="1218" y="104"/>
                  <a:pt x="1129" y="63"/>
                </a:cubicBezTo>
                <a:cubicBezTo>
                  <a:pt x="1116" y="57"/>
                  <a:pt x="1010" y="16"/>
                  <a:pt x="101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52280" y="812880"/>
            <a:ext cx="579132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1.  List 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mponents/Contain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.applet.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java.awt.Canv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java.awt.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java.awt.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java.awt.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java.awt.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2.  List Basic Behavi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use drag dra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ton clears can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ice changes pen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vas knows whether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(mouse drag)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(mouse is 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Design #1: Interface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533520" y="1066680"/>
            <a:ext cx="4952880" cy="53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3.  Outline classes, assig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from two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Drawing: Canvas sub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paint method dra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has reference to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boolean flags for clear/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Control panel: Panel sub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has Button, Label,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sets flags in canvas to clea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color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has reference to can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Top container: Applet sub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Border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Introduces classes to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Sets some initial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Design #1: Interface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228600" y="914400"/>
            <a:ext cx="3581280" cy="5105520"/>
            <a:chOff x="228600" y="914400"/>
            <a:chExt cx="3581280" cy="5105520"/>
          </a:xfrm>
        </p:grpSpPr>
        <p:sp>
          <p:nvSpPr>
            <p:cNvPr id="560" name=""/>
            <p:cNvSpPr/>
            <p:nvPr/>
          </p:nvSpPr>
          <p:spPr>
            <a:xfrm>
              <a:off x="228600" y="914400"/>
              <a:ext cx="3581280" cy="5105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3160" y="5105520"/>
              <a:ext cx="2971800" cy="60948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480" y="1524240"/>
              <a:ext cx="2819520" cy="3276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N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14400" y="5334120"/>
              <a:ext cx="685800" cy="2286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28800" y="5334120"/>
              <a:ext cx="685800" cy="2286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66880" y="5334120"/>
              <a:ext cx="685800" cy="2286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General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00600" y="1295280"/>
            <a:ext cx="38098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t (BorderLayo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add Canvas to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add ControlPanel to S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set initial values (siz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vas, pen col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94960" y="586728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gets (Butt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, Cho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72000" y="3886200"/>
            <a:ext cx="30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Panel (GridLayo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200400" y="4114800"/>
            <a:ext cx="13716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3505320" y="1294920"/>
            <a:ext cx="12952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3200040" y="548604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2133720" y="5486040"/>
            <a:ext cx="22860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1143000" y="5486040"/>
            <a:ext cx="32767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52280" y="914400"/>
            <a:ext cx="4572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NDATORY: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lan y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ross-class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52280" y="1676520"/>
            <a:ext cx="4192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is version, event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d by a Control 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uch a case, how to send events to Canv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-class communicatio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ntrol panel has a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rawCanvas, and the can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a reference to the Control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 (ver #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rnatively (ver #2), both have reference to Applet, which provides reference to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05640" y="243828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Q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828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4800600" y="304920"/>
          <a:ext cx="412416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4920"/>
                    <a:ext cx="412416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-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Design #1: Class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2700000">
            <a:off x="7686360" y="16866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s (ver #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18900000">
            <a:off x="4498560" y="17506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s (ver #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260320" y="43434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s (ver #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5105520" y="1752480"/>
            <a:ext cx="990360" cy="91440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7696080" y="1828800"/>
            <a:ext cx="914400" cy="91440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6019560" y="4114800"/>
            <a:ext cx="1447560" cy="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gon</cp:lastModifiedBy>
  <dcterms:modified xsi:type="dcterms:W3CDTF">1999-05-07T11:23:26Z</dcterms:modified>
  <cp:revision>19</cp:revision>
  <dc:subject/>
  <dc:title>Graphical User Interfa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c.gatech.edu/projects/gsams-java</vt:lpwstr>
  </property>
  <property fmtid="{D5CDD505-2E9C-101B-9397-08002B2CF9AE}" pid="9" name="LinkColor">
    <vt:r8>16711782</vt:r8>
  </property>
  <property fmtid="{D5CDD505-2E9C-101B-9397-08002B2CF9AE}" pid="10" name="MailAddress">
    <vt:lpwstr>dagon@cc.gatec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GSAMS\GSAMSwe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