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36576000"/>
  <p:notesSz cx="25750838" cy="35758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D6C-B376-4C39-8376-911B5828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220287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D66-3753-440F-AFAF-B6237010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0508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C0A-E2BC-4B28-87DE-2B1609ED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4104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2468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94104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82468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B25-A2B4-487C-B833-9EC53EB6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0AC-6757-4A52-82F5-9EF1BFD1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A56-4EFA-4173-8628-DC5EC084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5D4-7D5C-4A92-BA6E-652F338D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D47-2B74-449E-8BC2-1EFEE5C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250800"/>
            <a:ext cx="2331720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FA6-0E46-4FF2-AAB1-44DA20B3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9AF-3BB5-41DC-ABF2-55054139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0508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7E4-0ABA-476A-8B57-F6C71121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13E-7819-4548-B97D-5F5637FA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Times New Roman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3332448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332448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240" y="3332448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7AA4BA17-688F-4CB0-A1B3-7BFD8D622C23}" type="slidenum"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763120" y="33223320"/>
            <a:ext cx="9905760" cy="339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78520" y="23850720"/>
            <a:ext cx="9144000" cy="8610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4876560" cy="343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135720" y="18059400"/>
            <a:ext cx="8458200" cy="48265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ynamic Reconfig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ynamic selection of handler functiona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through us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izable handlers or by selecting from a set of existing hand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possibilities for runtime deployment of new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mission contr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use of resources such as head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both IXP- and host-side de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677520" y="8690040"/>
            <a:ext cx="8839080" cy="7569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PLIT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eam Hand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lightweight computational unit executed on the ANP which operates on both, packet header and payloa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PL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ftware architecture for Programmable LIghtweighT Stream hand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developers to dynamically deploy and configure service functionality onto attached network processors so as to best utilize the combined host/ANP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for standard Linux kernels and ANPs based on the Intel IXP network processo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8666280"/>
            <a:ext cx="8686800" cy="716796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programmable network processors in large scale distributed application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in improvements in end-user application performa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fficiently utilize host system capacit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to applications new services at no additional performance overheads perceived by end 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1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application- and middleware-level services across hosts and their attached NPs, thereby attaining integrated host-attached NP (ANP)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23850720"/>
            <a:ext cx="9068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st - Attached NP nod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platfo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block in overlay networks, interactive grids, p2p systems, cluster serve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7068680"/>
            <a:ext cx="6477120" cy="35053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7221320"/>
            <a:ext cx="6172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plic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ercial (OIS), scientific (RT collaborations), dynamic web applications (delivery of camera-captured dat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rvic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ication-level filtering, mirroring, stream differentiation, format translation, downsampl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59081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mple services implemented with stream handlers and SP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33520" y="26746200"/>
            <a:ext cx="7431120" cy="59450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9448920" y="16916400"/>
            <a:ext cx="7578720" cy="6389640"/>
            <a:chOff x="9448920" y="16916400"/>
            <a:chExt cx="7578720" cy="6389640"/>
          </a:xfrm>
        </p:grpSpPr>
        <p:sp>
          <p:nvSpPr>
            <p:cNvPr id="53" name=""/>
            <p:cNvSpPr/>
            <p:nvPr/>
          </p:nvSpPr>
          <p:spPr>
            <a:xfrm>
              <a:off x="9448920" y="16916400"/>
              <a:ext cx="7578720" cy="638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9448920" y="17064720"/>
              <a:ext cx="7281360" cy="6092640"/>
              <a:chOff x="9448920" y="17064720"/>
              <a:chExt cx="7281360" cy="609264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0935000" y="21968640"/>
                <a:ext cx="4755240" cy="1188720"/>
                <a:chOff x="10935000" y="21968640"/>
                <a:chExt cx="4755240" cy="1188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0935000" y="21968640"/>
                  <a:ext cx="4755240" cy="118872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1380680" y="22265640"/>
                  <a:ext cx="743040" cy="594360"/>
                </a:xfrm>
                <a:prstGeom prst="ellips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R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975040" y="22265640"/>
                  <a:ext cx="743040" cy="594360"/>
                </a:xfrm>
                <a:prstGeom prst="ellips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569400" y="22265640"/>
                  <a:ext cx="743040" cy="594360"/>
                </a:xfrm>
                <a:prstGeom prst="ellips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3609800" y="22265640"/>
                  <a:ext cx="743040" cy="594360"/>
                </a:xfrm>
                <a:prstGeom prst="ellips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4204160" y="22265640"/>
                  <a:ext cx="743040" cy="594360"/>
                </a:xfrm>
                <a:prstGeom prst="ellips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T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9448920" y="17064720"/>
                <a:ext cx="7281360" cy="5052240"/>
                <a:chOff x="9448920" y="17064720"/>
                <a:chExt cx="7281360" cy="50522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1529360" y="20779560"/>
                  <a:ext cx="1188720" cy="594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ntrol Mg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461120" y="20779560"/>
                  <a:ext cx="1188720" cy="594360"/>
                </a:xfrm>
                <a:prstGeom prst="rect">
                  <a:avLst/>
                </a:prstGeom>
                <a:solidFill>
                  <a:srgbClr val="66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g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0043280" y="21225600"/>
                  <a:ext cx="1188720" cy="59436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ontrol Dat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5095880" y="21225600"/>
                  <a:ext cx="1188720" cy="59436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 Buff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1975040" y="20333880"/>
                  <a:ext cx="0" cy="445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4055480" y="20333880"/>
                  <a:ext cx="0" cy="445680"/>
                </a:xfrm>
                <a:prstGeom prst="line">
                  <a:avLst/>
                </a:prstGeom>
                <a:ln w="9360">
                  <a:solidFill>
                    <a:srgbClr val="00008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2123720" y="21373920"/>
                  <a:ext cx="0" cy="148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11232000" y="21522600"/>
                  <a:ext cx="891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4055480" y="21373920"/>
                  <a:ext cx="0" cy="148320"/>
                </a:xfrm>
                <a:prstGeom prst="line">
                  <a:avLst/>
                </a:prstGeom>
                <a:ln w="9360">
                  <a:solidFill>
                    <a:srgbClr val="000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4055480" y="21522600"/>
                  <a:ext cx="1040040" cy="0"/>
                </a:xfrm>
                <a:prstGeom prst="line">
                  <a:avLst/>
                </a:prstGeom>
                <a:ln w="93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232000" y="21671280"/>
                  <a:ext cx="891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2123720" y="21671280"/>
                  <a:ext cx="0" cy="445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4055480" y="21671280"/>
                  <a:ext cx="1040040" cy="0"/>
                </a:xfrm>
                <a:prstGeom prst="line">
                  <a:avLst/>
                </a:prstGeom>
                <a:ln w="93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4055480" y="21671280"/>
                  <a:ext cx="0" cy="445680"/>
                </a:xfrm>
                <a:prstGeom prst="line">
                  <a:avLst/>
                </a:prstGeom>
                <a:ln w="93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9448920" y="17064720"/>
                  <a:ext cx="7281360" cy="3269160"/>
                  <a:chOff x="9448920" y="17064720"/>
                  <a:chExt cx="7281360" cy="326916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9745920" y="19442160"/>
                    <a:ext cx="1485720" cy="44568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source sta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1232000" y="19442160"/>
                    <a:ext cx="4160520" cy="89136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P-HOS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TERFAC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9448920" y="19888200"/>
                    <a:ext cx="7281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5541560" y="19442160"/>
                    <a:ext cx="891360" cy="44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OS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5541560" y="19888200"/>
                    <a:ext cx="743040" cy="44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P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" name=""/>
                  <p:cNvGrpSpPr/>
                  <p:nvPr/>
                </p:nvGrpSpPr>
                <p:grpSpPr>
                  <a:xfrm>
                    <a:off x="10191960" y="17064720"/>
                    <a:ext cx="4606560" cy="2377440"/>
                    <a:chOff x="10191960" y="17064720"/>
                    <a:chExt cx="4606560" cy="2377440"/>
                  </a:xfrm>
                </p:grpSpPr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10191960" y="18253440"/>
                      <a:ext cx="1337400" cy="59436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 Moni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12272400" y="18253440"/>
                      <a:ext cx="1337040" cy="59436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mission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12866760" y="17807760"/>
                      <a:ext cx="0" cy="4456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11529360" y="18550440"/>
                      <a:ext cx="743040" cy="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10637640" y="18847800"/>
                      <a:ext cx="0" cy="59436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12866760" y="18847800"/>
                      <a:ext cx="0" cy="59436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13906800" y="17807760"/>
                      <a:ext cx="0" cy="1634400"/>
                    </a:xfrm>
                    <a:prstGeom prst="line">
                      <a:avLst/>
                    </a:prstGeom>
                    <a:ln w="19080">
                      <a:solidFill>
                        <a:srgbClr val="00008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11232000" y="17064720"/>
                      <a:ext cx="3566520" cy="743040"/>
                      <a:chOff x="11232000" y="17064720"/>
                      <a:chExt cx="3566520" cy="743040"/>
                    </a:xfrm>
                  </p:grpSpPr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11232000" y="17064720"/>
                        <a:ext cx="3566520" cy="743040"/>
                      </a:xfrm>
                      <a:prstGeom prst="ellipse">
                        <a:avLst/>
                      </a:prstGeom>
                      <a:solidFill>
                        <a:srgbClr val="ccff66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pplication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" name=""/>
                      <p:cNvSpPr/>
                      <p:nvPr/>
                    </p:nvSpPr>
                    <p:spPr>
                      <a:xfrm>
                        <a:off x="13758120" y="17361720"/>
                        <a:ext cx="297000" cy="297360"/>
                      </a:xfrm>
                      <a:prstGeom prst="ellipse">
                        <a:avLst/>
                      </a:prstGeom>
                      <a:solidFill>
                        <a:srgbClr val="ff99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h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>
                        <a:off x="13956480" y="17361720"/>
                        <a:ext cx="297000" cy="297360"/>
                      </a:xfrm>
                      <a:prstGeom prst="ellipse">
                        <a:avLst/>
                      </a:prstGeom>
                      <a:solidFill>
                        <a:srgbClr val="ff996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h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95" name="" descr=""/>
          <p:cNvPicPr/>
          <p:nvPr/>
        </p:nvPicPr>
        <p:blipFill>
          <a:blip r:embed="rId15"/>
          <a:stretch/>
        </p:blipFill>
        <p:spPr>
          <a:xfrm>
            <a:off x="9448920" y="26822520"/>
            <a:ext cx="7431120" cy="5945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78520" y="23850720"/>
            <a:ext cx="8915400" cy="86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mmary of 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ty of application-level services can be efficiently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intensive services such as image cropping for OpenGl graphics serves can be supported on the IXP NP at rates reaching 3.75Gbp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-added services, such as format translation for XML-based applications, can be added at no additional cost perceived by end us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dicate the importance of cooperative host/ANP processing for complex services where handlers are simultaneously deployed on the ANP and the ho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gains stem from network-near execution of stream handlers, load reduction on the host system CPU and memory infrastructure, and the flexibility with which stream handlers can be mapped across host/ANP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629280" y="8686800"/>
            <a:ext cx="8802720" cy="2881440"/>
            <a:chOff x="18629280" y="8686800"/>
            <a:chExt cx="8802720" cy="2881440"/>
          </a:xfrm>
        </p:grpSpPr>
        <p:grpSp>
          <p:nvGrpSpPr>
            <p:cNvPr id="98" name=""/>
            <p:cNvGrpSpPr/>
            <p:nvPr/>
          </p:nvGrpSpPr>
          <p:grpSpPr>
            <a:xfrm>
              <a:off x="18948960" y="8686800"/>
              <a:ext cx="8482320" cy="2881440"/>
              <a:chOff x="18948960" y="8686800"/>
              <a:chExt cx="8482320" cy="28814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19589040" y="8686800"/>
                <a:ext cx="6722280" cy="2881440"/>
                <a:chOff x="19589040" y="8686800"/>
                <a:chExt cx="6722280" cy="28814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9589040" y="10447560"/>
                  <a:ext cx="6722280" cy="112068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9589040" y="10127520"/>
                  <a:ext cx="6722280" cy="32004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589040" y="8686800"/>
                  <a:ext cx="6722280" cy="960480"/>
                </a:xfrm>
                <a:prstGeom prst="rect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9589040" y="9647280"/>
                  <a:ext cx="6722280" cy="47988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18948960" y="9006840"/>
                <a:ext cx="8482320" cy="2240640"/>
                <a:chOff x="18948960" y="9006840"/>
                <a:chExt cx="8482320" cy="2240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0229120" y="10607400"/>
                  <a:ext cx="1280160" cy="640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ceiv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870600" y="10607400"/>
                  <a:ext cx="1280160" cy="640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ansmi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2309920" y="9006840"/>
                  <a:ext cx="1280160" cy="17607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cc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8948960" y="10927800"/>
                  <a:ext cx="1280160" cy="0"/>
                </a:xfrm>
                <a:prstGeom prst="line">
                  <a:avLst/>
                </a:prstGeom>
                <a:ln w="1015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1509640" y="10927800"/>
                  <a:ext cx="3360960" cy="0"/>
                </a:xfrm>
                <a:prstGeom prst="line">
                  <a:avLst/>
                </a:prstGeom>
                <a:ln w="1015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669840" y="10127160"/>
                  <a:ext cx="640080" cy="800280"/>
                </a:xfrm>
                <a:custGeom>
                  <a:avLst/>
                  <a:gdLst>
                    <a:gd name="textAreaLeft" fmla="*/ 0 w 640080"/>
                    <a:gd name="textAreaRight" fmla="*/ 640440 w 640080"/>
                    <a:gd name="textAreaTop" fmla="*/ 0 h 800280"/>
                    <a:gd name="textAreaBottom" fmla="*/ 800640 h 80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8187" stAng="10800000" swAng="5400000"/>
                      <a:lnTo>
                        <a:pt x="16800" y="3973"/>
                      </a:lnTo>
                      <a:lnTo>
                        <a:pt x="16800" y="0"/>
                      </a:lnTo>
                      <a:lnTo>
                        <a:pt x="21600" y="6079"/>
                      </a:lnTo>
                      <a:lnTo>
                        <a:pt x="16800" y="12158"/>
                      </a:lnTo>
                      <a:lnTo>
                        <a:pt x="16800" y="8185"/>
                      </a:lnTo>
                      <a:lnTo>
                        <a:pt x="12427" y="8185"/>
                      </a:lnTo>
                      <a:arcTo wR="8215" hR="3975" stAng="16200000" swAng="-5400000"/>
                      <a:lnTo>
                        <a:pt x="4212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5400000">
                  <a:off x="23590440" y="10287360"/>
                  <a:ext cx="640080" cy="640080"/>
                </a:xfrm>
                <a:custGeom>
                  <a:avLst/>
                  <a:gdLst>
                    <a:gd name="textAreaLeft" fmla="*/ 0 w 640080"/>
                    <a:gd name="textAreaRight" fmla="*/ 640440 w 640080"/>
                    <a:gd name="textAreaTop" fmla="*/ 0 h 640080"/>
                    <a:gd name="textAreaBottom" fmla="*/ 640440 h 640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8187" stAng="10800000" swAng="5400000"/>
                      <a:lnTo>
                        <a:pt x="16800" y="3973"/>
                      </a:lnTo>
                      <a:lnTo>
                        <a:pt x="16800" y="0"/>
                      </a:lnTo>
                      <a:lnTo>
                        <a:pt x="21600" y="6079"/>
                      </a:lnTo>
                      <a:lnTo>
                        <a:pt x="16800" y="12158"/>
                      </a:lnTo>
                      <a:lnTo>
                        <a:pt x="16800" y="8185"/>
                      </a:lnTo>
                      <a:lnTo>
                        <a:pt x="12427" y="8185"/>
                      </a:lnTo>
                      <a:arcTo wR="8215" hR="3975" stAng="16200000" swAng="-5400000"/>
                      <a:lnTo>
                        <a:pt x="4212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151120" y="10927800"/>
                  <a:ext cx="1280160" cy="0"/>
                </a:xfrm>
                <a:prstGeom prst="line">
                  <a:avLst/>
                </a:prstGeom>
                <a:ln w="1015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9589040" y="8686800"/>
                <a:ext cx="6722280" cy="2881440"/>
                <a:chOff x="19589040" y="8686800"/>
                <a:chExt cx="6722280" cy="28814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9589040" y="9647280"/>
                  <a:ext cx="672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9589040" y="10127520"/>
                  <a:ext cx="672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9589040" y="10447560"/>
                  <a:ext cx="672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4870600" y="9326880"/>
                  <a:ext cx="128016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4870600" y="9807120"/>
                  <a:ext cx="128016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kerne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2629960" y="11087640"/>
                  <a:ext cx="192060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rotocol plan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589040" y="8686800"/>
                  <a:ext cx="0" cy="288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9589040" y="11568240"/>
                  <a:ext cx="672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6311320" y="8686800"/>
                  <a:ext cx="0" cy="288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589040" y="8686800"/>
                  <a:ext cx="6722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" name=""/>
            <p:cNvSpPr/>
            <p:nvPr/>
          </p:nvSpPr>
          <p:spPr>
            <a:xfrm>
              <a:off x="18789120" y="9326880"/>
              <a:ext cx="8002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789120" y="10287720"/>
              <a:ext cx="8002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29280" y="10927800"/>
              <a:ext cx="1280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rom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311680" y="10927800"/>
              <a:ext cx="1120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9278720" y="11963520"/>
            <a:ext cx="7924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ath through host/AN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- and middleware-level services are implemented as compositions of stream handlers  simultaneously deployed at multiple points along the packets’ datapath through the integrated host/ANP nod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ANP, embedded with packet receipt and transmiss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ANP, after the application-level message has been assembled in ANP mem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t the host kernel or user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971800"/>
            <a:ext cx="2316456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10000" spc="-1" strike="noStrike">
                <a:solidFill>
                  <a:srgbClr val="3333cc"/>
                </a:solidFill>
                <a:latin typeface="Arial"/>
              </a:rPr>
              <a:t>Application-level Services on Attached Network Processors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12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Ada Gavrilovska, Karsten Schwan,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124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Austen Mcdonald, Hailemelekot Seifu, Ola Nordstro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1640680"/>
            <a:ext cx="624816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cessing application-level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tocol for fragmentation and reassembly of application-level messages (R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portable binary data format descriptors (PB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82080" y="259840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ta format translation on the IXP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ML-bas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48:10Z</dcterms:created>
  <dc:creator>Chris Clark</dc:creator>
  <dc:description/>
  <dc:language>en-US</dc:language>
  <cp:lastModifiedBy>ada</cp:lastModifiedBy>
  <dcterms:modified xsi:type="dcterms:W3CDTF">2003-10-30T01:01:51Z</dcterms:modified>
  <cp:revision>48</cp:revision>
  <dc:subject/>
  <dc:title>PowerPoint Presentation</dc:title>
</cp:coreProperties>
</file>