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2.wmf" ContentType="image/x-wmf"/>
  <Override PartName="/ppt/media/image6.png" ContentType="image/png"/>
  <Override PartName="/ppt/media/image36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50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4055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6720" cy="457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935520" y="0"/>
            <a:ext cx="3006720" cy="457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3760" y="684360"/>
            <a:ext cx="4557600" cy="341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560" y="4332240"/>
            <a:ext cx="5091120" cy="4105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8663040"/>
            <a:ext cx="3006720" cy="457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935520" y="8663040"/>
            <a:ext cx="3006720" cy="457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F4A32B-8C1E-47B4-B4F4-166F9E731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9376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25560" y="4332240"/>
            <a:ext cx="5091120" cy="4105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something about the gains from each successive generation of this cycle; model for understanding activity over time &amp;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81928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7680" y="4095000"/>
            <a:ext cx="81928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64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409500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5640" y="409500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7520" y="168588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7720" y="168588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680" y="409500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7520" y="409500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7720" y="409500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17680" y="1685880"/>
            <a:ext cx="819288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819288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3997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5640" y="1685880"/>
            <a:ext cx="3997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97000" y="348840"/>
            <a:ext cx="866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685880"/>
            <a:ext cx="3997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680" y="409500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7680" y="1685880"/>
            <a:ext cx="819288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3997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5640" y="409500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680" y="4095000"/>
            <a:ext cx="81928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81928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680" y="4095000"/>
            <a:ext cx="81928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564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7680" y="409500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5640" y="409500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7520" y="168588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7720" y="168588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7680" y="409500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7520" y="409500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7720" y="4095000"/>
            <a:ext cx="26377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819288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3997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5640" y="1685880"/>
            <a:ext cx="3997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7000" y="348840"/>
            <a:ext cx="866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5640" y="1685880"/>
            <a:ext cx="3997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7680" y="409500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3997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564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5640" y="409500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5640" y="1685880"/>
            <a:ext cx="3997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7680" y="4095000"/>
            <a:ext cx="81928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17680" y="1685880"/>
            <a:ext cx="819288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monBullet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48240" y="6447960"/>
            <a:ext cx="3038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0320" y="1004400"/>
            <a:ext cx="7772400" cy="23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ommonBullet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8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6200" y="452520"/>
            <a:ext cx="7772400" cy="187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Vision-Based Recognition of Actions using Contex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41040" y="2266560"/>
            <a:ext cx="745812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nell Janssen Mo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Thesis Defen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hool of Electrical  Computer Enginee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son H. Hayes III, Advi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rfan A. Essa, Co-Advi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 A. C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ald Scha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d E. Star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nald DesRo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590920" y="1684440"/>
            <a:ext cx="6552720" cy="3496680"/>
            <a:chOff x="2590920" y="1684440"/>
            <a:chExt cx="6552720" cy="3496680"/>
          </a:xfrm>
        </p:grpSpPr>
        <p:grpSp>
          <p:nvGrpSpPr>
            <p:cNvPr id="142" name=""/>
            <p:cNvGrpSpPr/>
            <p:nvPr/>
          </p:nvGrpSpPr>
          <p:grpSpPr>
            <a:xfrm>
              <a:off x="2590920" y="1684440"/>
              <a:ext cx="6552720" cy="3496680"/>
              <a:chOff x="2590920" y="1684440"/>
              <a:chExt cx="6552720" cy="3496680"/>
            </a:xfrm>
          </p:grpSpPr>
          <p:pic>
            <p:nvPicPr>
              <p:cNvPr id="143" name="bookcls2" descr=""/>
              <p:cNvPicPr/>
              <p:nvPr/>
            </p:nvPicPr>
            <p:blipFill>
              <a:blip r:embed="rId1"/>
              <a:stretch/>
            </p:blipFill>
            <p:spPr>
              <a:xfrm>
                <a:off x="2793960" y="2400120"/>
                <a:ext cx="5630400" cy="27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4141440" y="1684440"/>
                <a:ext cx="21412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: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 = 0.7751,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 = 0.081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: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 = 1,477,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 = 48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: flip forward, flip backwa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99080" y="1684440"/>
                <a:ext cx="264456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: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 = 0.8303,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 = 0.058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: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 = 1,455,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 = 2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: flip forward, flip backward, wr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90920" y="1684440"/>
                <a:ext cx="136188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: Aspect Rat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: Pixel Are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: HMM Ac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732200" y="2397600"/>
              <a:ext cx="907560" cy="1199160"/>
            </a:xfrm>
            <a:prstGeom prst="rect">
              <a:avLst/>
            </a:prstGeom>
            <a:gradFill rotWithShape="0">
              <a:gsLst>
                <a:gs pos="0">
                  <a:srgbClr val="460000"/>
                </a:gs>
                <a:gs pos="100000">
                  <a:srgbClr val="99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urier New"/>
                </a:rPr>
                <a:t>child of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Arti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67440" y="2435040"/>
              <a:ext cx="1015560" cy="1176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9109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N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urier New"/>
                </a:rPr>
                <a:t>child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Bo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1760" y="1707840"/>
            <a:ext cx="2195640" cy="37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ized Class Models (GC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M used to classify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2233440" y="5084640"/>
            <a:ext cx="63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CMs) are created for every child within the class hierarchy based on actual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ass Databas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racking Han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281320" y="2157480"/>
            <a:ext cx="1253880" cy="64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nnected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6520" y="1278000"/>
            <a:ext cx="197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ob Correspon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previous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52640" y="4137120"/>
            <a:ext cx="6722640" cy="2551320"/>
            <a:chOff x="1052640" y="4137120"/>
            <a:chExt cx="6722640" cy="2551320"/>
          </a:xfrm>
        </p:grpSpPr>
        <p:sp>
          <p:nvSpPr>
            <p:cNvPr id="156" name=""/>
            <p:cNvSpPr/>
            <p:nvPr/>
          </p:nvSpPr>
          <p:spPr>
            <a:xfrm>
              <a:off x="4541040" y="6076800"/>
              <a:ext cx="3234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nary Imag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color blobs highligh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oct26" descr=""/>
            <p:cNvPicPr/>
            <p:nvPr/>
          </p:nvPicPr>
          <p:blipFill>
            <a:blip r:embed="rId1"/>
            <a:stretch/>
          </p:blipFill>
          <p:spPr>
            <a:xfrm>
              <a:off x="1052640" y="4156920"/>
              <a:ext cx="2626920" cy="19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553760" y="6071400"/>
              <a:ext cx="160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iginal 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715280" y="4137120"/>
              <a:ext cx="2913120" cy="1935000"/>
              <a:chOff x="4715280" y="4137120"/>
              <a:chExt cx="2913120" cy="1935000"/>
            </a:xfrm>
          </p:grpSpPr>
          <p:pic>
            <p:nvPicPr>
              <p:cNvPr id="160" name="oct26_binary" descr=""/>
              <p:cNvPicPr/>
              <p:nvPr/>
            </p:nvPicPr>
            <p:blipFill>
              <a:blip r:embed="rId2"/>
              <a:stretch/>
            </p:blipFill>
            <p:spPr>
              <a:xfrm>
                <a:off x="4715280" y="4137120"/>
                <a:ext cx="2913120" cy="19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5611680" y="4768560"/>
                <a:ext cx="204480" cy="277920"/>
              </a:xfrm>
              <a:prstGeom prst="rect">
                <a:avLst/>
              </a:prstGeom>
              <a:noFill/>
              <a:ln w="1260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85760" y="5054760"/>
                <a:ext cx="204480" cy="213480"/>
              </a:xfrm>
              <a:prstGeom prst="rect">
                <a:avLst/>
              </a:prstGeom>
              <a:noFill/>
              <a:ln w="1260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64960" y="5236560"/>
                <a:ext cx="100080" cy="172800"/>
              </a:xfrm>
              <a:prstGeom prst="rect">
                <a:avLst/>
              </a:prstGeom>
              <a:noFill/>
              <a:ln w="1260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31880" y="5417640"/>
                <a:ext cx="227520" cy="140760"/>
              </a:xfrm>
              <a:prstGeom prst="rect">
                <a:avLst/>
              </a:prstGeom>
              <a:noFill/>
              <a:ln w="1260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327800" y="5441760"/>
                <a:ext cx="186840" cy="113040"/>
              </a:xfrm>
              <a:prstGeom prst="rect">
                <a:avLst/>
              </a:prstGeom>
              <a:noFill/>
              <a:ln w="1260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63760" y="5832720"/>
                <a:ext cx="263880" cy="205560"/>
              </a:xfrm>
              <a:prstGeom prst="rect">
                <a:avLst/>
              </a:prstGeom>
              <a:noFill/>
              <a:ln w="1260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27800" y="5712120"/>
                <a:ext cx="241200" cy="281880"/>
              </a:xfrm>
              <a:prstGeom prst="rect">
                <a:avLst/>
              </a:prstGeom>
              <a:noFill/>
              <a:ln w="1260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851800" y="5108760"/>
              <a:ext cx="101520" cy="17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13280" y="5311800"/>
              <a:ext cx="113760" cy="17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Tahoma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665360" y="3271680"/>
            <a:ext cx="101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ene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61440" y="2214720"/>
            <a:ext cx="85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son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33920" y="2170080"/>
            <a:ext cx="127476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bel Hand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1880" y="3182760"/>
            <a:ext cx="1522440" cy="76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ariable Length Hand Position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67000" y="3162240"/>
            <a:ext cx="1508040" cy="8082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MM Action Class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16440" y="2168640"/>
            <a:ext cx="1182600" cy="62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euris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7" idx="3"/>
            <a:endCxn id="153" idx="1"/>
          </p:cNvCxnSpPr>
          <p:nvPr/>
        </p:nvCxnSpPr>
        <p:spPr>
          <a:xfrm flipV="1">
            <a:off x="1758600" y="2477880"/>
            <a:ext cx="523080" cy="3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70" idx="3"/>
            <a:endCxn id="174" idx="1"/>
          </p:cNvCxnSpPr>
          <p:nvPr/>
        </p:nvCxnSpPr>
        <p:spPr>
          <a:xfrm>
            <a:off x="2678040" y="3562200"/>
            <a:ext cx="589680" cy="5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75" idx="3"/>
            <a:endCxn id="172" idx="1"/>
          </p:cNvCxnSpPr>
          <p:nvPr/>
        </p:nvCxnSpPr>
        <p:spPr>
          <a:xfrm>
            <a:off x="5099040" y="2479680"/>
            <a:ext cx="4356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</p:cxnSp>
      <p:grpSp>
        <p:nvGrpSpPr>
          <p:cNvPr id="180" name=""/>
          <p:cNvGrpSpPr/>
          <p:nvPr/>
        </p:nvGrpSpPr>
        <p:grpSpPr>
          <a:xfrm>
            <a:off x="528480" y="1924200"/>
            <a:ext cx="1230480" cy="931680"/>
            <a:chOff x="528480" y="1924200"/>
            <a:chExt cx="1230480" cy="931680"/>
          </a:xfrm>
        </p:grpSpPr>
        <p:sp>
          <p:nvSpPr>
            <p:cNvPr id="181" name=""/>
            <p:cNvSpPr/>
            <p:nvPr/>
          </p:nvSpPr>
          <p:spPr>
            <a:xfrm>
              <a:off x="528480" y="1924200"/>
              <a:ext cx="1005120" cy="752400"/>
            </a:xfrm>
            <a:prstGeom prst="rect">
              <a:avLst/>
            </a:prstGeom>
            <a:solidFill>
              <a:srgbClr val="cccc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2025720"/>
              <a:ext cx="1004760" cy="745920"/>
            </a:xfrm>
            <a:prstGeom prst="rect">
              <a:avLst/>
            </a:prstGeom>
            <a:solidFill>
              <a:srgbClr val="cccc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3720" y="2106720"/>
              <a:ext cx="1065240" cy="749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72" idx="2"/>
            <a:endCxn id="173" idx="0"/>
          </p:cNvCxnSpPr>
          <p:nvPr/>
        </p:nvCxnSpPr>
        <p:spPr>
          <a:xfrm>
            <a:off x="6172200" y="2792520"/>
            <a:ext cx="2160" cy="390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4" name=""/>
          <p:cNvCxnSpPr>
            <a:stCxn id="153" idx="3"/>
            <a:endCxn id="175" idx="1"/>
          </p:cNvCxnSpPr>
          <p:nvPr/>
        </p:nvCxnSpPr>
        <p:spPr>
          <a:xfrm>
            <a:off x="3534840" y="2478240"/>
            <a:ext cx="3819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5" name=""/>
          <p:cNvCxnSpPr>
            <a:stCxn id="173" idx="1"/>
            <a:endCxn id="174" idx="3"/>
          </p:cNvCxnSpPr>
          <p:nvPr/>
        </p:nvCxnSpPr>
        <p:spPr>
          <a:xfrm flipH="1">
            <a:off x="4774320" y="3563640"/>
            <a:ext cx="63756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6" name=""/>
          <p:cNvCxnSpPr>
            <a:stCxn id="171" idx="1"/>
            <a:endCxn id="172" idx="3"/>
          </p:cNvCxnSpPr>
          <p:nvPr/>
        </p:nvCxnSpPr>
        <p:spPr>
          <a:xfrm flipH="1">
            <a:off x="6807960" y="2473200"/>
            <a:ext cx="75348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7" name=""/>
          <p:cNvCxnSpPr>
            <a:stCxn id="172" idx="2"/>
            <a:endCxn id="160" idx="3"/>
          </p:cNvCxnSpPr>
          <p:nvPr/>
        </p:nvCxnSpPr>
        <p:spPr>
          <a:xfrm flipH="1" rot="16200000">
            <a:off x="5743440" y="3220560"/>
            <a:ext cx="2313720" cy="1456560"/>
          </a:xfrm>
          <a:prstGeom prst="curvedConnector5">
            <a:avLst>
              <a:gd name="adj1" fmla="val 8496"/>
              <a:gd name="adj2" fmla="val 57849"/>
              <a:gd name="adj3" fmla="val 8496"/>
            </a:avLst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</p:cxnSp>
      <p:cxnSp>
        <p:nvCxnSpPr>
          <p:cNvPr id="188" name=""/>
          <p:cNvCxnSpPr>
            <a:stCxn id="177" idx="2"/>
            <a:endCxn id="157" idx="1"/>
          </p:cNvCxnSpPr>
          <p:nvPr/>
        </p:nvCxnSpPr>
        <p:spPr>
          <a:xfrm rot="5400000">
            <a:off x="12960" y="3894480"/>
            <a:ext cx="2253240" cy="175320"/>
          </a:xfrm>
          <a:prstGeom prst="curvedConnector5">
            <a:avLst>
              <a:gd name="adj1" fmla="val 28811"/>
              <a:gd name="adj2" fmla="val 228600"/>
              <a:gd name="adj3" fmla="val 28811"/>
            </a:avLst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</p:cxnSp>
      <p:cxnSp>
        <p:nvCxnSpPr>
          <p:cNvPr id="189" name=""/>
          <p:cNvCxnSpPr>
            <a:stCxn id="154" idx="2"/>
            <a:endCxn id="172" idx="0"/>
          </p:cNvCxnSpPr>
          <p:nvPr/>
        </p:nvCxnSpPr>
        <p:spPr>
          <a:xfrm flipH="1">
            <a:off x="6171480" y="1902960"/>
            <a:ext cx="3960" cy="267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lock-based Sampling </a:t>
            </a:r>
            <a:br>
              <a:rPr sz="4400"/>
            </a:b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Connected-Component Label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7680" y="4896000"/>
            <a:ext cx="8192880" cy="17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-based image samp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rocessing step to connected-component label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operations (computation/memory) by 9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ccl2" descr=""/>
          <p:cNvPicPr/>
          <p:nvPr/>
        </p:nvPicPr>
        <p:blipFill>
          <a:blip r:embed="rId1"/>
          <a:stretch/>
        </p:blipFill>
        <p:spPr>
          <a:xfrm>
            <a:off x="1752480" y="1657440"/>
            <a:ext cx="5721480" cy="2711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aphicFrame>
        <p:nvGraphicFramePr>
          <p:cNvPr id="193" name=""/>
          <p:cNvGraphicFramePr/>
          <p:nvPr/>
        </p:nvGraphicFramePr>
        <p:xfrm>
          <a:off x="704880" y="1452600"/>
          <a:ext cx="7726320" cy="3497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4880" y="1452600"/>
                    <a:ext cx="772632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17240" y="361800"/>
            <a:ext cx="659916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euristic Filters for Detecting Han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2724120" y="3247920"/>
            <a:ext cx="4086360" cy="2009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25560" y="2424240"/>
          <a:ext cx="7538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2424240"/>
                    <a:ext cx="753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298600" y="2477160"/>
            <a:ext cx="14871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  othe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30240" y="2421000"/>
            <a:ext cx="73836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00680" y="2462040"/>
            <a:ext cx="10540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-samp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71880" y="163656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09000" y="2473200"/>
            <a:ext cx="94608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ed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5" idx="3"/>
            <a:endCxn id="206" idx="1"/>
          </p:cNvCxnSpPr>
          <p:nvPr/>
        </p:nvCxnSpPr>
        <p:spPr>
          <a:xfrm>
            <a:off x="1760040" y="4403880"/>
            <a:ext cx="110268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07" name=""/>
          <p:cNvCxnSpPr>
            <a:stCxn id="200" idx="3"/>
            <a:endCxn id="199" idx="1"/>
          </p:cNvCxnSpPr>
          <p:nvPr/>
        </p:nvCxnSpPr>
        <p:spPr>
          <a:xfrm>
            <a:off x="1668240" y="2782440"/>
            <a:ext cx="619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08" name=""/>
          <p:cNvCxnSpPr>
            <a:stCxn id="199" idx="3"/>
            <a:endCxn id="201" idx="1"/>
          </p:cNvCxnSpPr>
          <p:nvPr/>
        </p:nvCxnSpPr>
        <p:spPr>
          <a:xfrm>
            <a:off x="3796920" y="2782440"/>
            <a:ext cx="110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09" name=""/>
          <p:cNvCxnSpPr>
            <a:stCxn id="201" idx="3"/>
            <a:endCxn id="203" idx="1"/>
          </p:cNvCxnSpPr>
          <p:nvPr/>
        </p:nvCxnSpPr>
        <p:spPr>
          <a:xfrm>
            <a:off x="5954760" y="2782440"/>
            <a:ext cx="125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203" idx="2"/>
            <a:endCxn id="211" idx="0"/>
          </p:cNvCxnSpPr>
          <p:nvPr/>
        </p:nvCxnSpPr>
        <p:spPr>
          <a:xfrm rot="5400000">
            <a:off x="6035400" y="2611440"/>
            <a:ext cx="1162440" cy="21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205" name=""/>
          <p:cNvSpPr/>
          <p:nvPr/>
        </p:nvSpPr>
        <p:spPr>
          <a:xfrm>
            <a:off x="841320" y="4083120"/>
            <a:ext cx="91908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bel Edge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87720" y="2022480"/>
          <a:ext cx="7351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7720" y="2022480"/>
                    <a:ext cx="7351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6248520" y="1591200"/>
            <a:ext cx="666720" cy="1102320"/>
            <a:chOff x="6248520" y="1591200"/>
            <a:chExt cx="666720" cy="1102320"/>
          </a:xfrm>
        </p:grpSpPr>
        <p:grpSp>
          <p:nvGrpSpPr>
            <p:cNvPr id="215" name=""/>
            <p:cNvGrpSpPr/>
            <p:nvPr/>
          </p:nvGrpSpPr>
          <p:grpSpPr>
            <a:xfrm>
              <a:off x="6302520" y="1591200"/>
              <a:ext cx="558720" cy="414360"/>
              <a:chOff x="6302520" y="1591200"/>
              <a:chExt cx="558720" cy="414360"/>
            </a:xfrm>
          </p:grpSpPr>
          <p:sp>
            <p:nvSpPr>
              <p:cNvPr id="216" name=""/>
              <p:cNvSpPr/>
              <p:nvPr/>
            </p:nvSpPr>
            <p:spPr>
              <a:xfrm>
                <a:off x="6302520" y="1637280"/>
                <a:ext cx="55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92520" y="159120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^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8" name=""/>
            <p:cNvGraphicFramePr/>
            <p:nvPr/>
          </p:nvGraphicFramePr>
          <p:xfrm>
            <a:off x="6248520" y="2025360"/>
            <a:ext cx="66672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8520" y="2025360"/>
                      <a:ext cx="66672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"/>
          <p:cNvGrpSpPr/>
          <p:nvPr/>
        </p:nvGrpSpPr>
        <p:grpSpPr>
          <a:xfrm>
            <a:off x="7770960" y="3184560"/>
            <a:ext cx="666720" cy="668160"/>
            <a:chOff x="7770960" y="3184560"/>
            <a:chExt cx="666720" cy="668160"/>
          </a:xfrm>
        </p:grpSpPr>
        <p:graphicFrame>
          <p:nvGraphicFramePr>
            <p:cNvPr id="221" name=""/>
            <p:cNvGraphicFramePr/>
            <p:nvPr/>
          </p:nvGraphicFramePr>
          <p:xfrm>
            <a:off x="7770960" y="3184560"/>
            <a:ext cx="666720" cy="66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70960" y="3184560"/>
                      <a:ext cx="66672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"/>
            <p:cNvSpPr/>
            <p:nvPr/>
          </p:nvSpPr>
          <p:spPr>
            <a:xfrm>
              <a:off x="7974000" y="3354120"/>
              <a:ext cx="301680" cy="375840"/>
            </a:xfrm>
            <a:prstGeom prst="rect">
              <a:avLst/>
            </a:prstGeom>
            <a:noFill/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4" name=""/>
          <p:cNvCxnSpPr>
            <a:stCxn id="200" idx="2"/>
            <a:endCxn id="205" idx="0"/>
          </p:cNvCxnSpPr>
          <p:nvPr/>
        </p:nvCxnSpPr>
        <p:spPr>
          <a:xfrm>
            <a:off x="1300320" y="3144960"/>
            <a:ext cx="2160" cy="9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grpSp>
        <p:nvGrpSpPr>
          <p:cNvPr id="225" name=""/>
          <p:cNvGrpSpPr/>
          <p:nvPr/>
        </p:nvGrpSpPr>
        <p:grpSpPr>
          <a:xfrm>
            <a:off x="1889280" y="3191040"/>
            <a:ext cx="736560" cy="1120680"/>
            <a:chOff x="1889280" y="3191040"/>
            <a:chExt cx="736560" cy="1120680"/>
          </a:xfrm>
        </p:grpSpPr>
        <p:graphicFrame>
          <p:nvGraphicFramePr>
            <p:cNvPr id="226" name=""/>
            <p:cNvGraphicFramePr/>
            <p:nvPr/>
          </p:nvGraphicFramePr>
          <p:xfrm>
            <a:off x="1889280" y="3584520"/>
            <a:ext cx="736560" cy="72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89280" y="3584520"/>
                      <a:ext cx="736560" cy="7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1924200" y="3191040"/>
              <a:ext cx="64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077480" y="2009160"/>
            <a:ext cx="4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5040" y="4248360"/>
            <a:ext cx="595440" cy="31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75280" y="4248360"/>
            <a:ext cx="952560" cy="31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elon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24320" y="4248360"/>
            <a:ext cx="627120" cy="31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62360" y="4248360"/>
            <a:ext cx="619200" cy="31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3270240"/>
            <a:ext cx="379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03" idx="2"/>
            <a:endCxn id="231" idx="0"/>
          </p:cNvCxnSpPr>
          <p:nvPr/>
        </p:nvCxnSpPr>
        <p:spPr>
          <a:xfrm rot="5400000">
            <a:off x="5578920" y="2154960"/>
            <a:ext cx="1162440" cy="304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34" name=""/>
          <p:cNvCxnSpPr>
            <a:stCxn id="203" idx="2"/>
            <a:endCxn id="230" idx="0"/>
          </p:cNvCxnSpPr>
          <p:nvPr/>
        </p:nvCxnSpPr>
        <p:spPr>
          <a:xfrm rot="5400000">
            <a:off x="5211360" y="1787400"/>
            <a:ext cx="1162440" cy="377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35" name=""/>
          <p:cNvCxnSpPr>
            <a:stCxn id="203" idx="2"/>
            <a:endCxn id="206" idx="0"/>
          </p:cNvCxnSpPr>
          <p:nvPr/>
        </p:nvCxnSpPr>
        <p:spPr>
          <a:xfrm rot="5400000">
            <a:off x="4845600" y="1421640"/>
            <a:ext cx="1162440" cy="451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236" name=""/>
          <p:cNvSpPr/>
          <p:nvPr/>
        </p:nvSpPr>
        <p:spPr>
          <a:xfrm>
            <a:off x="6323040" y="4255920"/>
            <a:ext cx="284040" cy="300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81720" y="4182840"/>
            <a:ext cx="16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06" idx="2"/>
            <a:endCxn id="236" idx="5"/>
          </p:cNvCxnSpPr>
          <p:nvPr/>
        </p:nvCxnSpPr>
        <p:spPr>
          <a:xfrm flipH="1" flipV="1" rot="5400000">
            <a:off x="4847400" y="2835360"/>
            <a:ext cx="43560" cy="3394800"/>
          </a:xfrm>
          <a:prstGeom prst="bentConnector3">
            <a:avLst>
              <a:gd name="adj1" fmla="val -1121666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39" name=""/>
          <p:cNvCxnSpPr>
            <a:stCxn id="230" idx="2"/>
            <a:endCxn id="236" idx="4"/>
          </p:cNvCxnSpPr>
          <p:nvPr/>
        </p:nvCxnSpPr>
        <p:spPr>
          <a:xfrm flipH="1" rot="16200000">
            <a:off x="5182920" y="3273840"/>
            <a:ext cx="2520" cy="2562840"/>
          </a:xfrm>
          <a:prstGeom prst="bentConnector3">
            <a:avLst>
              <a:gd name="adj1" fmla="val 22083333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40" name=""/>
          <p:cNvCxnSpPr>
            <a:stCxn id="231" idx="2"/>
            <a:endCxn id="236" idx="3"/>
          </p:cNvCxnSpPr>
          <p:nvPr/>
        </p:nvCxnSpPr>
        <p:spPr>
          <a:xfrm flipH="1" flipV="1" rot="5400000">
            <a:off x="5479920" y="3669480"/>
            <a:ext cx="43560" cy="1726560"/>
          </a:xfrm>
          <a:prstGeom prst="bentConnector3">
            <a:avLst>
              <a:gd name="adj1" fmla="val -500000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41" name=""/>
          <p:cNvCxnSpPr>
            <a:stCxn id="211" idx="3"/>
            <a:endCxn id="236" idx="2"/>
          </p:cNvCxnSpPr>
          <p:nvPr/>
        </p:nvCxnSpPr>
        <p:spPr>
          <a:xfrm>
            <a:off x="6027840" y="4406400"/>
            <a:ext cx="295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42" name=""/>
          <p:cNvCxnSpPr>
            <a:stCxn id="236" idx="6"/>
            <a:endCxn id="243" idx="1"/>
          </p:cNvCxnSpPr>
          <p:nvPr/>
        </p:nvCxnSpPr>
        <p:spPr>
          <a:xfrm>
            <a:off x="6607080" y="4406400"/>
            <a:ext cx="457920" cy="2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243" name=""/>
          <p:cNvSpPr/>
          <p:nvPr/>
        </p:nvSpPr>
        <p:spPr>
          <a:xfrm>
            <a:off x="7064280" y="4255920"/>
            <a:ext cx="19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or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nd likeli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9400" y="1593000"/>
            <a:ext cx="113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ion of Inpu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76240" y="3274560"/>
            <a:ext cx="20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uristic Filter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6200" y="5368320"/>
            <a:ext cx="8349480" cy="1389240"/>
            <a:chOff x="376200" y="5368320"/>
            <a:chExt cx="8349480" cy="1389240"/>
          </a:xfrm>
        </p:grpSpPr>
        <p:grpSp>
          <p:nvGrpSpPr>
            <p:cNvPr id="247" name=""/>
            <p:cNvGrpSpPr/>
            <p:nvPr/>
          </p:nvGrpSpPr>
          <p:grpSpPr>
            <a:xfrm>
              <a:off x="2421720" y="5484240"/>
              <a:ext cx="2309760" cy="1157400"/>
              <a:chOff x="2421720" y="5484240"/>
              <a:chExt cx="2309760" cy="1157400"/>
            </a:xfrm>
          </p:grpSpPr>
          <p:sp>
            <p:nvSpPr>
              <p:cNvPr id="248" name=""/>
              <p:cNvSpPr/>
              <p:nvPr/>
            </p:nvSpPr>
            <p:spPr>
              <a:xfrm>
                <a:off x="2695320" y="5940360"/>
                <a:ext cx="1791000" cy="451080"/>
              </a:xfrm>
              <a:custGeom>
                <a:avLst/>
                <a:gdLst/>
                <a:ahLst/>
                <a:rect l="l" t="t" r="r" b="b"/>
                <a:pathLst>
                  <a:path w="1742" h="284">
                    <a:moveTo>
                      <a:pt x="0" y="281"/>
                    </a:moveTo>
                    <a:cubicBezTo>
                      <a:pt x="34" y="280"/>
                      <a:pt x="87" y="282"/>
                      <a:pt x="120" y="265"/>
                    </a:cubicBezTo>
                    <a:cubicBezTo>
                      <a:pt x="138" y="256"/>
                      <a:pt x="160" y="247"/>
                      <a:pt x="176" y="235"/>
                    </a:cubicBezTo>
                    <a:cubicBezTo>
                      <a:pt x="190" y="224"/>
                      <a:pt x="205" y="207"/>
                      <a:pt x="222" y="201"/>
                    </a:cubicBezTo>
                    <a:cubicBezTo>
                      <a:pt x="238" y="185"/>
                      <a:pt x="268" y="165"/>
                      <a:pt x="298" y="145"/>
                    </a:cubicBezTo>
                    <a:cubicBezTo>
                      <a:pt x="332" y="111"/>
                      <a:pt x="369" y="90"/>
                      <a:pt x="406" y="59"/>
                    </a:cubicBezTo>
                    <a:cubicBezTo>
                      <a:pt x="417" y="50"/>
                      <a:pt x="449" y="24"/>
                      <a:pt x="462" y="21"/>
                    </a:cubicBezTo>
                    <a:cubicBezTo>
                      <a:pt x="496" y="12"/>
                      <a:pt x="531" y="9"/>
                      <a:pt x="566" y="7"/>
                    </a:cubicBezTo>
                    <a:cubicBezTo>
                      <a:pt x="723" y="8"/>
                      <a:pt x="915" y="0"/>
                      <a:pt x="1080" y="13"/>
                    </a:cubicBezTo>
                    <a:cubicBezTo>
                      <a:pt x="1088" y="14"/>
                      <a:pt x="1096" y="14"/>
                      <a:pt x="1104" y="17"/>
                    </a:cubicBezTo>
                    <a:cubicBezTo>
                      <a:pt x="1106" y="18"/>
                      <a:pt x="1108" y="18"/>
                      <a:pt x="1110" y="19"/>
                    </a:cubicBezTo>
                    <a:cubicBezTo>
                      <a:pt x="1115" y="20"/>
                      <a:pt x="1126" y="23"/>
                      <a:pt x="1126" y="23"/>
                    </a:cubicBezTo>
                    <a:cubicBezTo>
                      <a:pt x="1141" y="33"/>
                      <a:pt x="1159" y="38"/>
                      <a:pt x="1174" y="47"/>
                    </a:cubicBezTo>
                    <a:cubicBezTo>
                      <a:pt x="1190" y="57"/>
                      <a:pt x="1203" y="73"/>
                      <a:pt x="1218" y="81"/>
                    </a:cubicBezTo>
                    <a:cubicBezTo>
                      <a:pt x="1225" y="92"/>
                      <a:pt x="1236" y="95"/>
                      <a:pt x="1246" y="105"/>
                    </a:cubicBezTo>
                    <a:cubicBezTo>
                      <a:pt x="1260" y="119"/>
                      <a:pt x="1296" y="155"/>
                      <a:pt x="1314" y="161"/>
                    </a:cubicBezTo>
                    <a:cubicBezTo>
                      <a:pt x="1352" y="191"/>
                      <a:pt x="1380" y="224"/>
                      <a:pt x="1426" y="239"/>
                    </a:cubicBezTo>
                    <a:cubicBezTo>
                      <a:pt x="1473" y="274"/>
                      <a:pt x="1522" y="282"/>
                      <a:pt x="1576" y="283"/>
                    </a:cubicBezTo>
                    <a:cubicBezTo>
                      <a:pt x="1617" y="284"/>
                      <a:pt x="1647" y="282"/>
                      <a:pt x="1688" y="283"/>
                    </a:cubicBezTo>
                    <a:cubicBezTo>
                      <a:pt x="1696" y="284"/>
                      <a:pt x="1731" y="283"/>
                      <a:pt x="1742" y="283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2590560" y="6427440"/>
                <a:ext cx="2048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2638440" y="5608800"/>
                <a:ext cx="0" cy="86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35320" y="5726160"/>
                <a:ext cx="0" cy="74304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39560" y="5484240"/>
                <a:ext cx="724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rea PD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25800" y="6395400"/>
                <a:ext cx="40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90000"/>
                    </a:solidFill>
                    <a:latin typeface="Tahoma"/>
                  </a:rPr>
                  <a:t>m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94040" y="5738760"/>
                <a:ext cx="0" cy="74304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572640" y="6395400"/>
                <a:ext cx="43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90000"/>
                    </a:solidFill>
                    <a:latin typeface="Tahoma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21720" y="575100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04960" y="5872320"/>
                <a:ext cx="2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21720" y="630000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284000" y="639540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re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908040" y="5487120"/>
              <a:ext cx="1817640" cy="1150920"/>
              <a:chOff x="6908040" y="5487120"/>
              <a:chExt cx="1817640" cy="1150920"/>
            </a:xfrm>
          </p:grpSpPr>
          <p:sp>
            <p:nvSpPr>
              <p:cNvPr id="261" name=""/>
              <p:cNvSpPr/>
              <p:nvPr/>
            </p:nvSpPr>
            <p:spPr>
              <a:xfrm>
                <a:off x="7076880" y="6427440"/>
                <a:ext cx="153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124760" y="5604840"/>
                <a:ext cx="0" cy="87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21640" y="5722560"/>
                <a:ext cx="0" cy="74304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15560" y="5487120"/>
                <a:ext cx="1086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Elongation PD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12120" y="6391800"/>
                <a:ext cx="40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90000"/>
                    </a:solidFill>
                    <a:latin typeface="Tahoma"/>
                  </a:rPr>
                  <a:t>m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280360" y="5735520"/>
                <a:ext cx="0" cy="74268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150760" y="639180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90000"/>
                    </a:solidFill>
                    <a:latin typeface="Tahoma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08040" y="574740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91280" y="5868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908040" y="629676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267760" y="6382440"/>
                <a:ext cx="45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rat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53200" y="5889240"/>
                <a:ext cx="1186920" cy="509760"/>
              </a:xfrm>
              <a:custGeom>
                <a:avLst/>
                <a:gdLst/>
                <a:ahLst/>
                <a:rect l="l" t="t" r="r" b="b"/>
                <a:pathLst>
                  <a:path w="748" h="321">
                    <a:moveTo>
                      <a:pt x="0" y="321"/>
                    </a:moveTo>
                    <a:cubicBezTo>
                      <a:pt x="77" y="319"/>
                      <a:pt x="153" y="319"/>
                      <a:pt x="230" y="317"/>
                    </a:cubicBezTo>
                    <a:cubicBezTo>
                      <a:pt x="242" y="317"/>
                      <a:pt x="267" y="302"/>
                      <a:pt x="274" y="295"/>
                    </a:cubicBezTo>
                    <a:cubicBezTo>
                      <a:pt x="281" y="288"/>
                      <a:pt x="284" y="276"/>
                      <a:pt x="290" y="267"/>
                    </a:cubicBezTo>
                    <a:cubicBezTo>
                      <a:pt x="319" y="224"/>
                      <a:pt x="325" y="165"/>
                      <a:pt x="336" y="115"/>
                    </a:cubicBezTo>
                    <a:cubicBezTo>
                      <a:pt x="341" y="91"/>
                      <a:pt x="356" y="40"/>
                      <a:pt x="382" y="31"/>
                    </a:cubicBezTo>
                    <a:cubicBezTo>
                      <a:pt x="399" y="14"/>
                      <a:pt x="425" y="8"/>
                      <a:pt x="448" y="5"/>
                    </a:cubicBezTo>
                    <a:cubicBezTo>
                      <a:pt x="530" y="6"/>
                      <a:pt x="538" y="1"/>
                      <a:pt x="618" y="5"/>
                    </a:cubicBezTo>
                    <a:cubicBezTo>
                      <a:pt x="643" y="0"/>
                      <a:pt x="699" y="5"/>
                      <a:pt x="748" y="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76200" y="5368320"/>
              <a:ext cx="2096640" cy="1389240"/>
              <a:chOff x="376200" y="5368320"/>
              <a:chExt cx="2096640" cy="138924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376200" y="5426280"/>
                <a:ext cx="2096640" cy="1331280"/>
                <a:chOff x="376200" y="5426280"/>
                <a:chExt cx="2096640" cy="13312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758880" y="6156360"/>
                  <a:ext cx="163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908280" y="5426280"/>
                  <a:ext cx="0" cy="86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394920" y="5965560"/>
                  <a:ext cx="712080" cy="71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527040" y="5775480"/>
                  <a:ext cx="876240" cy="768240"/>
                  <a:chOff x="527040" y="5775480"/>
                  <a:chExt cx="876240" cy="768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527040" y="6420240"/>
                    <a:ext cx="876240" cy="123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19200" y="6210360"/>
                    <a:ext cx="637920" cy="1238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30080" y="5978880"/>
                    <a:ext cx="432000" cy="1238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19000" y="5775480"/>
                    <a:ext cx="260640" cy="114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893160" y="5504760"/>
                  <a:ext cx="25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516320" y="5811840"/>
                  <a:ext cx="35064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99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en-US" sz="1000" spc="-1" strike="noStrike" baseline="-25000">
                      <a:solidFill>
                        <a:srgbClr val="990000"/>
                      </a:solidFill>
                      <a:latin typeface="Tahoma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290960" y="5688000"/>
                  <a:ext cx="34416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99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en-US" sz="1000" spc="-1" strike="noStrike" baseline="-25000">
                      <a:solidFill>
                        <a:srgbClr val="990000"/>
                      </a:solidFill>
                      <a:latin typeface="Tahoma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094040" y="5567400"/>
                  <a:ext cx="34452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99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en-US" sz="1000" spc="-1" strike="noStrike" baseline="-25000">
                      <a:solidFill>
                        <a:srgbClr val="990000"/>
                      </a:solidFill>
                      <a:latin typeface="Tahom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699200" y="6101640"/>
                  <a:ext cx="7736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perimet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76200" y="6511320"/>
                  <a:ext cx="479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e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1149120" y="5368320"/>
                <a:ext cx="74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Edge PD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694040" y="5487120"/>
              <a:ext cx="2241360" cy="1150920"/>
              <a:chOff x="4694040" y="5487120"/>
              <a:chExt cx="2241360" cy="1150920"/>
            </a:xfrm>
          </p:grpSpPr>
          <p:sp>
            <p:nvSpPr>
              <p:cNvPr id="291" name=""/>
              <p:cNvSpPr/>
              <p:nvPr/>
            </p:nvSpPr>
            <p:spPr>
              <a:xfrm>
                <a:off x="4887720" y="6427440"/>
                <a:ext cx="204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935240" y="5604840"/>
                <a:ext cx="0" cy="87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98840" y="5487120"/>
                <a:ext cx="74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Zone PD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94040" y="5898960"/>
                <a:ext cx="2980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90000"/>
                    </a:solidFill>
                    <a:latin typeface="Tahoma"/>
                  </a:rPr>
                  <a:t>w</a:t>
                </a:r>
                <a:r>
                  <a:rPr b="0" lang="en-US" sz="1000" spc="-1" strike="noStrike" baseline="-25000">
                    <a:solidFill>
                      <a:srgbClr val="990000"/>
                    </a:solidFill>
                    <a:latin typeface="Tahoma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090840" y="5735520"/>
                <a:ext cx="0" cy="74268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37400" y="6391800"/>
                <a:ext cx="50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90000"/>
                    </a:solidFill>
                    <a:latin typeface="Tahoma"/>
                  </a:rPr>
                  <a:t>10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18520" y="574740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901760" y="586872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18520" y="629676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243480" y="6388920"/>
                <a:ext cx="62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overl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925520" y="5843520"/>
                <a:ext cx="1740240" cy="58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32000" y="6033960"/>
                <a:ext cx="1324080" cy="0"/>
              </a:xfrm>
              <a:prstGeom prst="line">
                <a:avLst/>
              </a:prstGeom>
              <a:ln cap="rnd" w="324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context-enhanced" descr=""/>
          <p:cNvPicPr/>
          <p:nvPr/>
        </p:nvPicPr>
        <p:blipFill>
          <a:blip r:embed="rId1"/>
          <a:stretch/>
        </p:blipFill>
        <p:spPr>
          <a:xfrm>
            <a:off x="196920" y="1414440"/>
            <a:ext cx="3643200" cy="2494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ntext-Enhanced Estim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117680" y="1390320"/>
            <a:ext cx="502596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rection of hand mo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ance between hand and neighboring artic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lihood of moving from one articles to anoth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820760" y="2612520"/>
            <a:ext cx="3107160" cy="337320"/>
            <a:chOff x="4820760" y="2612520"/>
            <a:chExt cx="3107160" cy="337320"/>
          </a:xfrm>
        </p:grpSpPr>
        <p:sp>
          <p:nvSpPr>
            <p:cNvPr id="307" name=""/>
            <p:cNvSpPr/>
            <p:nvPr/>
          </p:nvSpPr>
          <p:spPr>
            <a:xfrm>
              <a:off x="4820760" y="2612520"/>
              <a:ext cx="171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Tahoma"/>
                </a:rPr>
                <a:t>Linear Estimat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eq_context-enh_lin" descr=""/>
            <p:cNvPicPr/>
            <p:nvPr/>
          </p:nvPicPr>
          <p:blipFill>
            <a:blip r:embed="rId2"/>
            <a:stretch/>
          </p:blipFill>
          <p:spPr>
            <a:xfrm>
              <a:off x="6429240" y="2670120"/>
              <a:ext cx="1498680" cy="2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>
            <a:off x="1261440" y="443448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eq_context-enh_delta" descr=""/>
          <p:cNvPicPr/>
          <p:nvPr/>
        </p:nvPicPr>
        <p:blipFill>
          <a:blip r:embed="rId3"/>
          <a:stretch/>
        </p:blipFill>
        <p:spPr>
          <a:xfrm>
            <a:off x="4424400" y="6058080"/>
            <a:ext cx="1690560" cy="318960"/>
          </a:xfrm>
          <a:prstGeom prst="rect">
            <a:avLst/>
          </a:prstGeom>
          <a:ln w="0">
            <a:noFill/>
          </a:ln>
        </p:spPr>
      </p:pic>
      <p:pic>
        <p:nvPicPr>
          <p:cNvPr id="311" name="eq_context-zeta" descr=""/>
          <p:cNvPicPr/>
          <p:nvPr/>
        </p:nvPicPr>
        <p:blipFill>
          <a:blip r:embed="rId4"/>
          <a:stretch/>
        </p:blipFill>
        <p:spPr>
          <a:xfrm>
            <a:off x="4361040" y="5133960"/>
            <a:ext cx="4533840" cy="657360"/>
          </a:xfrm>
          <a:prstGeom prst="rect">
            <a:avLst/>
          </a:prstGeom>
          <a:ln w="0">
            <a:noFill/>
          </a:ln>
        </p:spPr>
      </p:pic>
      <p:pic>
        <p:nvPicPr>
          <p:cNvPr id="312" name="eq_context-enh_est" descr=""/>
          <p:cNvPicPr/>
          <p:nvPr/>
        </p:nvPicPr>
        <p:blipFill>
          <a:blip r:embed="rId5"/>
          <a:stretch/>
        </p:blipFill>
        <p:spPr>
          <a:xfrm>
            <a:off x="260280" y="5415120"/>
            <a:ext cx="3665520" cy="877680"/>
          </a:xfrm>
          <a:prstGeom prst="rect">
            <a:avLst/>
          </a:prstGeom>
          <a:ln w="0">
            <a:noFill/>
          </a:ln>
        </p:spPr>
      </p:pic>
      <p:pic>
        <p:nvPicPr>
          <p:cNvPr id="313" name="eq_context-enh_m1m2" descr=""/>
          <p:cNvPicPr/>
          <p:nvPr/>
        </p:nvPicPr>
        <p:blipFill>
          <a:blip r:embed="rId6"/>
          <a:stretch/>
        </p:blipFill>
        <p:spPr>
          <a:xfrm>
            <a:off x="2089080" y="4314960"/>
            <a:ext cx="6827760" cy="573120"/>
          </a:xfrm>
          <a:prstGeom prst="rect">
            <a:avLst/>
          </a:prstGeom>
          <a:ln w="0">
            <a:noFill/>
          </a:ln>
        </p:spPr>
      </p:pic>
      <p:pic>
        <p:nvPicPr>
          <p:cNvPr id="314" name="eq_context-enh_h" descr=""/>
          <p:cNvPicPr/>
          <p:nvPr/>
        </p:nvPicPr>
        <p:blipFill>
          <a:blip r:embed="rId7"/>
          <a:stretch/>
        </p:blipFill>
        <p:spPr>
          <a:xfrm>
            <a:off x="2836800" y="3267000"/>
            <a:ext cx="6078600" cy="860400"/>
          </a:xfrm>
          <a:prstGeom prst="rect">
            <a:avLst/>
          </a:prstGeom>
          <a:ln w="0">
            <a:noFill/>
          </a:ln>
        </p:spPr>
      </p:pic>
      <p:pic>
        <p:nvPicPr>
          <p:cNvPr id="315" name="eq_context-enh_kij" descr=""/>
          <p:cNvPicPr/>
          <p:nvPr/>
        </p:nvPicPr>
        <p:blipFill>
          <a:blip r:embed="rId8"/>
          <a:stretch/>
        </p:blipFill>
        <p:spPr>
          <a:xfrm>
            <a:off x="6576840" y="6058080"/>
            <a:ext cx="2367000" cy="318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800160" y="4424760"/>
            <a:ext cx="500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05240" y="6064920"/>
            <a:ext cx="500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2400" y="509868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Context-Enhanced Estim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17160" y="3924360"/>
            <a:ext cx="837396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xt-enhanced estimate lowers cumulative square error by 14.1% versus linear prediction al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ends on hand velocity/fr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514760" y="35496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43280" y="2066760"/>
            <a:ext cx="5411520" cy="171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571680" y="4984920"/>
          <a:ext cx="8294400" cy="187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4984920"/>
                    <a:ext cx="82944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4207320" y="1499760"/>
            <a:ext cx="3164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umulative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mple Linear vs. Context-Enhan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4613400" cy="17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5120" indent="-2851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to recognize low-level hand 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120" indent="-2851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s space &amp; time variable 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120" indent="-2851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ation vect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120" indent="-2851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tesian Points normalized to fit Class Model bounding 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idden Markov Model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ed_normalize" descr=""/>
          <p:cNvPicPr/>
          <p:nvPr/>
        </p:nvPicPr>
        <p:blipFill>
          <a:blip r:embed="rId1"/>
          <a:stretch/>
        </p:blipFill>
        <p:spPr>
          <a:xfrm>
            <a:off x="932040" y="3968640"/>
            <a:ext cx="6615000" cy="14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5160960" y="1488960"/>
          <a:ext cx="3583080" cy="17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60960" y="1488960"/>
                    <a:ext cx="35830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500040" y="5572080"/>
            <a:ext cx="7756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2560" indent="-322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nly observation permits person-independent tes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560" indent="-322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model trained with 15-25 manually segmented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hmm_state_images" descr=""/>
          <p:cNvPicPr/>
          <p:nvPr/>
        </p:nvPicPr>
        <p:blipFill>
          <a:blip r:embed="rId1"/>
          <a:stretch/>
        </p:blipFill>
        <p:spPr>
          <a:xfrm>
            <a:off x="372960" y="2224080"/>
            <a:ext cx="4861080" cy="701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46240" y="1805760"/>
            <a:ext cx="49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6 states of “flipping forward”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valuating HM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255640" y="1637280"/>
            <a:ext cx="3564000" cy="3557520"/>
            <a:chOff x="5255640" y="1637280"/>
            <a:chExt cx="3564000" cy="3557520"/>
          </a:xfrm>
        </p:grpSpPr>
        <p:sp>
          <p:nvSpPr>
            <p:cNvPr id="336" name=""/>
            <p:cNvSpPr/>
            <p:nvPr/>
          </p:nvSpPr>
          <p:spPr>
            <a:xfrm>
              <a:off x="5670360" y="4824360"/>
              <a:ext cx="297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          5        10       15       20       25      30       35       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95600" y="426888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98880" y="2389320"/>
              <a:ext cx="0" cy="23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98880" y="4776840"/>
              <a:ext cx="25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98880" y="47768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46520" y="47768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22880" y="47768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70520" y="47768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18160" y="47768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94160" y="47768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41800" y="47768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65800" y="47768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91240" y="47768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5752800" y="2389320"/>
              <a:ext cx="45720" cy="1909800"/>
              <a:chOff x="5752800" y="2389320"/>
              <a:chExt cx="45720" cy="1909800"/>
            </a:xfrm>
          </p:grpSpPr>
          <p:sp>
            <p:nvSpPr>
              <p:cNvPr id="350" name=""/>
              <p:cNvSpPr/>
              <p:nvPr/>
            </p:nvSpPr>
            <p:spPr>
              <a:xfrm>
                <a:off x="5752800" y="4299120"/>
                <a:ext cx="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52800" y="3821400"/>
                <a:ext cx="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52800" y="3344040"/>
                <a:ext cx="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52800" y="2866680"/>
                <a:ext cx="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52800" y="2389320"/>
                <a:ext cx="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411520" y="2270160"/>
              <a:ext cx="387000" cy="26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94000" y="4299120"/>
              <a:ext cx="10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30800" y="4141800"/>
              <a:ext cx="110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87680" y="4119480"/>
              <a:ext cx="11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87680" y="3941640"/>
              <a:ext cx="11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11680" y="3643200"/>
              <a:ext cx="90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87680" y="2568600"/>
              <a:ext cx="18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52840" y="2687760"/>
              <a:ext cx="168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11680" y="352260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11680" y="334332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11680" y="3284640"/>
              <a:ext cx="11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22880" y="310536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29200" y="2911680"/>
              <a:ext cx="187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94000" y="2867040"/>
              <a:ext cx="18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22880" y="2508120"/>
              <a:ext cx="20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87680" y="2471760"/>
              <a:ext cx="20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87680" y="2448000"/>
              <a:ext cx="20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87680" y="2425680"/>
              <a:ext cx="21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diamond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94160" y="2419560"/>
              <a:ext cx="1231560" cy="1879560"/>
            </a:xfrm>
            <a:custGeom>
              <a:avLst/>
              <a:gdLst/>
              <a:ahLst/>
              <a:rect l="l" t="t" r="r" b="b"/>
              <a:pathLst>
                <a:path w="912" h="1512">
                  <a:moveTo>
                    <a:pt x="0" y="1512"/>
                  </a:moveTo>
                  <a:lnTo>
                    <a:pt x="57" y="1485"/>
                  </a:lnTo>
                  <a:lnTo>
                    <a:pt x="99" y="1386"/>
                  </a:lnTo>
                  <a:lnTo>
                    <a:pt x="141" y="1365"/>
                  </a:lnTo>
                  <a:lnTo>
                    <a:pt x="189" y="1227"/>
                  </a:lnTo>
                  <a:lnTo>
                    <a:pt x="243" y="987"/>
                  </a:lnTo>
                  <a:lnTo>
                    <a:pt x="288" y="894"/>
                  </a:lnTo>
                  <a:lnTo>
                    <a:pt x="339" y="744"/>
                  </a:lnTo>
                  <a:lnTo>
                    <a:pt x="432" y="693"/>
                  </a:lnTo>
                  <a:lnTo>
                    <a:pt x="483" y="552"/>
                  </a:lnTo>
                  <a:lnTo>
                    <a:pt x="531" y="396"/>
                  </a:lnTo>
                  <a:lnTo>
                    <a:pt x="579" y="357"/>
                  </a:lnTo>
                  <a:lnTo>
                    <a:pt x="624" y="213"/>
                  </a:lnTo>
                  <a:lnTo>
                    <a:pt x="720" y="120"/>
                  </a:lnTo>
                  <a:lnTo>
                    <a:pt x="768" y="69"/>
                  </a:lnTo>
                  <a:lnTo>
                    <a:pt x="819" y="42"/>
                  </a:lnTo>
                  <a:lnTo>
                    <a:pt x="864" y="21"/>
                  </a:lnTo>
                  <a:lnTo>
                    <a:pt x="912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64040" y="1637280"/>
              <a:ext cx="284580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ximum Normalized Likelih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Variable-Length Observation Vector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72120" y="4936680"/>
              <a:ext cx="9475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6200000">
              <a:off x="4749840" y="3266280"/>
              <a:ext cx="1296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ob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467000" y="4870440"/>
            <a:ext cx="2066760" cy="1719000"/>
            <a:chOff x="1467000" y="4870440"/>
            <a:chExt cx="2066760" cy="1719000"/>
          </a:xfrm>
        </p:grpSpPr>
        <p:sp>
          <p:nvSpPr>
            <p:cNvPr id="378" name=""/>
            <p:cNvSpPr/>
            <p:nvPr/>
          </p:nvSpPr>
          <p:spPr>
            <a:xfrm>
              <a:off x="1687320" y="4978440"/>
              <a:ext cx="16574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Viterbi Evalu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00"/>
                  </a:solidFill>
                  <a:latin typeface="Tahoma"/>
                </a:rPr>
                <a:t>Finds optimal state sequ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467000" y="5265720"/>
              <a:ext cx="1963440" cy="1299240"/>
              <a:chOff x="1467000" y="5265720"/>
              <a:chExt cx="1963440" cy="1299240"/>
            </a:xfrm>
          </p:grpSpPr>
          <p:sp>
            <p:nvSpPr>
              <p:cNvPr id="380" name=""/>
              <p:cNvSpPr/>
              <p:nvPr/>
            </p:nvSpPr>
            <p:spPr>
              <a:xfrm>
                <a:off x="1728720" y="5608440"/>
                <a:ext cx="163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728720" y="5765760"/>
                <a:ext cx="1647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28720" y="5446440"/>
                <a:ext cx="1652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28720" y="5937120"/>
                <a:ext cx="1647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728720" y="6108480"/>
                <a:ext cx="1652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728720" y="6275160"/>
                <a:ext cx="1652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67000" y="5265720"/>
                <a:ext cx="380880" cy="12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Tahoma"/>
                  </a:rPr>
                  <a:t>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 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 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 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 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Tahoma"/>
                  </a:rPr>
                  <a:t>5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 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158920" y="5294160"/>
                <a:ext cx="0" cy="1081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76400" y="5294160"/>
                <a:ext cx="0" cy="1081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795320" y="5294160"/>
                <a:ext cx="0" cy="1081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>
                <a:off x="1794960" y="5446080"/>
                <a:ext cx="181080" cy="15732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1971360" y="5608080"/>
                <a:ext cx="190440" cy="468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152800" y="5540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flipV="1">
                <a:off x="2152800" y="5594400"/>
                <a:ext cx="171360" cy="171360"/>
              </a:xfrm>
              <a:prstGeom prst="line">
                <a:avLst/>
              </a:prstGeom>
              <a:ln w="9360">
                <a:solidFill>
                  <a:srgbClr val="99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28920" y="5294160"/>
                <a:ext cx="0" cy="1081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46400" y="5294160"/>
                <a:ext cx="0" cy="1081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63880" y="5294160"/>
                <a:ext cx="0" cy="1081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81360" y="5294160"/>
                <a:ext cx="0" cy="1081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3147480" y="6265440"/>
                <a:ext cx="181080" cy="468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967120" y="6103800"/>
                <a:ext cx="176040" cy="15732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2776680" y="6098760"/>
                <a:ext cx="180720" cy="468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2604600" y="5932440"/>
                <a:ext cx="171720" cy="171360"/>
              </a:xfrm>
              <a:prstGeom prst="line">
                <a:avLst/>
              </a:prstGeom>
              <a:ln w="9360">
                <a:solidFill>
                  <a:srgbClr val="99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35120" y="6333840"/>
                <a:ext cx="320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t-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217680" y="6319800"/>
                <a:ext cx="212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476360" y="4870440"/>
              <a:ext cx="2057400" cy="171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074120" y="5673600"/>
            <a:ext cx="2001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ick Highest Score o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timal window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4" idx="3"/>
            <a:endCxn id="405" idx="1"/>
          </p:cNvCxnSpPr>
          <p:nvPr/>
        </p:nvCxnSpPr>
        <p:spPr>
          <a:xfrm>
            <a:off x="3533400" y="5730840"/>
            <a:ext cx="524160" cy="218160"/>
          </a:xfrm>
          <a:prstGeom prst="curvedConnector5">
            <a:avLst>
              <a:gd name="adj1" fmla="val 49965"/>
              <a:gd name="adj2" fmla="val 49917"/>
              <a:gd name="adj3" fmla="val 49965"/>
            </a:avLst>
          </a:prstGeom>
          <a:ln w="9360">
            <a:solidFill>
              <a:srgbClr val="000000"/>
            </a:solidFill>
            <a:miter/>
            <a:tailEnd len="med" type="stealth" w="sm"/>
          </a:ln>
        </p:spPr>
      </p:cxnSp>
      <p:grpSp>
        <p:nvGrpSpPr>
          <p:cNvPr id="407" name=""/>
          <p:cNvGrpSpPr/>
          <p:nvPr/>
        </p:nvGrpSpPr>
        <p:grpSpPr>
          <a:xfrm>
            <a:off x="171360" y="3021120"/>
            <a:ext cx="4691160" cy="1849680"/>
            <a:chOff x="171360" y="3021120"/>
            <a:chExt cx="4691160" cy="1849680"/>
          </a:xfrm>
        </p:grpSpPr>
        <p:sp>
          <p:nvSpPr>
            <p:cNvPr id="408" name=""/>
            <p:cNvSpPr/>
            <p:nvPr/>
          </p:nvSpPr>
          <p:spPr>
            <a:xfrm>
              <a:off x="1223640" y="3021120"/>
              <a:ext cx="3638880" cy="1609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9" name=""/>
            <p:cNvCxnSpPr>
              <a:stCxn id="410" idx="3"/>
              <a:endCxn id="411" idx="2"/>
            </p:cNvCxnSpPr>
            <p:nvPr/>
          </p:nvCxnSpPr>
          <p:spPr>
            <a:xfrm flipV="1">
              <a:off x="1161720" y="3677400"/>
              <a:ext cx="310320" cy="381960"/>
            </a:xfrm>
            <a:prstGeom prst="bentConnector3">
              <a:avLst>
                <a:gd name="adj1" fmla="val 4970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2" name=""/>
            <p:cNvCxnSpPr>
              <a:stCxn id="410" idx="3"/>
              <a:endCxn id="413" idx="2"/>
            </p:cNvCxnSpPr>
            <p:nvPr/>
          </p:nvCxnSpPr>
          <p:spPr>
            <a:xfrm>
              <a:off x="1161720" y="4059360"/>
              <a:ext cx="315360" cy="381600"/>
            </a:xfrm>
            <a:prstGeom prst="bentConnector3">
              <a:avLst>
                <a:gd name="adj1" fmla="val 4994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14" name=""/>
            <p:cNvSpPr/>
            <p:nvPr/>
          </p:nvSpPr>
          <p:spPr>
            <a:xfrm>
              <a:off x="2500200" y="319248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lip forw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09760" y="387360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lip backw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82680" y="3021120"/>
              <a:ext cx="351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HMM Module: </a:t>
              </a:r>
              <a:r>
                <a:rPr b="1" lang="en-US" sz="1000" spc="-1" strike="noStrike">
                  <a:solidFill>
                    <a:srgbClr val="990000"/>
                  </a:solidFill>
                  <a:latin typeface="Tahoma"/>
                </a:rPr>
                <a:t>B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171360" y="3429000"/>
              <a:ext cx="1066680" cy="1095120"/>
              <a:chOff x="171360" y="3429000"/>
              <a:chExt cx="1066680" cy="1095120"/>
            </a:xfrm>
          </p:grpSpPr>
          <p:sp>
            <p:nvSpPr>
              <p:cNvPr id="418" name=""/>
              <p:cNvSpPr/>
              <p:nvPr/>
            </p:nvSpPr>
            <p:spPr>
              <a:xfrm>
                <a:off x="355320" y="3429000"/>
                <a:ext cx="69264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Centroi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Buff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7320" y="386856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085760" y="38685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09440" y="38685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33120" y="38685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57160" y="38685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80840" y="38685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3640" y="38685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9960" y="38685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" y="3792240"/>
                <a:ext cx="2286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009440" y="4249440"/>
                <a:ext cx="228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04520" y="4249440"/>
                <a:ext cx="381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t-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1360" y="4249440"/>
                <a:ext cx="457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t = 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1471320" y="3383280"/>
              <a:ext cx="2057040" cy="408960"/>
              <a:chOff x="1471320" y="3383280"/>
              <a:chExt cx="2057040" cy="4089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1471320" y="3564000"/>
                <a:ext cx="267840" cy="228240"/>
                <a:chOff x="1471320" y="3564000"/>
                <a:chExt cx="267840" cy="2282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1471320" y="3564000"/>
                  <a:ext cx="267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512000" y="3575520"/>
                  <a:ext cx="18612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2068200" y="3564000"/>
                <a:ext cx="267840" cy="228240"/>
                <a:chOff x="2068200" y="3564000"/>
                <a:chExt cx="267840" cy="2282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068200" y="3564000"/>
                  <a:ext cx="267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108880" y="3575520"/>
                  <a:ext cx="18612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63640" y="3564000"/>
                <a:ext cx="267840" cy="228240"/>
                <a:chOff x="2663640" y="3564000"/>
                <a:chExt cx="267840" cy="2282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63640" y="3564000"/>
                  <a:ext cx="267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704320" y="3575520"/>
                  <a:ext cx="18612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3260520" y="3564000"/>
                <a:ext cx="267840" cy="228240"/>
                <a:chOff x="3260520" y="3564000"/>
                <a:chExt cx="267840" cy="2282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260520" y="3564000"/>
                  <a:ext cx="267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301200" y="3575520"/>
                  <a:ext cx="18612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42" name=""/>
              <p:cNvCxnSpPr>
                <a:stCxn id="411" idx="1"/>
                <a:endCxn id="411" idx="7"/>
              </p:cNvCxnSpPr>
              <p:nvPr/>
            </p:nvCxnSpPr>
            <p:spPr>
              <a:xfrm flipH="1" rot="16200000">
                <a:off x="1604520" y="3503520"/>
                <a:ext cx="2160" cy="189720"/>
              </a:xfrm>
              <a:prstGeom prst="curvedConnector5">
                <a:avLst>
                  <a:gd name="adj1" fmla="val -11900000"/>
                  <a:gd name="adj2" fmla="val 50000"/>
                  <a:gd name="adj3" fmla="val -11900000"/>
                </a:avLst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43" name=""/>
              <p:cNvCxnSpPr>
                <a:stCxn id="434" idx="1"/>
                <a:endCxn id="434" idx="7"/>
              </p:cNvCxnSpPr>
              <p:nvPr/>
            </p:nvCxnSpPr>
            <p:spPr>
              <a:xfrm flipH="1" rot="16200000">
                <a:off x="2200680" y="3502800"/>
                <a:ext cx="2160" cy="191160"/>
              </a:xfrm>
              <a:prstGeom prst="curvedConnector5">
                <a:avLst>
                  <a:gd name="adj1" fmla="val -11600000"/>
                  <a:gd name="adj2" fmla="val 50000"/>
                  <a:gd name="adj3" fmla="val -11600000"/>
                </a:avLst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44" name=""/>
              <p:cNvCxnSpPr>
                <a:stCxn id="437" idx="1"/>
                <a:endCxn id="437" idx="7"/>
              </p:cNvCxnSpPr>
              <p:nvPr/>
            </p:nvCxnSpPr>
            <p:spPr>
              <a:xfrm flipH="1" rot="16200000">
                <a:off x="2797560" y="3502800"/>
                <a:ext cx="2160" cy="191160"/>
              </a:xfrm>
              <a:prstGeom prst="curvedConnector5">
                <a:avLst>
                  <a:gd name="adj1" fmla="val -11400000"/>
                  <a:gd name="adj2" fmla="val 50000"/>
                  <a:gd name="adj3" fmla="val -11400000"/>
                </a:avLst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45" name=""/>
              <p:cNvCxnSpPr>
                <a:stCxn id="440" idx="1"/>
                <a:endCxn id="440" idx="7"/>
              </p:cNvCxnSpPr>
              <p:nvPr/>
            </p:nvCxnSpPr>
            <p:spPr>
              <a:xfrm flipH="1" rot="16200000">
                <a:off x="3393720" y="3503520"/>
                <a:ext cx="2160" cy="189720"/>
              </a:xfrm>
              <a:prstGeom prst="curvedConnector5">
                <a:avLst>
                  <a:gd name="adj1" fmla="val -11900000"/>
                  <a:gd name="adj2" fmla="val 50000"/>
                  <a:gd name="adj3" fmla="val -11900000"/>
                </a:avLst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46" name=""/>
              <p:cNvCxnSpPr>
                <a:stCxn id="411" idx="6"/>
                <a:endCxn id="434" idx="2"/>
              </p:cNvCxnSpPr>
              <p:nvPr/>
            </p:nvCxnSpPr>
            <p:spPr>
              <a:xfrm>
                <a:off x="1739160" y="3678120"/>
                <a:ext cx="329040" cy="1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47" name=""/>
              <p:cNvCxnSpPr>
                <a:stCxn id="434" idx="6"/>
                <a:endCxn id="437" idx="2"/>
              </p:cNvCxnSpPr>
              <p:nvPr/>
            </p:nvCxnSpPr>
            <p:spPr>
              <a:xfrm>
                <a:off x="2336040" y="3678120"/>
                <a:ext cx="327960" cy="1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48" name=""/>
              <p:cNvCxnSpPr>
                <a:stCxn id="437" idx="6"/>
                <a:endCxn id="440" idx="2"/>
              </p:cNvCxnSpPr>
              <p:nvPr/>
            </p:nvCxnSpPr>
            <p:spPr>
              <a:xfrm>
                <a:off x="2931480" y="3678120"/>
                <a:ext cx="329040" cy="1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</p:grpSp>
        <p:grpSp>
          <p:nvGrpSpPr>
            <p:cNvPr id="449" name=""/>
            <p:cNvGrpSpPr/>
            <p:nvPr/>
          </p:nvGrpSpPr>
          <p:grpSpPr>
            <a:xfrm>
              <a:off x="3857400" y="3560760"/>
              <a:ext cx="267840" cy="228240"/>
              <a:chOff x="3857400" y="3560760"/>
              <a:chExt cx="267840" cy="228240"/>
            </a:xfrm>
          </p:grpSpPr>
          <p:sp>
            <p:nvSpPr>
              <p:cNvPr id="450" name=""/>
              <p:cNvSpPr/>
              <p:nvPr/>
            </p:nvSpPr>
            <p:spPr>
              <a:xfrm>
                <a:off x="3857400" y="3560760"/>
                <a:ext cx="2678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98080" y="3572280"/>
                <a:ext cx="186120" cy="20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435200" y="3565440"/>
              <a:ext cx="268200" cy="228240"/>
              <a:chOff x="4435200" y="3565440"/>
              <a:chExt cx="268200" cy="228240"/>
            </a:xfrm>
          </p:grpSpPr>
          <p:sp>
            <p:nvSpPr>
              <p:cNvPr id="453" name=""/>
              <p:cNvSpPr/>
              <p:nvPr/>
            </p:nvSpPr>
            <p:spPr>
              <a:xfrm>
                <a:off x="4435200" y="3565440"/>
                <a:ext cx="2682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475880" y="3576960"/>
                <a:ext cx="186480" cy="20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55" name=""/>
            <p:cNvCxnSpPr>
              <a:stCxn id="450" idx="1"/>
              <a:endCxn id="450" idx="7"/>
            </p:cNvCxnSpPr>
            <p:nvPr/>
          </p:nvCxnSpPr>
          <p:spPr>
            <a:xfrm flipH="1" rot="16200000">
              <a:off x="3990600" y="3500280"/>
              <a:ext cx="2160" cy="189720"/>
            </a:xfrm>
            <a:prstGeom prst="curvedConnector5">
              <a:avLst>
                <a:gd name="adj1" fmla="val -11900000"/>
                <a:gd name="adj2" fmla="val 50000"/>
                <a:gd name="adj3" fmla="val -11900000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456" name=""/>
            <p:cNvCxnSpPr>
              <a:stCxn id="453" idx="1"/>
              <a:endCxn id="453" idx="7"/>
            </p:cNvCxnSpPr>
            <p:nvPr/>
          </p:nvCxnSpPr>
          <p:spPr>
            <a:xfrm flipH="1" rot="16200000">
              <a:off x="4568760" y="3504960"/>
              <a:ext cx="2160" cy="189360"/>
            </a:xfrm>
            <a:prstGeom prst="curvedConnector5">
              <a:avLst>
                <a:gd name="adj1" fmla="val -11900000"/>
                <a:gd name="adj2" fmla="val 49904"/>
                <a:gd name="adj3" fmla="val -11900000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457" name=""/>
            <p:cNvCxnSpPr>
              <a:stCxn id="450" idx="6"/>
              <a:endCxn id="453" idx="2"/>
            </p:cNvCxnSpPr>
            <p:nvPr/>
          </p:nvCxnSpPr>
          <p:spPr>
            <a:xfrm>
              <a:off x="4125600" y="3674880"/>
              <a:ext cx="310320" cy="5400"/>
            </a:xfrm>
            <a:prstGeom prst="curvedConnector5">
              <a:avLst>
                <a:gd name="adj1" fmla="val 49709"/>
                <a:gd name="adj2" fmla="val 50000"/>
                <a:gd name="adj3" fmla="val 49709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458" name=""/>
            <p:cNvCxnSpPr>
              <a:stCxn id="440" idx="6"/>
              <a:endCxn id="450" idx="2"/>
            </p:cNvCxnSpPr>
            <p:nvPr/>
          </p:nvCxnSpPr>
          <p:spPr>
            <a:xfrm flipV="1">
              <a:off x="3528360" y="3674880"/>
              <a:ext cx="329040" cy="3600"/>
            </a:xfrm>
            <a:prstGeom prst="curvedConnector5">
              <a:avLst>
                <a:gd name="adj1" fmla="val 49726"/>
                <a:gd name="adj2" fmla="val 44444"/>
                <a:gd name="adj3" fmla="val 49726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grpSp>
          <p:nvGrpSpPr>
            <p:cNvPr id="459" name=""/>
            <p:cNvGrpSpPr/>
            <p:nvPr/>
          </p:nvGrpSpPr>
          <p:grpSpPr>
            <a:xfrm>
              <a:off x="1476360" y="4145400"/>
              <a:ext cx="2057040" cy="408960"/>
              <a:chOff x="1476360" y="4145400"/>
              <a:chExt cx="2057040" cy="40896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1476360" y="4326120"/>
                <a:ext cx="267840" cy="228240"/>
                <a:chOff x="1476360" y="4326120"/>
                <a:chExt cx="267840" cy="2282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476360" y="4326120"/>
                  <a:ext cx="267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517040" y="4337640"/>
                  <a:ext cx="18612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073240" y="4326120"/>
                <a:ext cx="267840" cy="228240"/>
                <a:chOff x="2073240" y="4326120"/>
                <a:chExt cx="267840" cy="228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073240" y="4326120"/>
                  <a:ext cx="267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113920" y="4337640"/>
                  <a:ext cx="18612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2668680" y="4326120"/>
                <a:ext cx="267840" cy="228240"/>
                <a:chOff x="2668680" y="4326120"/>
                <a:chExt cx="267840" cy="228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668680" y="4326120"/>
                  <a:ext cx="267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709360" y="4337640"/>
                  <a:ext cx="18612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265560" y="4326120"/>
                <a:ext cx="267840" cy="228240"/>
                <a:chOff x="3265560" y="4326120"/>
                <a:chExt cx="267840" cy="2282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3265560" y="4326120"/>
                  <a:ext cx="2678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306240" y="4337640"/>
                  <a:ext cx="18612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71" name=""/>
              <p:cNvCxnSpPr>
                <a:stCxn id="413" idx="1"/>
                <a:endCxn id="413" idx="7"/>
              </p:cNvCxnSpPr>
              <p:nvPr/>
            </p:nvCxnSpPr>
            <p:spPr>
              <a:xfrm flipH="1" rot="16200000">
                <a:off x="1609560" y="4265640"/>
                <a:ext cx="2160" cy="189720"/>
              </a:xfrm>
              <a:prstGeom prst="curvedConnector5">
                <a:avLst>
                  <a:gd name="adj1" fmla="val -11900000"/>
                  <a:gd name="adj2" fmla="val 50000"/>
                  <a:gd name="adj3" fmla="val -11900000"/>
                </a:avLst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72" name=""/>
              <p:cNvCxnSpPr>
                <a:stCxn id="463" idx="1"/>
                <a:endCxn id="463" idx="7"/>
              </p:cNvCxnSpPr>
              <p:nvPr/>
            </p:nvCxnSpPr>
            <p:spPr>
              <a:xfrm flipH="1" rot="16200000">
                <a:off x="2205720" y="4264920"/>
                <a:ext cx="2160" cy="191160"/>
              </a:xfrm>
              <a:prstGeom prst="curvedConnector5">
                <a:avLst>
                  <a:gd name="adj1" fmla="val -11600000"/>
                  <a:gd name="adj2" fmla="val 50000"/>
                  <a:gd name="adj3" fmla="val -11600000"/>
                </a:avLst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73" name=""/>
              <p:cNvCxnSpPr>
                <a:stCxn id="466" idx="1"/>
                <a:endCxn id="466" idx="7"/>
              </p:cNvCxnSpPr>
              <p:nvPr/>
            </p:nvCxnSpPr>
            <p:spPr>
              <a:xfrm flipH="1" rot="16200000">
                <a:off x="2802600" y="4264920"/>
                <a:ext cx="2160" cy="191160"/>
              </a:xfrm>
              <a:prstGeom prst="curvedConnector5">
                <a:avLst>
                  <a:gd name="adj1" fmla="val -11400000"/>
                  <a:gd name="adj2" fmla="val 50000"/>
                  <a:gd name="adj3" fmla="val -11400000"/>
                </a:avLst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74" name=""/>
              <p:cNvCxnSpPr>
                <a:stCxn id="469" idx="1"/>
                <a:endCxn id="469" idx="7"/>
              </p:cNvCxnSpPr>
              <p:nvPr/>
            </p:nvCxnSpPr>
            <p:spPr>
              <a:xfrm flipH="1" rot="16200000">
                <a:off x="3398760" y="4265640"/>
                <a:ext cx="2160" cy="189720"/>
              </a:xfrm>
              <a:prstGeom prst="curvedConnector5">
                <a:avLst>
                  <a:gd name="adj1" fmla="val -11900000"/>
                  <a:gd name="adj2" fmla="val 50000"/>
                  <a:gd name="adj3" fmla="val -11900000"/>
                </a:avLst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75" name=""/>
              <p:cNvCxnSpPr>
                <a:stCxn id="413" idx="6"/>
                <a:endCxn id="463" idx="2"/>
              </p:cNvCxnSpPr>
              <p:nvPr/>
            </p:nvCxnSpPr>
            <p:spPr>
              <a:xfrm>
                <a:off x="1744200" y="4440240"/>
                <a:ext cx="329040" cy="1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76" name=""/>
              <p:cNvCxnSpPr>
                <a:stCxn id="463" idx="6"/>
                <a:endCxn id="466" idx="2"/>
              </p:cNvCxnSpPr>
              <p:nvPr/>
            </p:nvCxnSpPr>
            <p:spPr>
              <a:xfrm>
                <a:off x="2341080" y="4440240"/>
                <a:ext cx="327960" cy="1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  <p:cxnSp>
            <p:nvCxnSpPr>
              <p:cNvPr id="477" name=""/>
              <p:cNvCxnSpPr>
                <a:stCxn id="466" idx="6"/>
                <a:endCxn id="469" idx="2"/>
              </p:cNvCxnSpPr>
              <p:nvPr/>
            </p:nvCxnSpPr>
            <p:spPr>
              <a:xfrm>
                <a:off x="2936520" y="4440240"/>
                <a:ext cx="329040" cy="1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</p:cxnSp>
        </p:grpSp>
        <p:grpSp>
          <p:nvGrpSpPr>
            <p:cNvPr id="478" name=""/>
            <p:cNvGrpSpPr/>
            <p:nvPr/>
          </p:nvGrpSpPr>
          <p:grpSpPr>
            <a:xfrm>
              <a:off x="3862080" y="4330800"/>
              <a:ext cx="268200" cy="228240"/>
              <a:chOff x="3862080" y="4330800"/>
              <a:chExt cx="268200" cy="228240"/>
            </a:xfrm>
          </p:grpSpPr>
          <p:sp>
            <p:nvSpPr>
              <p:cNvPr id="479" name=""/>
              <p:cNvSpPr/>
              <p:nvPr/>
            </p:nvSpPr>
            <p:spPr>
              <a:xfrm>
                <a:off x="3862080" y="4330800"/>
                <a:ext cx="2682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02760" y="4342320"/>
                <a:ext cx="186480" cy="20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4440240" y="4327560"/>
              <a:ext cx="267840" cy="228240"/>
              <a:chOff x="4440240" y="4327560"/>
              <a:chExt cx="267840" cy="228240"/>
            </a:xfrm>
          </p:grpSpPr>
          <p:sp>
            <p:nvSpPr>
              <p:cNvPr id="482" name=""/>
              <p:cNvSpPr/>
              <p:nvPr/>
            </p:nvSpPr>
            <p:spPr>
              <a:xfrm>
                <a:off x="4440240" y="4327560"/>
                <a:ext cx="2678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480920" y="4339080"/>
                <a:ext cx="186120" cy="20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84" name=""/>
            <p:cNvCxnSpPr>
              <a:stCxn id="479" idx="1"/>
              <a:endCxn id="479" idx="7"/>
            </p:cNvCxnSpPr>
            <p:nvPr/>
          </p:nvCxnSpPr>
          <p:spPr>
            <a:xfrm flipH="1" rot="16200000">
              <a:off x="3995280" y="4269240"/>
              <a:ext cx="2520" cy="189360"/>
            </a:xfrm>
            <a:prstGeom prst="curvedConnector5">
              <a:avLst>
                <a:gd name="adj1" fmla="val -11400000"/>
                <a:gd name="adj2" fmla="val 49904"/>
                <a:gd name="adj3" fmla="val -11400000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485" name=""/>
            <p:cNvCxnSpPr>
              <a:stCxn id="482" idx="1"/>
              <a:endCxn id="482" idx="7"/>
            </p:cNvCxnSpPr>
            <p:nvPr/>
          </p:nvCxnSpPr>
          <p:spPr>
            <a:xfrm flipH="1" rot="16200000">
              <a:off x="4573440" y="4267080"/>
              <a:ext cx="2160" cy="189720"/>
            </a:xfrm>
            <a:prstGeom prst="curvedConnector5">
              <a:avLst>
                <a:gd name="adj1" fmla="val -13400000"/>
                <a:gd name="adj2" fmla="val 50000"/>
                <a:gd name="adj3" fmla="val -13400000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486" name=""/>
            <p:cNvCxnSpPr>
              <a:stCxn id="479" idx="6"/>
              <a:endCxn id="482" idx="2"/>
            </p:cNvCxnSpPr>
            <p:nvPr/>
          </p:nvCxnSpPr>
          <p:spPr>
            <a:xfrm flipV="1">
              <a:off x="4130640" y="4441680"/>
              <a:ext cx="310320" cy="3600"/>
            </a:xfrm>
            <a:prstGeom prst="curvedConnector5">
              <a:avLst>
                <a:gd name="adj1" fmla="val 49709"/>
                <a:gd name="adj2" fmla="val 44444"/>
                <a:gd name="adj3" fmla="val 49709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487" name=""/>
            <p:cNvCxnSpPr>
              <a:stCxn id="469" idx="6"/>
              <a:endCxn id="479" idx="2"/>
            </p:cNvCxnSpPr>
            <p:nvPr/>
          </p:nvCxnSpPr>
          <p:spPr>
            <a:xfrm>
              <a:off x="3533760" y="4439880"/>
              <a:ext cx="329040" cy="5400"/>
            </a:xfrm>
            <a:prstGeom prst="curvedConnector5">
              <a:avLst>
                <a:gd name="adj1" fmla="val 49726"/>
                <a:gd name="adj2" fmla="val 50000"/>
                <a:gd name="adj3" fmla="val 49726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488" name=""/>
            <p:cNvCxnSpPr>
              <a:stCxn id="408" idx="2"/>
              <a:endCxn id="404" idx="0"/>
            </p:cNvCxnSpPr>
            <p:nvPr/>
          </p:nvCxnSpPr>
          <p:spPr>
            <a:xfrm rot="5400000">
              <a:off x="2653200" y="4481280"/>
              <a:ext cx="240480" cy="538920"/>
            </a:xfrm>
            <a:prstGeom prst="curvedConnector5">
              <a:avLst>
                <a:gd name="adj1" fmla="val 49625"/>
                <a:gd name="adj2" fmla="val 50000"/>
                <a:gd name="adj3" fmla="val 49625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</p:grpSp>
      <p:cxnSp>
        <p:nvCxnSpPr>
          <p:cNvPr id="489" name=""/>
          <p:cNvCxnSpPr>
            <a:stCxn id="405" idx="3"/>
            <a:endCxn id="336" idx="2"/>
          </p:cNvCxnSpPr>
          <p:nvPr/>
        </p:nvCxnSpPr>
        <p:spPr>
          <a:xfrm flipV="1">
            <a:off x="6092640" y="5037840"/>
            <a:ext cx="1068480" cy="91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arkov Chai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80960" y="1871280"/>
            <a:ext cx="3641760" cy="36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-level activities modeled as Markov ch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determined manu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rkov chains for the same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078440" y="2449440"/>
            <a:ext cx="4708440" cy="1871640"/>
            <a:chOff x="4078440" y="2449440"/>
            <a:chExt cx="4708440" cy="1871640"/>
          </a:xfrm>
        </p:grpSpPr>
        <p:sp>
          <p:nvSpPr>
            <p:cNvPr id="493" name=""/>
            <p:cNvSpPr/>
            <p:nvPr/>
          </p:nvSpPr>
          <p:spPr>
            <a:xfrm>
              <a:off x="4135680" y="2449440"/>
              <a:ext cx="4562280" cy="187164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kov Models for Accel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24480" y="3130560"/>
              <a:ext cx="264960" cy="255240"/>
              <a:chOff x="5424480" y="3130560"/>
              <a:chExt cx="264960" cy="255240"/>
            </a:xfrm>
          </p:grpSpPr>
          <p:sp>
            <p:nvSpPr>
              <p:cNvPr id="495" name=""/>
              <p:cNvSpPr/>
              <p:nvPr/>
            </p:nvSpPr>
            <p:spPr>
              <a:xfrm>
                <a:off x="5424480" y="3130560"/>
                <a:ext cx="2649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64800" y="3143520"/>
                <a:ext cx="18432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6012000" y="3130560"/>
              <a:ext cx="263160" cy="255240"/>
              <a:chOff x="6012000" y="3130560"/>
              <a:chExt cx="263160" cy="255240"/>
            </a:xfrm>
          </p:grpSpPr>
          <p:sp>
            <p:nvSpPr>
              <p:cNvPr id="498" name=""/>
              <p:cNvSpPr/>
              <p:nvPr/>
            </p:nvSpPr>
            <p:spPr>
              <a:xfrm>
                <a:off x="6012000" y="3130560"/>
                <a:ext cx="2631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51960" y="3143520"/>
                <a:ext cx="1828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6596280" y="3130560"/>
              <a:ext cx="263160" cy="255240"/>
              <a:chOff x="6596280" y="3130560"/>
              <a:chExt cx="263160" cy="255240"/>
            </a:xfrm>
          </p:grpSpPr>
          <p:sp>
            <p:nvSpPr>
              <p:cNvPr id="501" name=""/>
              <p:cNvSpPr/>
              <p:nvPr/>
            </p:nvSpPr>
            <p:spPr>
              <a:xfrm>
                <a:off x="6596280" y="3130560"/>
                <a:ext cx="2631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36240" y="3143520"/>
                <a:ext cx="1828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7183440" y="3130560"/>
              <a:ext cx="263160" cy="255240"/>
              <a:chOff x="7183440" y="3130560"/>
              <a:chExt cx="263160" cy="255240"/>
            </a:xfrm>
          </p:grpSpPr>
          <p:sp>
            <p:nvSpPr>
              <p:cNvPr id="504" name=""/>
              <p:cNvSpPr/>
              <p:nvPr/>
            </p:nvSpPr>
            <p:spPr>
              <a:xfrm>
                <a:off x="7183440" y="3130560"/>
                <a:ext cx="2631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23400" y="3143520"/>
                <a:ext cx="1828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6" name=""/>
            <p:cNvCxnSpPr>
              <a:stCxn id="495" idx="6"/>
              <a:endCxn id="498" idx="2"/>
            </p:cNvCxnSpPr>
            <p:nvPr/>
          </p:nvCxnSpPr>
          <p:spPr>
            <a:xfrm>
              <a:off x="5689440" y="3257280"/>
              <a:ext cx="32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507" name=""/>
            <p:cNvCxnSpPr>
              <a:stCxn id="498" idx="6"/>
              <a:endCxn id="501" idx="2"/>
            </p:cNvCxnSpPr>
            <p:nvPr/>
          </p:nvCxnSpPr>
          <p:spPr>
            <a:xfrm>
              <a:off x="6275160" y="3257280"/>
              <a:ext cx="3214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508" name=""/>
            <p:cNvCxnSpPr>
              <a:stCxn id="501" idx="6"/>
              <a:endCxn id="504" idx="2"/>
            </p:cNvCxnSpPr>
            <p:nvPr/>
          </p:nvCxnSpPr>
          <p:spPr>
            <a:xfrm>
              <a:off x="6859440" y="3257280"/>
              <a:ext cx="3243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grpSp>
          <p:nvGrpSpPr>
            <p:cNvPr id="509" name=""/>
            <p:cNvGrpSpPr/>
            <p:nvPr/>
          </p:nvGrpSpPr>
          <p:grpSpPr>
            <a:xfrm>
              <a:off x="7780320" y="3130560"/>
              <a:ext cx="263160" cy="255240"/>
              <a:chOff x="7780320" y="3130560"/>
              <a:chExt cx="263160" cy="255240"/>
            </a:xfrm>
          </p:grpSpPr>
          <p:sp>
            <p:nvSpPr>
              <p:cNvPr id="510" name=""/>
              <p:cNvSpPr/>
              <p:nvPr/>
            </p:nvSpPr>
            <p:spPr>
              <a:xfrm>
                <a:off x="7780320" y="3130560"/>
                <a:ext cx="2631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820280" y="3143520"/>
                <a:ext cx="1828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827600" y="3130560"/>
              <a:ext cx="263160" cy="255240"/>
              <a:chOff x="4827600" y="3130560"/>
              <a:chExt cx="263160" cy="255240"/>
            </a:xfrm>
          </p:grpSpPr>
          <p:sp>
            <p:nvSpPr>
              <p:cNvPr id="513" name=""/>
              <p:cNvSpPr/>
              <p:nvPr/>
            </p:nvSpPr>
            <p:spPr>
              <a:xfrm>
                <a:off x="4827600" y="3130560"/>
                <a:ext cx="2631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67560" y="3143520"/>
                <a:ext cx="1828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5" name=""/>
            <p:cNvCxnSpPr>
              <a:stCxn id="504" idx="6"/>
              <a:endCxn id="510" idx="2"/>
            </p:cNvCxnSpPr>
            <p:nvPr/>
          </p:nvCxnSpPr>
          <p:spPr>
            <a:xfrm>
              <a:off x="7446960" y="3257280"/>
              <a:ext cx="334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516" name=""/>
            <p:cNvCxnSpPr>
              <a:stCxn id="513" idx="6"/>
              <a:endCxn id="495" idx="2"/>
            </p:cNvCxnSpPr>
            <p:nvPr/>
          </p:nvCxnSpPr>
          <p:spPr>
            <a:xfrm>
              <a:off x="5091120" y="3257280"/>
              <a:ext cx="334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grpSp>
          <p:nvGrpSpPr>
            <p:cNvPr id="517" name=""/>
            <p:cNvGrpSpPr/>
            <p:nvPr/>
          </p:nvGrpSpPr>
          <p:grpSpPr>
            <a:xfrm>
              <a:off x="8344080" y="3130560"/>
              <a:ext cx="263160" cy="255240"/>
              <a:chOff x="8344080" y="3130560"/>
              <a:chExt cx="263160" cy="255240"/>
            </a:xfrm>
          </p:grpSpPr>
          <p:sp>
            <p:nvSpPr>
              <p:cNvPr id="518" name=""/>
              <p:cNvSpPr/>
              <p:nvPr/>
            </p:nvSpPr>
            <p:spPr>
              <a:xfrm>
                <a:off x="8344080" y="3130560"/>
                <a:ext cx="2631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384040" y="3143520"/>
                <a:ext cx="1828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0" name=""/>
            <p:cNvCxnSpPr>
              <a:stCxn id="510" idx="6"/>
              <a:endCxn id="518" idx="2"/>
            </p:cNvCxnSpPr>
            <p:nvPr/>
          </p:nvCxnSpPr>
          <p:spPr>
            <a:xfrm>
              <a:off x="8043840" y="3257280"/>
              <a:ext cx="3006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521" name=""/>
            <p:cNvCxnSpPr>
              <a:stCxn id="501" idx="0"/>
              <a:endCxn id="519" idx="0"/>
            </p:cNvCxnSpPr>
            <p:nvPr/>
          </p:nvCxnSpPr>
          <p:spPr>
            <a:xfrm flipH="1" rot="16200000">
              <a:off x="7596000" y="2262600"/>
              <a:ext cx="13320" cy="1747080"/>
            </a:xfrm>
            <a:prstGeom prst="curvedConnector5">
              <a:avLst>
                <a:gd name="adj1" fmla="val -2741666"/>
                <a:gd name="adj2" fmla="val 50000"/>
                <a:gd name="adj3" fmla="val -2741666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522" name=""/>
            <p:cNvCxnSpPr>
              <a:stCxn id="505" idx="0"/>
              <a:endCxn id="519" idx="0"/>
            </p:cNvCxnSpPr>
            <p:nvPr/>
          </p:nvCxnSpPr>
          <p:spPr>
            <a:xfrm flipH="1" rot="16200000">
              <a:off x="7894440" y="2562480"/>
              <a:ext cx="2520" cy="1161360"/>
            </a:xfrm>
            <a:prstGeom prst="curvedConnector5">
              <a:avLst>
                <a:gd name="adj1" fmla="val -11300000"/>
                <a:gd name="adj2" fmla="val 49984"/>
                <a:gd name="adj3" fmla="val -11300000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grpSp>
          <p:nvGrpSpPr>
            <p:cNvPr id="523" name=""/>
            <p:cNvGrpSpPr/>
            <p:nvPr/>
          </p:nvGrpSpPr>
          <p:grpSpPr>
            <a:xfrm>
              <a:off x="4227480" y="3130560"/>
              <a:ext cx="263160" cy="255240"/>
              <a:chOff x="4227480" y="3130560"/>
              <a:chExt cx="263160" cy="255240"/>
            </a:xfrm>
          </p:grpSpPr>
          <p:sp>
            <p:nvSpPr>
              <p:cNvPr id="524" name=""/>
              <p:cNvSpPr/>
              <p:nvPr/>
            </p:nvSpPr>
            <p:spPr>
              <a:xfrm>
                <a:off x="4227480" y="3130560"/>
                <a:ext cx="2631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267440" y="3143520"/>
                <a:ext cx="1828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"/>
            <p:cNvCxnSpPr>
              <a:stCxn id="524" idx="6"/>
              <a:endCxn id="514" idx="1"/>
            </p:cNvCxnSpPr>
            <p:nvPr/>
          </p:nvCxnSpPr>
          <p:spPr>
            <a:xfrm>
              <a:off x="4490640" y="3257280"/>
              <a:ext cx="3754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cxnSp>
          <p:nvCxnSpPr>
            <p:cNvPr id="527" name=""/>
            <p:cNvCxnSpPr>
              <a:stCxn id="524" idx="0"/>
              <a:endCxn id="495" idx="0"/>
            </p:cNvCxnSpPr>
            <p:nvPr/>
          </p:nvCxnSpPr>
          <p:spPr>
            <a:xfrm flipH="1" rot="16200000">
              <a:off x="4957200" y="2532600"/>
              <a:ext cx="3960" cy="1197360"/>
            </a:xfrm>
            <a:prstGeom prst="curvedConnector5">
              <a:avLst>
                <a:gd name="adj1" fmla="val -6600000"/>
                <a:gd name="adj2" fmla="val 49984"/>
                <a:gd name="adj3" fmla="val -6600000"/>
              </a:avLst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sp>
          <p:nvSpPr>
            <p:cNvPr id="528" name=""/>
            <p:cNvSpPr/>
            <p:nvPr/>
          </p:nvSpPr>
          <p:spPr>
            <a:xfrm>
              <a:off x="4078440" y="3386160"/>
              <a:ext cx="525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269560" y="3386160"/>
              <a:ext cx="51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78560" y="3386160"/>
              <a:ext cx="52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ut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32680" y="3386160"/>
              <a:ext cx="52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73760" y="3386160"/>
              <a:ext cx="525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73880" y="3386160"/>
              <a:ext cx="52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61400" y="33782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88520" y="338616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7183440" y="3811680"/>
              <a:ext cx="263160" cy="255240"/>
              <a:chOff x="7183440" y="3811680"/>
              <a:chExt cx="263160" cy="255240"/>
            </a:xfrm>
          </p:grpSpPr>
          <p:sp>
            <p:nvSpPr>
              <p:cNvPr id="537" name=""/>
              <p:cNvSpPr/>
              <p:nvPr/>
            </p:nvSpPr>
            <p:spPr>
              <a:xfrm>
                <a:off x="7183440" y="3811680"/>
                <a:ext cx="2631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223400" y="3824640"/>
                <a:ext cx="1828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39" name=""/>
            <p:cNvCxnSpPr>
              <a:stCxn id="540" idx="6"/>
              <a:endCxn id="537" idx="2"/>
            </p:cNvCxnSpPr>
            <p:nvPr/>
          </p:nvCxnSpPr>
          <p:spPr>
            <a:xfrm>
              <a:off x="6851520" y="3938040"/>
              <a:ext cx="3322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grpSp>
          <p:nvGrpSpPr>
            <p:cNvPr id="541" name=""/>
            <p:cNvGrpSpPr/>
            <p:nvPr/>
          </p:nvGrpSpPr>
          <p:grpSpPr>
            <a:xfrm>
              <a:off x="7780320" y="3811680"/>
              <a:ext cx="263160" cy="255240"/>
              <a:chOff x="7780320" y="3811680"/>
              <a:chExt cx="263160" cy="255240"/>
            </a:xfrm>
          </p:grpSpPr>
          <p:sp>
            <p:nvSpPr>
              <p:cNvPr id="542" name=""/>
              <p:cNvSpPr/>
              <p:nvPr/>
            </p:nvSpPr>
            <p:spPr>
              <a:xfrm>
                <a:off x="7780320" y="3811680"/>
                <a:ext cx="2631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820280" y="3824640"/>
                <a:ext cx="1828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44" name=""/>
            <p:cNvCxnSpPr>
              <a:stCxn id="537" idx="6"/>
              <a:endCxn id="542" idx="2"/>
            </p:cNvCxnSpPr>
            <p:nvPr/>
          </p:nvCxnSpPr>
          <p:spPr>
            <a:xfrm>
              <a:off x="7446960" y="3938040"/>
              <a:ext cx="334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grpSp>
          <p:nvGrpSpPr>
            <p:cNvPr id="545" name=""/>
            <p:cNvGrpSpPr/>
            <p:nvPr/>
          </p:nvGrpSpPr>
          <p:grpSpPr>
            <a:xfrm>
              <a:off x="8344080" y="3811680"/>
              <a:ext cx="263160" cy="255240"/>
              <a:chOff x="8344080" y="3811680"/>
              <a:chExt cx="263160" cy="255240"/>
            </a:xfrm>
          </p:grpSpPr>
          <p:sp>
            <p:nvSpPr>
              <p:cNvPr id="546" name=""/>
              <p:cNvSpPr/>
              <p:nvPr/>
            </p:nvSpPr>
            <p:spPr>
              <a:xfrm>
                <a:off x="8344080" y="3811680"/>
                <a:ext cx="2631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384040" y="3824640"/>
                <a:ext cx="1828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48" name=""/>
            <p:cNvCxnSpPr>
              <a:stCxn id="542" idx="6"/>
              <a:endCxn id="546" idx="2"/>
            </p:cNvCxnSpPr>
            <p:nvPr/>
          </p:nvCxnSpPr>
          <p:spPr>
            <a:xfrm>
              <a:off x="8043840" y="3938040"/>
              <a:ext cx="3006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</p:cxnSp>
        <p:grpSp>
          <p:nvGrpSpPr>
            <p:cNvPr id="549" name=""/>
            <p:cNvGrpSpPr/>
            <p:nvPr/>
          </p:nvGrpSpPr>
          <p:grpSpPr>
            <a:xfrm>
              <a:off x="6588360" y="3811680"/>
              <a:ext cx="263160" cy="255240"/>
              <a:chOff x="6588360" y="3811680"/>
              <a:chExt cx="263160" cy="255240"/>
            </a:xfrm>
          </p:grpSpPr>
          <p:sp>
            <p:nvSpPr>
              <p:cNvPr id="540" name=""/>
              <p:cNvSpPr/>
              <p:nvPr/>
            </p:nvSpPr>
            <p:spPr>
              <a:xfrm>
                <a:off x="6588360" y="3811680"/>
                <a:ext cx="26316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628320" y="3824640"/>
                <a:ext cx="1828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380280" y="406404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69560" y="4064040"/>
              <a:ext cx="48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61400" y="40543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88520" y="4064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5" name="eq_chains" descr=""/>
          <p:cNvPicPr/>
          <p:nvPr/>
        </p:nvPicPr>
        <p:blipFill>
          <a:blip r:embed="rId1"/>
          <a:stretch/>
        </p:blipFill>
        <p:spPr>
          <a:xfrm>
            <a:off x="3103560" y="4881600"/>
            <a:ext cx="2631960" cy="619200"/>
          </a:xfrm>
          <a:prstGeom prst="rect">
            <a:avLst/>
          </a:prstGeom>
          <a:ln w="0">
            <a:noFill/>
          </a:ln>
        </p:spPr>
      </p:pic>
      <p:pic>
        <p:nvPicPr>
          <p:cNvPr id="556" name="eq_chains_q" descr=""/>
          <p:cNvPicPr/>
          <p:nvPr/>
        </p:nvPicPr>
        <p:blipFill>
          <a:blip r:embed="rId2"/>
          <a:stretch/>
        </p:blipFill>
        <p:spPr>
          <a:xfrm>
            <a:off x="1574640" y="5710320"/>
            <a:ext cx="2760840" cy="453960"/>
          </a:xfrm>
          <a:prstGeom prst="rect">
            <a:avLst/>
          </a:prstGeom>
          <a:ln w="0">
            <a:noFill/>
          </a:ln>
        </p:spPr>
      </p:pic>
      <p:pic>
        <p:nvPicPr>
          <p:cNvPr id="557" name="eq_chains_omega" descr=""/>
          <p:cNvPicPr/>
          <p:nvPr/>
        </p:nvPicPr>
        <p:blipFill>
          <a:blip r:embed="rId3"/>
          <a:stretch/>
        </p:blipFill>
        <p:spPr>
          <a:xfrm>
            <a:off x="4932360" y="5734080"/>
            <a:ext cx="26686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ognizing Single-tasked Activiti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57280" y="1690560"/>
            <a:ext cx="8346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ov chain composed of actions and contact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2681280" y="3889440"/>
            <a:ext cx="5219640" cy="2511360"/>
          </a:xfrm>
          <a:prstGeom prst="rect">
            <a:avLst/>
          </a:prstGeom>
          <a:solidFill>
            <a:srgbClr val="ffff00">
              <a:alpha val="50000"/>
            </a:srgbClr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98600" y="3268080"/>
            <a:ext cx="1166760" cy="412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Seg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22400" y="3112920"/>
            <a:ext cx="858960" cy="725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63800" y="2498400"/>
            <a:ext cx="18478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Distribution from Person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71800" y="3147840"/>
            <a:ext cx="1090800" cy="654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ed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73760" y="2246040"/>
            <a:ext cx="17888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ence from previous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86440" y="2416320"/>
            <a:ext cx="7192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42080" y="3260880"/>
            <a:ext cx="1006560" cy="428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Hand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5440" y="4940280"/>
            <a:ext cx="881280" cy="644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id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08640" y="3147840"/>
            <a:ext cx="915840" cy="654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2" idx="3"/>
            <a:endCxn id="561" idx="1"/>
          </p:cNvCxnSpPr>
          <p:nvPr/>
        </p:nvCxnSpPr>
        <p:spPr>
          <a:xfrm>
            <a:off x="1881000" y="3474720"/>
            <a:ext cx="4179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71" name=""/>
          <p:cNvCxnSpPr>
            <a:stCxn id="561" idx="3"/>
            <a:endCxn id="564" idx="1"/>
          </p:cNvCxnSpPr>
          <p:nvPr/>
        </p:nvCxnSpPr>
        <p:spPr>
          <a:xfrm>
            <a:off x="3465000" y="3474720"/>
            <a:ext cx="4071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72" name=""/>
          <p:cNvCxnSpPr>
            <a:stCxn id="564" idx="3"/>
            <a:endCxn id="569" idx="1"/>
          </p:cNvCxnSpPr>
          <p:nvPr/>
        </p:nvCxnSpPr>
        <p:spPr>
          <a:xfrm>
            <a:off x="4962240" y="3474720"/>
            <a:ext cx="4467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73" name=""/>
          <p:cNvCxnSpPr>
            <a:stCxn id="569" idx="3"/>
            <a:endCxn id="567" idx="1"/>
          </p:cNvCxnSpPr>
          <p:nvPr/>
        </p:nvCxnSpPr>
        <p:spPr>
          <a:xfrm>
            <a:off x="6324480" y="3474720"/>
            <a:ext cx="41832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74" name=""/>
          <p:cNvCxnSpPr>
            <a:stCxn id="563" idx="2"/>
            <a:endCxn id="561" idx="0"/>
          </p:cNvCxnSpPr>
          <p:nvPr/>
        </p:nvCxnSpPr>
        <p:spPr>
          <a:xfrm flipH="1">
            <a:off x="2882160" y="2909880"/>
            <a:ext cx="5400" cy="356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75" name=""/>
          <p:cNvCxnSpPr>
            <a:stCxn id="565" idx="2"/>
            <a:endCxn id="569" idx="0"/>
          </p:cNvCxnSpPr>
          <p:nvPr/>
        </p:nvCxnSpPr>
        <p:spPr>
          <a:xfrm flipH="1">
            <a:off x="5866560" y="2881440"/>
            <a:ext cx="2520" cy="267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76" name=""/>
          <p:cNvCxnSpPr>
            <a:stCxn id="566" idx="2"/>
            <a:endCxn id="567" idx="0"/>
          </p:cNvCxnSpPr>
          <p:nvPr/>
        </p:nvCxnSpPr>
        <p:spPr>
          <a:xfrm>
            <a:off x="7246440" y="2882880"/>
            <a:ext cx="1080" cy="378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77" name=""/>
          <p:cNvCxnSpPr>
            <a:stCxn id="567" idx="2"/>
            <a:endCxn id="568" idx="0"/>
          </p:cNvCxnSpPr>
          <p:nvPr/>
        </p:nvCxnSpPr>
        <p:spPr>
          <a:xfrm>
            <a:off x="7246440" y="3688920"/>
            <a:ext cx="1080" cy="1251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78" name=""/>
          <p:cNvSpPr/>
          <p:nvPr/>
        </p:nvSpPr>
        <p:spPr>
          <a:xfrm>
            <a:off x="5362560" y="5621400"/>
            <a:ext cx="880920" cy="691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erb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68" idx="2"/>
            <a:endCxn id="578" idx="3"/>
          </p:cNvCxnSpPr>
          <p:nvPr/>
        </p:nvCxnSpPr>
        <p:spPr>
          <a:xfrm rot="5400000">
            <a:off x="6553080" y="5274360"/>
            <a:ext cx="383400" cy="100368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80" name=""/>
          <p:cNvSpPr/>
          <p:nvPr/>
        </p:nvSpPr>
        <p:spPr>
          <a:xfrm>
            <a:off x="5437080" y="4281480"/>
            <a:ext cx="727200" cy="412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e 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67" idx="2"/>
            <a:endCxn id="580" idx="0"/>
          </p:cNvCxnSpPr>
          <p:nvPr/>
        </p:nvCxnSpPr>
        <p:spPr>
          <a:xfrm rot="5400000">
            <a:off x="6228000" y="3263040"/>
            <a:ext cx="592920" cy="1445040"/>
          </a:xfrm>
          <a:prstGeom prst="bentConnector3">
            <a:avLst>
              <a:gd name="adj1" fmla="val 50000"/>
            </a:avLst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2" name=""/>
          <p:cNvCxnSpPr>
            <a:stCxn id="580" idx="2"/>
            <a:endCxn id="578" idx="0"/>
          </p:cNvCxnSpPr>
          <p:nvPr/>
        </p:nvCxnSpPr>
        <p:spPr>
          <a:xfrm>
            <a:off x="5800320" y="4699080"/>
            <a:ext cx="3960" cy="923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83" name=""/>
          <p:cNvSpPr/>
          <p:nvPr/>
        </p:nvSpPr>
        <p:spPr>
          <a:xfrm>
            <a:off x="2844720" y="4818240"/>
            <a:ext cx="912960" cy="888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Markov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Viterbi 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8" idx="1"/>
            <a:endCxn id="583" idx="2"/>
          </p:cNvCxnSpPr>
          <p:nvPr/>
        </p:nvCxnSpPr>
        <p:spPr>
          <a:xfrm rot="10800000">
            <a:off x="3301200" y="5706360"/>
            <a:ext cx="2061360" cy="26100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5" name=""/>
          <p:cNvCxnSpPr>
            <a:stCxn id="580" idx="1"/>
            <a:endCxn id="583" idx="0"/>
          </p:cNvCxnSpPr>
          <p:nvPr/>
        </p:nvCxnSpPr>
        <p:spPr>
          <a:xfrm flipV="1" rot="10800000">
            <a:off x="3301200" y="4519080"/>
            <a:ext cx="2135880" cy="29952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6" name=""/>
          <p:cNvCxnSpPr>
            <a:stCxn id="583" idx="1"/>
            <a:endCxn id="587" idx="3"/>
          </p:cNvCxnSpPr>
          <p:nvPr/>
        </p:nvCxnSpPr>
        <p:spPr>
          <a:xfrm flipH="1">
            <a:off x="2405880" y="5262120"/>
            <a:ext cx="438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974880" y="4918680"/>
            <a:ext cx="143172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gnition of Single-Tas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17960" y="4274640"/>
            <a:ext cx="1432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ontact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51160" y="6025680"/>
            <a:ext cx="2095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Recognized Hand 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25760" y="4959360"/>
            <a:ext cx="900360" cy="594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Doma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stCxn id="590" idx="1"/>
            <a:endCxn id="583" idx="3"/>
          </p:cNvCxnSpPr>
          <p:nvPr/>
        </p:nvCxnSpPr>
        <p:spPr>
          <a:xfrm flipH="1">
            <a:off x="3757320" y="5258880"/>
            <a:ext cx="568800" cy="3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92" name=""/>
          <p:cNvSpPr/>
          <p:nvPr/>
        </p:nvSpPr>
        <p:spPr>
          <a:xfrm>
            <a:off x="5829480" y="4958640"/>
            <a:ext cx="66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on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alk Outli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7320" y="1685520"/>
            <a:ext cx="824364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Statement &amp; Motiv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Contribu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ground &amp; Related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xperi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819288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Kitchen (cook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Office/Lab (interacting with computer, desk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Car (driv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gnize activities / inter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quence of activities lasting over 35 minutes with 134 separate ev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15 examples for each action used for training each 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minute test seque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nd-truth observation used to measure accu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669960" y="4581360"/>
            <a:ext cx="819288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71440" y="1623960"/>
            <a:ext cx="37576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normAutofit fontScale="98000"/>
          </a:bodyPr>
          <a:p>
            <a:pPr marL="225360" indent="-22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mmary of Low-Level Ev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98% of all events were detected with 2% false 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ngle-tasked Activ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reading (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computer-work (87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taking phone message (60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counting documents (9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3784680" y="1317600"/>
          <a:ext cx="4722840" cy="502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4680" y="1317600"/>
                    <a:ext cx="472284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297000" y="349200"/>
            <a:ext cx="866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ults from Office Dom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lating Actions &amp; Objec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87480" y="1685520"/>
            <a:ext cx="7146720" cy="16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5120" indent="-4651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s between people &amp;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 human motion &amp; object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28548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ity recognition using object co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28548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classification from action co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57080" y="3886200"/>
            <a:ext cx="7583400" cy="2128680"/>
            <a:chOff x="757080" y="3886200"/>
            <a:chExt cx="7583400" cy="2128680"/>
          </a:xfrm>
        </p:grpSpPr>
        <p:sp>
          <p:nvSpPr>
            <p:cNvPr id="603" name=""/>
            <p:cNvSpPr/>
            <p:nvPr/>
          </p:nvSpPr>
          <p:spPr>
            <a:xfrm>
              <a:off x="757080" y="4354200"/>
              <a:ext cx="2530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ahoma"/>
                </a:rPr>
                <a:t>Object Properties &amp; Behav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11520" y="4356000"/>
              <a:ext cx="292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ahoma"/>
                </a:rPr>
                <a:t>Human Motion/Action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2972520" y="5380200"/>
              <a:ext cx="2655720" cy="634680"/>
            </a:xfrm>
            <a:custGeom>
              <a:avLst/>
              <a:gdLst>
                <a:gd name="textAreaLeft" fmla="*/ 533160 w 2655720"/>
                <a:gd name="textAreaRight" fmla="*/ 1856520 w 2655720"/>
                <a:gd name="textAreaTop" fmla="*/ 84960 h 634680"/>
                <a:gd name="textAreaBottom" fmla="*/ 54972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78" hR="21600" stAng="10800000" swAng="-5400000"/>
                  <a:lnTo>
                    <a:pt x="10762" y="21600"/>
                  </a:lnTo>
                  <a:arcTo wR="8678" hR="21600" stAng="5400000" swAng="-1933407"/>
                  <a:lnTo>
                    <a:pt x="20240" y="11610"/>
                  </a:lnTo>
                  <a:lnTo>
                    <a:pt x="18398" y="0"/>
                  </a:lnTo>
                  <a:lnTo>
                    <a:pt x="13836" y="11610"/>
                  </a:lnTo>
                  <a:lnTo>
                    <a:pt x="15996" y="11610"/>
                  </a:lnTo>
                  <a:arcTo wR="8678" hR="21600" stAng="3466593" swAng="1766490"/>
                  <a:lnTo>
                    <a:pt x="9720" y="21444"/>
                  </a:lnTo>
                  <a:arcTo wR="8678" hR="21600" stAng="5566917" swAng="5233083"/>
                  <a:close/>
                </a:path>
                <a:path fill="darkenLess" w="21600" h="21600">
                  <a:moveTo>
                    <a:pt x="0" y="0"/>
                  </a:moveTo>
                  <a:arcTo wR="8678" hR="21600" stAng="10800000" swAng="-5400000"/>
                  <a:lnTo>
                    <a:pt x="10762" y="21600"/>
                  </a:lnTo>
                  <a:arcTo wR="8678" hR="21600" stAng="5400000" swAng="166917"/>
                  <a:lnTo>
                    <a:pt x="9720" y="21444"/>
                  </a:lnTo>
                  <a:arcTo wR="8678" hR="21600" stAng="5566917" swAng="5233083"/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971440" y="3886200"/>
              <a:ext cx="2656080" cy="635040"/>
            </a:xfrm>
            <a:custGeom>
              <a:avLst/>
              <a:gdLst>
                <a:gd name="textAreaLeft" fmla="*/ 533520 w 2656080"/>
                <a:gd name="textAreaRight" fmla="*/ 1856880 w 2656080"/>
                <a:gd name="textAreaTop" fmla="*/ 84960 h 635040"/>
                <a:gd name="textAreaBottom" fmla="*/ 550080 h 63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78" hR="21600" stAng="10800000" swAng="-5400000"/>
                  <a:lnTo>
                    <a:pt x="10762" y="21600"/>
                  </a:lnTo>
                  <a:arcTo wR="8678" hR="21600" stAng="5400000" swAng="-1933407"/>
                  <a:lnTo>
                    <a:pt x="20240" y="11610"/>
                  </a:lnTo>
                  <a:lnTo>
                    <a:pt x="18398" y="0"/>
                  </a:lnTo>
                  <a:lnTo>
                    <a:pt x="13836" y="11610"/>
                  </a:lnTo>
                  <a:lnTo>
                    <a:pt x="15996" y="11610"/>
                  </a:lnTo>
                  <a:arcTo wR="8678" hR="21600" stAng="3466593" swAng="1766490"/>
                  <a:lnTo>
                    <a:pt x="9720" y="21444"/>
                  </a:lnTo>
                  <a:arcTo wR="8678" hR="21600" stAng="5566917" swAng="5233083"/>
                  <a:close/>
                </a:path>
                <a:path fill="darkenLess" w="21600" h="21600">
                  <a:moveTo>
                    <a:pt x="0" y="0"/>
                  </a:moveTo>
                  <a:arcTo wR="8678" hR="21600" stAng="10800000" swAng="-5400000"/>
                  <a:lnTo>
                    <a:pt x="10762" y="21600"/>
                  </a:lnTo>
                  <a:arcTo wR="8678" hR="21600" stAng="5400000" swAng="166917"/>
                  <a:lnTo>
                    <a:pt x="9720" y="21444"/>
                  </a:lnTo>
                  <a:arcTo wR="8678" hR="21600" stAng="5566917" swAng="5233083"/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0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vidence for Classif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binseg" descr=""/>
          <p:cNvPicPr/>
          <p:nvPr/>
        </p:nvPicPr>
        <p:blipFill>
          <a:blip r:embed="rId1"/>
          <a:stretch/>
        </p:blipFill>
        <p:spPr>
          <a:xfrm>
            <a:off x="3065400" y="1450800"/>
            <a:ext cx="2440080" cy="2019600"/>
          </a:xfrm>
          <a:prstGeom prst="rect">
            <a:avLst/>
          </a:prstGeom>
          <a:ln w="0">
            <a:noFill/>
          </a:ln>
        </p:spPr>
      </p:pic>
      <p:pic>
        <p:nvPicPr>
          <p:cNvPr id="609" name="oct_rotbk" descr=""/>
          <p:cNvPicPr/>
          <p:nvPr/>
        </p:nvPicPr>
        <p:blipFill>
          <a:blip r:embed="rId2"/>
          <a:stretch/>
        </p:blipFill>
        <p:spPr>
          <a:xfrm>
            <a:off x="260280" y="1440000"/>
            <a:ext cx="2422440" cy="20192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44600" y="3921120"/>
            <a:ext cx="5800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Aspect Ratio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 = 0.7258, Pixel Area </a:t>
            </a:r>
            <a:r>
              <a:rPr b="0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 = 2,790, </a:t>
            </a:r>
            <a:r>
              <a:rPr b="1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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 Principle Axis </a:t>
            </a:r>
            <a:r>
              <a:rPr b="0" i="1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 = 18</a:t>
            </a:r>
            <a:r>
              <a:rPr b="1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560760" y="2038320"/>
            <a:ext cx="20520" cy="1828800"/>
            <a:chOff x="3560760" y="2038320"/>
            <a:chExt cx="20520" cy="1828800"/>
          </a:xfrm>
        </p:grpSpPr>
        <p:sp>
          <p:nvSpPr>
            <p:cNvPr id="612" name=""/>
            <p:cNvSpPr/>
            <p:nvPr/>
          </p:nvSpPr>
          <p:spPr>
            <a:xfrm>
              <a:off x="3581280" y="2057400"/>
              <a:ext cx="0" cy="180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60760" y="2038320"/>
              <a:ext cx="0" cy="18097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2914560" y="3533760"/>
            <a:ext cx="27241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After segmentation  grou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7934400" y="1969920"/>
            <a:ext cx="276120" cy="209880"/>
            <a:chOff x="7934400" y="1969920"/>
            <a:chExt cx="276120" cy="209880"/>
          </a:xfrm>
        </p:grpSpPr>
        <p:sp>
          <p:nvSpPr>
            <p:cNvPr id="616" name=""/>
            <p:cNvSpPr/>
            <p:nvPr/>
          </p:nvSpPr>
          <p:spPr>
            <a:xfrm>
              <a:off x="7934400" y="1969920"/>
              <a:ext cx="266760" cy="200520"/>
            </a:xfrm>
            <a:prstGeom prst="rightArrow">
              <a:avLst>
                <a:gd name="adj1" fmla="val 50000"/>
                <a:gd name="adj2" fmla="val 332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43760" y="1979280"/>
              <a:ext cx="266760" cy="200520"/>
            </a:xfrm>
            <a:prstGeom prst="rightArrow">
              <a:avLst>
                <a:gd name="adj1" fmla="val 50000"/>
                <a:gd name="adj2" fmla="val 33259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966000" y="3182760"/>
            <a:ext cx="276120" cy="209880"/>
            <a:chOff x="6966000" y="3182760"/>
            <a:chExt cx="276120" cy="209880"/>
          </a:xfrm>
        </p:grpSpPr>
        <p:sp>
          <p:nvSpPr>
            <p:cNvPr id="619" name=""/>
            <p:cNvSpPr/>
            <p:nvPr/>
          </p:nvSpPr>
          <p:spPr>
            <a:xfrm>
              <a:off x="6966000" y="3182760"/>
              <a:ext cx="266760" cy="200520"/>
            </a:xfrm>
            <a:prstGeom prst="rightArrow">
              <a:avLst>
                <a:gd name="adj1" fmla="val 50000"/>
                <a:gd name="adj2" fmla="val 332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75360" y="3192120"/>
              <a:ext cx="266760" cy="200520"/>
            </a:xfrm>
            <a:prstGeom prst="rightArrow">
              <a:avLst>
                <a:gd name="adj1" fmla="val 50000"/>
                <a:gd name="adj2" fmla="val 33259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1" name="oct_rotsegbook2" descr=""/>
          <p:cNvPicPr/>
          <p:nvPr/>
        </p:nvPicPr>
        <p:blipFill>
          <a:blip r:embed="rId3"/>
          <a:stretch/>
        </p:blipFill>
        <p:spPr>
          <a:xfrm>
            <a:off x="6073920" y="2946240"/>
            <a:ext cx="695160" cy="7812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6249960" y="3770280"/>
            <a:ext cx="380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oct_rotsegbook3" descr=""/>
          <p:cNvPicPr/>
          <p:nvPr/>
        </p:nvPicPr>
        <p:blipFill>
          <a:blip r:embed="rId4"/>
          <a:stretch/>
        </p:blipFill>
        <p:spPr>
          <a:xfrm>
            <a:off x="7453440" y="2876400"/>
            <a:ext cx="637920" cy="781200"/>
          </a:xfrm>
          <a:prstGeom prst="rect">
            <a:avLst/>
          </a:prstGeom>
          <a:ln w="0">
            <a:noFill/>
          </a:ln>
        </p:spPr>
      </p:pic>
      <p:grpSp>
        <p:nvGrpSpPr>
          <p:cNvPr id="624" name=""/>
          <p:cNvGrpSpPr/>
          <p:nvPr/>
        </p:nvGrpSpPr>
        <p:grpSpPr>
          <a:xfrm>
            <a:off x="7124760" y="3649680"/>
            <a:ext cx="1314360" cy="421920"/>
            <a:chOff x="7124760" y="3649680"/>
            <a:chExt cx="1314360" cy="421920"/>
          </a:xfrm>
        </p:grpSpPr>
        <p:sp>
          <p:nvSpPr>
            <p:cNvPr id="625" name=""/>
            <p:cNvSpPr/>
            <p:nvPr/>
          </p:nvSpPr>
          <p:spPr>
            <a:xfrm>
              <a:off x="7124760" y="3756960"/>
              <a:ext cx="131436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-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49680" y="364968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7012080" y="1655640"/>
            <a:ext cx="380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040440" y="1157040"/>
            <a:ext cx="933480" cy="1762200"/>
            <a:chOff x="6040440" y="1157040"/>
            <a:chExt cx="933480" cy="1762200"/>
          </a:xfrm>
        </p:grpSpPr>
        <p:pic>
          <p:nvPicPr>
            <p:cNvPr id="629" name="oct_Binseg2" descr=""/>
            <p:cNvPicPr/>
            <p:nvPr/>
          </p:nvPicPr>
          <p:blipFill>
            <a:blip r:embed="rId5"/>
            <a:stretch/>
          </p:blipFill>
          <p:spPr>
            <a:xfrm>
              <a:off x="6040440" y="1481040"/>
              <a:ext cx="933480" cy="10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 flipV="1">
              <a:off x="6507720" y="1157040"/>
              <a:ext cx="0" cy="174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117120" y="1166760"/>
              <a:ext cx="790560" cy="175248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07480" y="1284120"/>
              <a:ext cx="582480" cy="64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30" y="32"/>
                  </a:moveTo>
                  <a:arcTo wR="10800" hR="10800" stAng="-5135622" swAng="37605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30" y="32"/>
                  </a:moveTo>
                  <a:arcTo wR="10800" hR="10800" stAng="-5135622" swAng="3760502"/>
                </a:path>
              </a:pathLst>
            </a:custGeom>
            <a:noFill/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6608880" y="960480"/>
            <a:ext cx="36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670000" y="2035080"/>
            <a:ext cx="1742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727360" y="2324160"/>
            <a:ext cx="276120" cy="209520"/>
            <a:chOff x="2727360" y="2324160"/>
            <a:chExt cx="276120" cy="209520"/>
          </a:xfrm>
        </p:grpSpPr>
        <p:sp>
          <p:nvSpPr>
            <p:cNvPr id="636" name=""/>
            <p:cNvSpPr/>
            <p:nvPr/>
          </p:nvSpPr>
          <p:spPr>
            <a:xfrm>
              <a:off x="2727360" y="2324160"/>
              <a:ext cx="266760" cy="20016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36720" y="2333520"/>
              <a:ext cx="266760" cy="20016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74600" y="4418640"/>
            <a:ext cx="3471840" cy="2335680"/>
            <a:chOff x="174600" y="4418640"/>
            <a:chExt cx="3471840" cy="2335680"/>
          </a:xfrm>
        </p:grpSpPr>
        <p:sp>
          <p:nvSpPr>
            <p:cNvPr id="639" name=""/>
            <p:cNvSpPr/>
            <p:nvPr/>
          </p:nvSpPr>
          <p:spPr>
            <a:xfrm>
              <a:off x="174600" y="4418640"/>
              <a:ext cx="347184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69920" indent="-169920"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Image Evid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CommonBullet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ixel Area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= 2, 7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CommonBullet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spect Ratio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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= 0.725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CommonBullet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mplate    Prominent E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38240" y="4914720"/>
              <a:ext cx="38124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1" name="oct_rotsegbook3" descr=""/>
            <p:cNvPicPr/>
            <p:nvPr/>
          </p:nvPicPr>
          <p:blipFill>
            <a:blip r:embed="rId6"/>
            <a:stretch/>
          </p:blipFill>
          <p:spPr>
            <a:xfrm>
              <a:off x="587520" y="5973840"/>
              <a:ext cx="637920" cy="78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oct_Binseg2Rotated" descr=""/>
            <p:cNvPicPr/>
            <p:nvPr/>
          </p:nvPicPr>
          <p:blipFill>
            <a:blip r:embed="rId7"/>
            <a:stretch/>
          </p:blipFill>
          <p:spPr>
            <a:xfrm>
              <a:off x="2128680" y="5984640"/>
              <a:ext cx="541440" cy="67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"/>
          <p:cNvSpPr/>
          <p:nvPr/>
        </p:nvSpPr>
        <p:spPr>
          <a:xfrm>
            <a:off x="3319560" y="4281120"/>
            <a:ext cx="302868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5080" indent="-235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 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actions between related classes (matrix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480000" y="4402080"/>
            <a:ext cx="261144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5080" indent="-235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tion 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M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act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eq_context-enh_kij" descr=""/>
          <p:cNvPicPr/>
          <p:nvPr/>
        </p:nvPicPr>
        <p:blipFill>
          <a:blip r:embed="rId8"/>
          <a:stretch/>
        </p:blipFill>
        <p:spPr>
          <a:xfrm>
            <a:off x="3719520" y="5429160"/>
            <a:ext cx="2367000" cy="3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590400" y="4174920"/>
            <a:ext cx="7537680" cy="24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s are biased to reflect strongest belief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ïve Belief Network good for recursive calcu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: previously seen, new, partially &amp; fully occluded, rigid &amp; non-rig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88720" y="1395360"/>
            <a:ext cx="8647920" cy="2601720"/>
            <a:chOff x="288720" y="1395360"/>
            <a:chExt cx="8647920" cy="2601720"/>
          </a:xfrm>
        </p:grpSpPr>
        <p:grpSp>
          <p:nvGrpSpPr>
            <p:cNvPr id="648" name=""/>
            <p:cNvGrpSpPr/>
            <p:nvPr/>
          </p:nvGrpSpPr>
          <p:grpSpPr>
            <a:xfrm>
              <a:off x="1046160" y="1395360"/>
              <a:ext cx="7115040" cy="2130120"/>
              <a:chOff x="1046160" y="1395360"/>
              <a:chExt cx="7115040" cy="213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5789520" y="1401480"/>
                <a:ext cx="1185840" cy="885960"/>
              </a:xfrm>
              <a:prstGeom prst="rect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9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966000" y="1633320"/>
                <a:ext cx="1181160" cy="650880"/>
              </a:xfrm>
              <a:prstGeom prst="rect">
                <a:avLst/>
              </a:prstGeom>
              <a:gradFill rotWithShape="0">
                <a:gsLst>
                  <a:gs pos="0">
                    <a:srgbClr val="990099"/>
                  </a:gs>
                  <a:gs pos="100000">
                    <a:srgbClr val="ff505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057320" y="1401480"/>
                <a:ext cx="4743360" cy="885960"/>
              </a:xfrm>
              <a:prstGeom prst="rect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1046160" y="1715760"/>
                <a:ext cx="1230480" cy="465120"/>
                <a:chOff x="1046160" y="1715760"/>
                <a:chExt cx="1230480" cy="4651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1113120" y="1715760"/>
                  <a:ext cx="1096200" cy="465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46160" y="1816560"/>
                  <a:ext cx="123048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spect Rati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3440160" y="1715760"/>
                <a:ext cx="1230120" cy="465120"/>
                <a:chOff x="3440160" y="1715760"/>
                <a:chExt cx="1230120" cy="4651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507120" y="1715760"/>
                  <a:ext cx="1095840" cy="465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440160" y="1816560"/>
                  <a:ext cx="123012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ixel Are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2209680" y="1715760"/>
                <a:ext cx="1297080" cy="465120"/>
                <a:chOff x="2209680" y="1715760"/>
                <a:chExt cx="1297080" cy="4651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2310120" y="1715760"/>
                  <a:ext cx="1095840" cy="465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209680" y="1816560"/>
                  <a:ext cx="129708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meter E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4603680" y="1715760"/>
                <a:ext cx="1230480" cy="465120"/>
                <a:chOff x="4603680" y="1715760"/>
                <a:chExt cx="1230480" cy="4651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670640" y="1715760"/>
                  <a:ext cx="1096200" cy="465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603680" y="1816560"/>
                  <a:ext cx="123048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empla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5834160" y="1715760"/>
                <a:ext cx="1096920" cy="46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767560" y="1815840"/>
                <a:ext cx="123012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97680" y="1715760"/>
                <a:ext cx="1096920" cy="46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931080" y="1815840"/>
                <a:ext cx="123012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ition Matri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055520" y="1395360"/>
                <a:ext cx="4737240" cy="24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9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Image-based Evid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795320" y="3060360"/>
                <a:ext cx="582840" cy="46512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728720" y="3162240"/>
                <a:ext cx="71604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M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936880" y="3060360"/>
                <a:ext cx="581040" cy="4651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870280" y="3162240"/>
                <a:ext cx="71604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M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58000" y="3060360"/>
                <a:ext cx="581040" cy="4651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791400" y="3162240"/>
                <a:ext cx="71604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M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662120" y="2185920"/>
                <a:ext cx="290520" cy="90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2017440" y="2188800"/>
                <a:ext cx="842760" cy="87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2131560" y="2180880"/>
                <a:ext cx="1924200" cy="88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2220840" y="2180880"/>
                <a:ext cx="29988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306160" y="2180880"/>
                <a:ext cx="4064040" cy="9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2328480" y="2180880"/>
                <a:ext cx="5240520" cy="10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662120" y="2180880"/>
                <a:ext cx="1347840" cy="974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859120" y="2180880"/>
                <a:ext cx="230040" cy="9144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3215880" y="2195280"/>
                <a:ext cx="817560" cy="865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3333600" y="2180880"/>
                <a:ext cx="1874880" cy="893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439800" y="2190600"/>
                <a:ext cx="2870280" cy="9237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479400" y="2180880"/>
                <a:ext cx="4065480" cy="1011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73280" y="2174760"/>
                <a:ext cx="5213160" cy="1017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36800" y="2180880"/>
                <a:ext cx="4094280" cy="9511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078440" y="2180880"/>
                <a:ext cx="2914560" cy="905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208480" y="2180880"/>
                <a:ext cx="1866960" cy="874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05480" y="2190600"/>
                <a:ext cx="776520" cy="865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7276680" y="2190600"/>
                <a:ext cx="257400" cy="890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011480" y="3027240"/>
                <a:ext cx="108432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 . 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2640" y="1395360"/>
                <a:ext cx="2411280" cy="24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9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Action-  Object-based Evid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288720" y="3537360"/>
              <a:ext cx="86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ahoma"/>
                </a:rPr>
                <a:t>Bayesian Classifier for selecting the most likely Class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PlaceHolder 2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Classif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ognizing New Objec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3497400" y="1573200"/>
            <a:ext cx="54813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 Scene: keyboard, chair &amp; de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ly introduced: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ook, notebook, printer &amp; m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idence=Image + Object +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365040" y="1352520"/>
            <a:ext cx="3081600" cy="5303880"/>
            <a:chOff x="365040" y="1352520"/>
            <a:chExt cx="3081600" cy="5303880"/>
          </a:xfrm>
        </p:grpSpPr>
        <p:sp>
          <p:nvSpPr>
            <p:cNvPr id="700" name=""/>
            <p:cNvSpPr/>
            <p:nvPr/>
          </p:nvSpPr>
          <p:spPr>
            <a:xfrm>
              <a:off x="365040" y="3649680"/>
              <a:ext cx="308160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itial Sc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exp2_bkg" descr=""/>
            <p:cNvPicPr/>
            <p:nvPr/>
          </p:nvPicPr>
          <p:blipFill>
            <a:blip r:embed="rId1"/>
            <a:stretch/>
          </p:blipFill>
          <p:spPr>
            <a:xfrm>
              <a:off x="365040" y="1352520"/>
              <a:ext cx="3081600" cy="23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exp2_add" descr=""/>
            <p:cNvPicPr/>
            <p:nvPr/>
          </p:nvPicPr>
          <p:blipFill>
            <a:blip r:embed="rId2"/>
            <a:stretch/>
          </p:blipFill>
          <p:spPr>
            <a:xfrm>
              <a:off x="365040" y="4064040"/>
              <a:ext cx="308160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365040" y="6362640"/>
              <a:ext cx="3081600" cy="29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bjects Ad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4653000" y="4089240"/>
            <a:ext cx="3095640" cy="2575080"/>
            <a:chOff x="4653000" y="4089240"/>
            <a:chExt cx="3095640" cy="2575080"/>
          </a:xfrm>
        </p:grpSpPr>
        <p:pic>
          <p:nvPicPr>
            <p:cNvPr id="705" name="exp2_diff" descr=""/>
            <p:cNvPicPr/>
            <p:nvPr/>
          </p:nvPicPr>
          <p:blipFill>
            <a:blip r:embed="rId3"/>
            <a:stretch/>
          </p:blipFill>
          <p:spPr>
            <a:xfrm>
              <a:off x="4653000" y="4089240"/>
              <a:ext cx="309564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653000" y="6389640"/>
              <a:ext cx="3081240" cy="274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ifference: Image Evid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06280" y="418500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82600" y="473112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414040" y="473112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77680" y="531540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3691080" y="5175360"/>
            <a:ext cx="703080" cy="287280"/>
          </a:xfrm>
          <a:prstGeom prst="rightArrow">
            <a:avLst>
              <a:gd name="adj1" fmla="val 50000"/>
              <a:gd name="adj2" fmla="val 61184"/>
            </a:avLst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19760" y="3274920"/>
            <a:ext cx="363600" cy="69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belief_time_office" descr=""/>
          <p:cNvPicPr/>
          <p:nvPr/>
        </p:nvPicPr>
        <p:blipFill>
          <a:blip r:embed="rId1"/>
          <a:stretch/>
        </p:blipFill>
        <p:spPr>
          <a:xfrm>
            <a:off x="349200" y="2463840"/>
            <a:ext cx="8526600" cy="27655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 flipH="1">
            <a:off x="3730320" y="2070000"/>
            <a:ext cx="498600" cy="1238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ults: New Objec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209520" y="1540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ip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87520" y="1960560"/>
            <a:ext cx="1173240" cy="13240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76360" y="1946160"/>
            <a:ext cx="538200" cy="1811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10000" y="15688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65280" y="565992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Wingdings"/>
                <a:ea typeface="Wingdings"/>
              </a:rPr>
              <a:t>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 flipV="1">
            <a:off x="4684320" y="3703680"/>
            <a:ext cx="1049400" cy="2060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097760" y="3079440"/>
            <a:ext cx="687240" cy="1648440"/>
            <a:chOff x="7097760" y="3079440"/>
            <a:chExt cx="687240" cy="1648440"/>
          </a:xfrm>
        </p:grpSpPr>
        <p:sp>
          <p:nvSpPr>
            <p:cNvPr id="723" name=""/>
            <p:cNvSpPr/>
            <p:nvPr/>
          </p:nvSpPr>
          <p:spPr>
            <a:xfrm>
              <a:off x="7097760" y="3079440"/>
              <a:ext cx="6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97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97760" y="3536640"/>
              <a:ext cx="6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94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97760" y="3958920"/>
              <a:ext cx="6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7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97760" y="4390560"/>
              <a:ext cx="6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9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ognition from ac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819288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idence = Action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with “notebook”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s performed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 forward (5x)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 backward (2x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(4x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299880" y="1544760"/>
            <a:ext cx="4141800" cy="3787200"/>
            <a:chOff x="299880" y="1544760"/>
            <a:chExt cx="4141800" cy="3787200"/>
          </a:xfrm>
        </p:grpSpPr>
        <p:pic>
          <p:nvPicPr>
            <p:cNvPr id="730" name="action_occur" descr=""/>
            <p:cNvPicPr/>
            <p:nvPr/>
          </p:nvPicPr>
          <p:blipFill>
            <a:blip r:embed="rId1"/>
            <a:stretch/>
          </p:blipFill>
          <p:spPr>
            <a:xfrm>
              <a:off x="299880" y="1544760"/>
              <a:ext cx="414180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396720" y="4628160"/>
              <a:ext cx="395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ahoma"/>
                </a:rPr>
                <a:t>Accumulated likelihoods of several 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ults: action alo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721400" y="482184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Running Mean log(prob) of candidate Class Models after 11 action events and 583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629240" y="1579680"/>
            <a:ext cx="4324320" cy="3206160"/>
            <a:chOff x="4629240" y="1579680"/>
            <a:chExt cx="4324320" cy="3206160"/>
          </a:xfrm>
        </p:grpSpPr>
        <p:pic>
          <p:nvPicPr>
            <p:cNvPr id="735" name="mean_log_prob1" descr=""/>
            <p:cNvPicPr/>
            <p:nvPr/>
          </p:nvPicPr>
          <p:blipFill>
            <a:blip r:embed="rId2"/>
            <a:stretch/>
          </p:blipFill>
          <p:spPr>
            <a:xfrm>
              <a:off x="4629240" y="1579680"/>
              <a:ext cx="4324320" cy="31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7388280" y="4584960"/>
              <a:ext cx="948960" cy="20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Action 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ognizing Multitasked Activiti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12360" y="4444920"/>
            <a:ext cx="7962840" cy="17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tochastic context-free grammar (SCFG) to describe structure in rule-based, event-driven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domain-specific det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e string to recover high-level behavioral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674640" y="1830240"/>
            <a:ext cx="7842240" cy="2400480"/>
            <a:chOff x="674640" y="1830240"/>
            <a:chExt cx="7842240" cy="2400480"/>
          </a:xfrm>
        </p:grpSpPr>
        <p:sp>
          <p:nvSpPr>
            <p:cNvPr id="740" name=""/>
            <p:cNvSpPr/>
            <p:nvPr/>
          </p:nvSpPr>
          <p:spPr>
            <a:xfrm>
              <a:off x="5803920" y="3254400"/>
              <a:ext cx="65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77240" y="2681280"/>
              <a:ext cx="102528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Earley-Stolcke Par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95960" y="2004840"/>
              <a:ext cx="987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ask Gramm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689880" y="2444760"/>
              <a:ext cx="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2080" y="3008160"/>
              <a:ext cx="27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66040" y="2817720"/>
              <a:ext cx="10508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Extract High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ehavioral Patte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985000" y="2476440"/>
              <a:ext cx="0" cy="55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2189160" y="2741760"/>
              <a:ext cx="3441600" cy="1158840"/>
              <a:chOff x="2189160" y="2741760"/>
              <a:chExt cx="3441600" cy="1158840"/>
            </a:xfrm>
          </p:grpSpPr>
          <p:sp>
            <p:nvSpPr>
              <p:cNvPr id="748" name=""/>
              <p:cNvSpPr/>
              <p:nvPr/>
            </p:nvSpPr>
            <p:spPr>
              <a:xfrm>
                <a:off x="2189160" y="2987640"/>
                <a:ext cx="3441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189160" y="2741760"/>
                <a:ext cx="3441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189160" y="3233880"/>
                <a:ext cx="3441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189160" y="3900600"/>
                <a:ext cx="3441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674640" y="1839960"/>
              <a:ext cx="1884600" cy="2390760"/>
              <a:chOff x="674640" y="1839960"/>
              <a:chExt cx="1884600" cy="2390760"/>
            </a:xfrm>
          </p:grpSpPr>
          <p:sp>
            <p:nvSpPr>
              <p:cNvPr id="753" name=""/>
              <p:cNvSpPr/>
              <p:nvPr/>
            </p:nvSpPr>
            <p:spPr>
              <a:xfrm>
                <a:off x="674640" y="1839960"/>
                <a:ext cx="1884600" cy="239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Basic Evid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generated by ObjectSp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756000" y="2343240"/>
                <a:ext cx="1721520" cy="1638360"/>
                <a:chOff x="756000" y="2343240"/>
                <a:chExt cx="1721520" cy="16383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56000" y="2343240"/>
                  <a:ext cx="52992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5720" rIns="4572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Obje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343520" y="2343240"/>
                  <a:ext cx="52992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5720" rIns="4572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Ima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947600" y="2343240"/>
                  <a:ext cx="529920" cy="31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5720" rIns="4572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A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959760" y="2660760"/>
                  <a:ext cx="1303560" cy="654840"/>
                  <a:chOff x="959760" y="2660760"/>
                  <a:chExt cx="1303560" cy="65484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959760" y="2660760"/>
                    <a:ext cx="1303560" cy="153360"/>
                    <a:chOff x="959760" y="2660760"/>
                    <a:chExt cx="1303560" cy="1533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959760" y="2660760"/>
                      <a:ext cx="133920" cy="153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1535040" y="2660760"/>
                      <a:ext cx="133920" cy="153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2129400" y="2660760"/>
                      <a:ext cx="133920" cy="153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3" name=""/>
                  <p:cNvGrpSpPr/>
                  <p:nvPr/>
                </p:nvGrpSpPr>
                <p:grpSpPr>
                  <a:xfrm>
                    <a:off x="959760" y="2911320"/>
                    <a:ext cx="1303560" cy="153360"/>
                    <a:chOff x="959760" y="2911320"/>
                    <a:chExt cx="1303560" cy="153360"/>
                  </a:xfrm>
                </p:grpSpPr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959760" y="2911320"/>
                      <a:ext cx="133920" cy="153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>
                      <a:off x="1535040" y="2911320"/>
                      <a:ext cx="133920" cy="153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2129400" y="2911320"/>
                      <a:ext cx="133920" cy="153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959760" y="3162240"/>
                    <a:ext cx="1303560" cy="153360"/>
                    <a:chOff x="959760" y="3162240"/>
                    <a:chExt cx="1303560" cy="15336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959760" y="3162240"/>
                      <a:ext cx="133920" cy="153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1535040" y="3162240"/>
                      <a:ext cx="133920" cy="153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2129400" y="3162240"/>
                      <a:ext cx="133920" cy="153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959760" y="3828240"/>
                  <a:ext cx="1303560" cy="153360"/>
                  <a:chOff x="959760" y="3828240"/>
                  <a:chExt cx="1303560" cy="15336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959760" y="3828240"/>
                    <a:ext cx="133920" cy="1533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1535040" y="3828240"/>
                    <a:ext cx="133920" cy="1533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129400" y="3828240"/>
                    <a:ext cx="133920" cy="1533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902160" y="3234240"/>
                  <a:ext cx="1399680" cy="645120"/>
                  <a:chOff x="902160" y="3234240"/>
                  <a:chExt cx="1399680" cy="64512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902160" y="3234240"/>
                    <a:ext cx="230040" cy="64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llegro BT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llegro BT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llegro BT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486800" y="3234240"/>
                    <a:ext cx="230040" cy="64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llegro BT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llegro BT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llegro BT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2071800" y="3234240"/>
                    <a:ext cx="230040" cy="64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llegro BT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llegro BT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llegro BT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79" name=""/>
            <p:cNvSpPr/>
            <p:nvPr/>
          </p:nvSpPr>
          <p:spPr>
            <a:xfrm>
              <a:off x="2984760" y="2506680"/>
              <a:ext cx="1371600" cy="16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omain-Specific Event Det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76640" y="1830240"/>
              <a:ext cx="987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euris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0560" y="2260440"/>
              <a:ext cx="0" cy="246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68720" y="2055960"/>
              <a:ext cx="98748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erminal Symb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4510080" y="2577960"/>
              <a:ext cx="123480" cy="1343160"/>
              <a:chOff x="4510080" y="2577960"/>
              <a:chExt cx="123480" cy="1343160"/>
            </a:xfrm>
          </p:grpSpPr>
          <p:sp>
            <p:nvSpPr>
              <p:cNvPr id="784" name=""/>
              <p:cNvSpPr/>
              <p:nvPr/>
            </p:nvSpPr>
            <p:spPr>
              <a:xfrm>
                <a:off x="4510080" y="2577960"/>
                <a:ext cx="1144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510080" y="2823840"/>
                <a:ext cx="1144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510080" y="3080160"/>
                <a:ext cx="1144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10080" y="3726360"/>
                <a:ext cx="1144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519440" y="3182760"/>
                <a:ext cx="11412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llegro BT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llegro BT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llegro BT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4807080" y="2619360"/>
              <a:ext cx="1006560" cy="138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49840" y="2168640"/>
              <a:ext cx="681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07480" y="3049560"/>
              <a:ext cx="507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34120" y="2271600"/>
              <a:ext cx="0" cy="34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65840" y="2004840"/>
              <a:ext cx="736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7800" y="339480"/>
            <a:ext cx="778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oblem State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6160" y="1504800"/>
            <a:ext cx="8002800" cy="50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gnizing interactions between people and objects from vide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awareness of human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 interaction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er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intrusive, enabling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 surveill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ual user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lligent sp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bled, elderly, child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ming, entertai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ochastic Gramma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819288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high-level patterns in low-level ev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duction rules encode 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chastic Context Fre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1771560" y="3600360"/>
            <a:ext cx="5752800" cy="2940120"/>
            <a:chOff x="1771560" y="3600360"/>
            <a:chExt cx="5752800" cy="2940120"/>
          </a:xfrm>
        </p:grpSpPr>
        <p:grpSp>
          <p:nvGrpSpPr>
            <p:cNvPr id="797" name=""/>
            <p:cNvGrpSpPr/>
            <p:nvPr/>
          </p:nvGrpSpPr>
          <p:grpSpPr>
            <a:xfrm>
              <a:off x="1771560" y="4419720"/>
              <a:ext cx="5752800" cy="2120760"/>
              <a:chOff x="1771560" y="4419720"/>
              <a:chExt cx="5752800" cy="2120760"/>
            </a:xfrm>
          </p:grpSpPr>
          <p:sp>
            <p:nvSpPr>
              <p:cNvPr id="798" name=""/>
              <p:cNvSpPr/>
              <p:nvPr/>
            </p:nvSpPr>
            <p:spPr>
              <a:xfrm>
                <a:off x="3028680" y="4419720"/>
                <a:ext cx="2428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285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   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6285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A  [q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71560" y="5524560"/>
                <a:ext cx="575280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imes New Roman"/>
                  </a:rPr>
                  <a:t>“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Times New Roman"/>
                  </a:rPr>
                  <a:t>Place Bets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Place chip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lace chip 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Times New Roman"/>
                  </a:rPr>
                  <a:t>“Place Bets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2038320" y="3600360"/>
              <a:ext cx="147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n-Terminal (Variab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86240" y="3600360"/>
              <a:ext cx="146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rminal (Consta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71960" y="3600360"/>
              <a:ext cx="1467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obability of Production R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4000320" y="4143600"/>
              <a:ext cx="20016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00440" y="4114800"/>
              <a:ext cx="32364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895640" y="4257720"/>
              <a:ext cx="53316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85680" y="4429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p+q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2060640" y="3121200"/>
            <a:ext cx="126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ahoma"/>
              </a:rPr>
              <a:t>High-level Behavi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4520" y="3121200"/>
            <a:ext cx="126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ahoma"/>
              </a:rPr>
              <a:t>Low-level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pecifying Gramma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819288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1" name="grammar" descr=""/>
          <p:cNvPicPr/>
          <p:nvPr/>
        </p:nvPicPr>
        <p:blipFill>
          <a:blip r:embed="rId1"/>
          <a:stretch/>
        </p:blipFill>
        <p:spPr>
          <a:xfrm>
            <a:off x="3516480" y="1876320"/>
            <a:ext cx="5421240" cy="4784760"/>
          </a:xfrm>
          <a:prstGeom prst="rect">
            <a:avLst/>
          </a:prstGeom>
          <a:ln w="0">
            <a:noFill/>
          </a:ln>
        </p:spPr>
      </p:pic>
      <p:grpSp>
        <p:nvGrpSpPr>
          <p:cNvPr id="812" name=""/>
          <p:cNvGrpSpPr/>
          <p:nvPr/>
        </p:nvGrpSpPr>
        <p:grpSpPr>
          <a:xfrm>
            <a:off x="0" y="1984320"/>
            <a:ext cx="3389400" cy="4478400"/>
            <a:chOff x="0" y="1984320"/>
            <a:chExt cx="3389400" cy="4478400"/>
          </a:xfrm>
        </p:grpSpPr>
        <p:sp>
          <p:nvSpPr>
            <p:cNvPr id="813" name=""/>
            <p:cNvSpPr/>
            <p:nvPr/>
          </p:nvSpPr>
          <p:spPr>
            <a:xfrm>
              <a:off x="1405080" y="1984320"/>
              <a:ext cx="84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lackj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11160" y="2390760"/>
              <a:ext cx="14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etermine Win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280" y="2422440"/>
              <a:ext cx="84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lay g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0440" y="3066840"/>
              <a:ext cx="492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tup G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84360" y="3066840"/>
              <a:ext cx="777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Evaluate Strate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8" name=""/>
            <p:cNvCxnSpPr>
              <a:stCxn id="813" idx="2"/>
              <a:endCxn id="815" idx="0"/>
            </p:cNvCxnSpPr>
            <p:nvPr/>
          </p:nvCxnSpPr>
          <p:spPr>
            <a:xfrm flipH="1">
              <a:off x="712800" y="2228760"/>
              <a:ext cx="1117800" cy="19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19" name=""/>
            <p:cNvCxnSpPr>
              <a:stCxn id="813" idx="2"/>
              <a:endCxn id="814" idx="0"/>
            </p:cNvCxnSpPr>
            <p:nvPr/>
          </p:nvCxnSpPr>
          <p:spPr>
            <a:xfrm>
              <a:off x="1829880" y="2228760"/>
              <a:ext cx="708840" cy="16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20" name=""/>
            <p:cNvCxnSpPr>
              <a:stCxn id="815" idx="2"/>
              <a:endCxn id="816" idx="0"/>
            </p:cNvCxnSpPr>
            <p:nvPr/>
          </p:nvCxnSpPr>
          <p:spPr>
            <a:xfrm flipH="1">
              <a:off x="435960" y="2666520"/>
              <a:ext cx="276840" cy="40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21" name=""/>
            <p:cNvCxnSpPr>
              <a:stCxn id="822" idx="2"/>
              <a:endCxn id="823" idx="0"/>
            </p:cNvCxnSpPr>
            <p:nvPr/>
          </p:nvCxnSpPr>
          <p:spPr>
            <a:xfrm flipH="1">
              <a:off x="1131120" y="3463920"/>
              <a:ext cx="2520" cy="124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24" name=""/>
            <p:cNvCxnSpPr>
              <a:stCxn id="816" idx="2"/>
              <a:endCxn id="825" idx="0"/>
            </p:cNvCxnSpPr>
            <p:nvPr/>
          </p:nvCxnSpPr>
          <p:spPr>
            <a:xfrm>
              <a:off x="436320" y="3463920"/>
              <a:ext cx="330840" cy="629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26" name=""/>
            <p:cNvCxnSpPr>
              <a:stCxn id="816" idx="2"/>
              <a:endCxn id="827" idx="0"/>
            </p:cNvCxnSpPr>
            <p:nvPr/>
          </p:nvCxnSpPr>
          <p:spPr>
            <a:xfrm flipH="1">
              <a:off x="282240" y="3463920"/>
              <a:ext cx="154800" cy="65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28" name=""/>
            <p:cNvCxnSpPr>
              <a:stCxn id="814" idx="2"/>
              <a:endCxn id="817" idx="0"/>
            </p:cNvCxnSpPr>
            <p:nvPr/>
          </p:nvCxnSpPr>
          <p:spPr>
            <a:xfrm flipH="1">
              <a:off x="1972800" y="2634840"/>
              <a:ext cx="56592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825" name=""/>
            <p:cNvSpPr/>
            <p:nvPr/>
          </p:nvSpPr>
          <p:spPr>
            <a:xfrm>
              <a:off x="536400" y="4092480"/>
              <a:ext cx="460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eal Card Pai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0" y="4116240"/>
              <a:ext cx="563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lace B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3040" y="4703760"/>
              <a:ext cx="777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layer Strate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0" y="5475240"/>
              <a:ext cx="777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asic Strate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36600" y="5776920"/>
              <a:ext cx="500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plit P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6280" y="6064200"/>
              <a:ext cx="85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oubling Dow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2" name=""/>
            <p:cNvCxnSpPr>
              <a:stCxn id="823" idx="2"/>
              <a:endCxn id="831" idx="0"/>
            </p:cNvCxnSpPr>
            <p:nvPr/>
          </p:nvCxnSpPr>
          <p:spPr>
            <a:xfrm flipH="1">
              <a:off x="904680" y="5100120"/>
              <a:ext cx="227520" cy="96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33" name=""/>
            <p:cNvCxnSpPr>
              <a:stCxn id="823" idx="2"/>
              <a:endCxn id="830" idx="0"/>
            </p:cNvCxnSpPr>
            <p:nvPr/>
          </p:nvCxnSpPr>
          <p:spPr>
            <a:xfrm>
              <a:off x="1131840" y="5100120"/>
              <a:ext cx="356400" cy="67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34" name=""/>
            <p:cNvCxnSpPr>
              <a:stCxn id="823" idx="2"/>
              <a:endCxn id="829" idx="0"/>
            </p:cNvCxnSpPr>
            <p:nvPr/>
          </p:nvCxnSpPr>
          <p:spPr>
            <a:xfrm flipH="1">
              <a:off x="388440" y="5100120"/>
              <a:ext cx="743760" cy="37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835" name=""/>
            <p:cNvSpPr/>
            <p:nvPr/>
          </p:nvSpPr>
          <p:spPr>
            <a:xfrm>
              <a:off x="2743200" y="3074760"/>
              <a:ext cx="523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Clean 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6" name=""/>
            <p:cNvCxnSpPr>
              <a:stCxn id="814" idx="2"/>
              <a:endCxn id="835" idx="0"/>
            </p:cNvCxnSpPr>
            <p:nvPr/>
          </p:nvCxnSpPr>
          <p:spPr>
            <a:xfrm>
              <a:off x="2538000" y="2634840"/>
              <a:ext cx="467640" cy="440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37" name=""/>
            <p:cNvCxnSpPr>
              <a:stCxn id="815" idx="2"/>
              <a:endCxn id="822" idx="0"/>
            </p:cNvCxnSpPr>
            <p:nvPr/>
          </p:nvCxnSpPr>
          <p:spPr>
            <a:xfrm>
              <a:off x="712440" y="2666520"/>
              <a:ext cx="421560" cy="40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822" name=""/>
            <p:cNvSpPr/>
            <p:nvPr/>
          </p:nvSpPr>
          <p:spPr>
            <a:xfrm>
              <a:off x="768240" y="3066840"/>
              <a:ext cx="730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Implement Strate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314360" y="4028760"/>
              <a:ext cx="777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Flip Dealer Down 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35000" y="4435200"/>
              <a:ext cx="540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Player Dealer Down 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44600" y="3848040"/>
              <a:ext cx="46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ealer Hi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1" name=""/>
            <p:cNvCxnSpPr>
              <a:stCxn id="817" idx="2"/>
              <a:endCxn id="840" idx="0"/>
            </p:cNvCxnSpPr>
            <p:nvPr/>
          </p:nvCxnSpPr>
          <p:spPr>
            <a:xfrm>
              <a:off x="1972800" y="3463560"/>
              <a:ext cx="50688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42" name=""/>
            <p:cNvCxnSpPr>
              <a:stCxn id="817" idx="2"/>
              <a:endCxn id="838" idx="0"/>
            </p:cNvCxnSpPr>
            <p:nvPr/>
          </p:nvCxnSpPr>
          <p:spPr>
            <a:xfrm flipH="1">
              <a:off x="1702800" y="3463560"/>
              <a:ext cx="270360" cy="56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43" name=""/>
            <p:cNvCxnSpPr>
              <a:stCxn id="817" idx="2"/>
              <a:endCxn id="839" idx="0"/>
            </p:cNvCxnSpPr>
            <p:nvPr/>
          </p:nvCxnSpPr>
          <p:spPr>
            <a:xfrm>
              <a:off x="1973160" y="3463920"/>
              <a:ext cx="232560" cy="97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2301840" y="5143320"/>
              <a:ext cx="46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ttle B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41480" y="4539960"/>
              <a:ext cx="54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Recover Car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6" name=""/>
            <p:cNvCxnSpPr>
              <a:stCxn id="835" idx="2"/>
              <a:endCxn id="844" idx="0"/>
            </p:cNvCxnSpPr>
            <p:nvPr/>
          </p:nvCxnSpPr>
          <p:spPr>
            <a:xfrm flipH="1">
              <a:off x="2536200" y="3471480"/>
              <a:ext cx="469080" cy="167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847" name=""/>
            <p:cNvCxnSpPr>
              <a:stCxn id="835" idx="2"/>
              <a:endCxn id="845" idx="0"/>
            </p:cNvCxnSpPr>
            <p:nvPr/>
          </p:nvCxnSpPr>
          <p:spPr>
            <a:xfrm>
              <a:off x="3005280" y="3471480"/>
              <a:ext cx="111600" cy="1068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</p:cxnSp>
      </p:grpSp>
      <p:sp>
        <p:nvSpPr>
          <p:cNvPr id="848" name=""/>
          <p:cNvSpPr/>
          <p:nvPr/>
        </p:nvSpPr>
        <p:spPr>
          <a:xfrm>
            <a:off x="425520" y="1360440"/>
            <a:ext cx="26589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sing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990000"/>
                </a:solidFill>
                <a:latin typeface="Tahoma"/>
              </a:rPr>
              <a:t>Built from Production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876840" y="1419120"/>
            <a:ext cx="458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ahoma"/>
              </a:rPr>
              <a:t>Production Rules taken from “rules” of A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tecting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819288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2" name="lasttouch" descr=""/>
          <p:cNvPicPr/>
          <p:nvPr/>
        </p:nvPicPr>
        <p:blipFill>
          <a:blip r:embed="rId1"/>
          <a:stretch/>
        </p:blipFill>
        <p:spPr>
          <a:xfrm>
            <a:off x="2995560" y="3294000"/>
            <a:ext cx="2816280" cy="202104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684360" y="1654200"/>
            <a:ext cx="796284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k events represent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-specific detectors use heuristics &amp; e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detector generates a likelihood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arley-Stolcke Pars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5" name="ex_CFG" descr=""/>
          <p:cNvPicPr/>
          <p:nvPr/>
        </p:nvPicPr>
        <p:blipFill>
          <a:blip r:embed="rId1"/>
          <a:stretch/>
        </p:blipFill>
        <p:spPr>
          <a:xfrm>
            <a:off x="2865600" y="1479600"/>
            <a:ext cx="5986440" cy="363708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71080" y="1812960"/>
            <a:ext cx="2390760" cy="36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 for S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multiple hypotheses in each iteration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89080" y="4937040"/>
            <a:ext cx="8248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Predi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generate hypothesis for each legitimate der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Scan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read in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Comple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search for end of semantic expre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eparable Activiti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22240" y="5074920"/>
            <a:ext cx="747576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ble Groups =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separable Roles = Inter-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ine production rule probabilities to quantify behavior in non-separable ro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0" name="separable_bj" descr=""/>
          <p:cNvPicPr/>
          <p:nvPr/>
        </p:nvPicPr>
        <p:blipFill>
          <a:blip r:embed="rId1"/>
          <a:stretch/>
        </p:blipFill>
        <p:spPr>
          <a:xfrm>
            <a:off x="2200320" y="1378080"/>
            <a:ext cx="494496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495360" y="1793880"/>
            <a:ext cx="2616120" cy="577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ehavior Analysi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41000" y="1733400"/>
            <a:ext cx="2738520" cy="27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tection Behavior     Accura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-R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9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-Risk         76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vi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10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ert             9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After ~10 trials per pers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4" name="player_strategy" descr=""/>
          <p:cNvPicPr/>
          <p:nvPr/>
        </p:nvPicPr>
        <p:blipFill>
          <a:blip r:embed="rId1"/>
          <a:stretch/>
        </p:blipFill>
        <p:spPr>
          <a:xfrm>
            <a:off x="4056120" y="1515960"/>
            <a:ext cx="4168800" cy="267336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1676520" y="4203720"/>
            <a:ext cx="5794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aptive Gramma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17320" y="1685520"/>
            <a:ext cx="3887640" cy="26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 production rules to fit anticipated structure in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s the likelihood of entire string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ambiguates between multiple hypothe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8" name="eq_adapt1" descr=""/>
          <p:cNvPicPr/>
          <p:nvPr/>
        </p:nvPicPr>
        <p:blipFill>
          <a:blip r:embed="rId1"/>
          <a:stretch/>
        </p:blipFill>
        <p:spPr>
          <a:xfrm>
            <a:off x="4494240" y="1768320"/>
            <a:ext cx="1520640" cy="995400"/>
          </a:xfrm>
          <a:prstGeom prst="rect">
            <a:avLst/>
          </a:prstGeom>
          <a:ln w="0">
            <a:noFill/>
          </a:ln>
        </p:spPr>
      </p:pic>
      <p:grpSp>
        <p:nvGrpSpPr>
          <p:cNvPr id="869" name=""/>
          <p:cNvGrpSpPr/>
          <p:nvPr/>
        </p:nvGrpSpPr>
        <p:grpSpPr>
          <a:xfrm>
            <a:off x="6361200" y="1751040"/>
            <a:ext cx="2490840" cy="2831760"/>
            <a:chOff x="6361200" y="1751040"/>
            <a:chExt cx="2490840" cy="2831760"/>
          </a:xfrm>
        </p:grpSpPr>
        <p:pic>
          <p:nvPicPr>
            <p:cNvPr id="870" name="eq_adapt3" descr=""/>
            <p:cNvPicPr/>
            <p:nvPr/>
          </p:nvPicPr>
          <p:blipFill>
            <a:blip r:embed="rId2"/>
            <a:stretch/>
          </p:blipFill>
          <p:spPr>
            <a:xfrm>
              <a:off x="6361200" y="1751040"/>
              <a:ext cx="221040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eq_adapt2" descr=""/>
            <p:cNvPicPr/>
            <p:nvPr/>
          </p:nvPicPr>
          <p:blipFill>
            <a:blip r:embed="rId3"/>
            <a:stretch/>
          </p:blipFill>
          <p:spPr>
            <a:xfrm>
              <a:off x="6361200" y="3952800"/>
              <a:ext cx="249084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eq_adapt5" descr=""/>
            <p:cNvPicPr/>
            <p:nvPr/>
          </p:nvPicPr>
          <p:blipFill>
            <a:blip r:embed="rId4"/>
            <a:stretch/>
          </p:blipFill>
          <p:spPr>
            <a:xfrm>
              <a:off x="6361200" y="3507840"/>
              <a:ext cx="192852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eq_adapt4" descr=""/>
            <p:cNvPicPr/>
            <p:nvPr/>
          </p:nvPicPr>
          <p:blipFill>
            <a:blip r:embed="rId5"/>
            <a:stretch/>
          </p:blipFill>
          <p:spPr>
            <a:xfrm>
              <a:off x="6361200" y="3033000"/>
              <a:ext cx="1928520" cy="36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"/>
          <p:cNvSpPr/>
          <p:nvPr/>
        </p:nvSpPr>
        <p:spPr>
          <a:xfrm>
            <a:off x="517680" y="4668840"/>
            <a:ext cx="816768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 games (simulated using strin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string recognition improved by 11.3% w/ error-free p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ers overall recognition rate in strings that contain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rror Detection &amp; Recover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17680" y="1685520"/>
            <a:ext cx="819288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olations during parsing can terminate string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an indicate violation of task rules/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ment for handling insertion, deletion &amp; substitut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1886040" y="3733920"/>
            <a:ext cx="59101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rror Detection &amp; Recover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02840" y="5022360"/>
            <a:ext cx="8193240" cy="131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0 example events from 28 g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detection rate is 96.2% (assessed manual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errors due to object classific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0" name="chp6_chart" descr=""/>
          <p:cNvPicPr/>
          <p:nvPr/>
        </p:nvPicPr>
        <p:blipFill>
          <a:blip r:embed="rId1"/>
          <a:stretch/>
        </p:blipFill>
        <p:spPr>
          <a:xfrm>
            <a:off x="1487520" y="1679400"/>
            <a:ext cx="63198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4360" y="1711080"/>
            <a:ext cx="4154760" cy="42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us 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imulate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 games, each w/ at least 1 type of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us B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imulate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games, each w/ several errors (illegal moves, dealer mistake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recovery improves overall by 33.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4952880" y="1739880"/>
            <a:ext cx="3962160" cy="1509480"/>
            <a:chOff x="4952880" y="1739880"/>
            <a:chExt cx="3962160" cy="1509480"/>
          </a:xfrm>
        </p:grpSpPr>
        <p:sp>
          <p:nvSpPr>
            <p:cNvPr id="884" name=""/>
            <p:cNvSpPr/>
            <p:nvPr/>
          </p:nvSpPr>
          <p:spPr>
            <a:xfrm>
              <a:off x="4952880" y="2463840"/>
              <a:ext cx="39621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Corpus A   42.9%   85.7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Corpus B    0.0%   40.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52880" y="2108160"/>
              <a:ext cx="350496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Corpus      OFF     ON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952880" y="1739880"/>
              <a:ext cx="3504960" cy="3682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Lucida Console"/>
                </a:rPr>
                <a:t>Error Reco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4912920" y="3378240"/>
            <a:ext cx="37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*Accepting up to 2 consecutive fail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ntributio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7680" y="1685880"/>
            <a:ext cx="819288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Spaces framework for decomposing recogni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xt-enhanced trac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on Recognition from exploiting object co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classification using 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s to Earley-Stolcke parsing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aptive Stochastic Gramm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ror Detection &amp; Recove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havior Analy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92120" y="1685880"/>
            <a:ext cx="8244000" cy="448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ontribution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real-time recognition of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iting context for recog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Action recognition using Object Con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acking using Object Con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Object classification using A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work for managing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s to Earley-Stolcke parsing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aptive Stochastic Gramm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ror Detection &amp; Recove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havior Analy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imitation &amp; Future Work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79520" y="1685520"/>
            <a:ext cx="823104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Limi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camera, view-based approach hides some complex mo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use grammar to represent all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rning Grammar in complex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camera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building VARS (Vision-Action Recognition Syst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Many thanks to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Professor Monson H. Hayes III &amp; Professor Irfan A. Ess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Defense Committee (M.A. Clements, R. Schafer, T. Starn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Family, friends &amp; associ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Recogni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080" y="1371600"/>
            <a:ext cx="5040000" cy="50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-tasked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tasked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people &amp;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uctured/rule-b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periods of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llenges/Objec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tion in performance, temporal duration, number of ag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activities share simila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-time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00880" y="4248000"/>
            <a:ext cx="3074760" cy="211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97640" y="1457280"/>
            <a:ext cx="3076560" cy="23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31640" y="1380960"/>
            <a:ext cx="8267760" cy="514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Recognition using HMMs &amp; Context 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Starner (199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Bregler (199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Oliver 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et al.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(199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Recognition using infere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Yi &amp; Chelberg (199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ctic Pattern Recognition of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Bobick &amp; Ivanov (1998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Ivanov &amp; Bobick (199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0" y="174852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-287280">
              <a:lnSpc>
                <a:spcPct val="120000"/>
              </a:lnSpc>
              <a:buClr>
                <a:srgbClr val="99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Buxton </a:t>
            </a:r>
            <a:r>
              <a:rPr b="0" i="1" lang="en-US" sz="2000" spc="-1" strike="noStrike">
                <a:solidFill>
                  <a:srgbClr val="990000"/>
                </a:solidFill>
                <a:latin typeface="Tahoma"/>
              </a:rPr>
              <a:t>et al.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(19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lated Work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317480" y="4734000"/>
            <a:ext cx="39398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743040" indent="-285840"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Brand (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Pinhanez &amp; Bobick (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ur Approach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4040" y="1510920"/>
            <a:ext cx="7737480" cy="49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&amp;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classes to represent scene cont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models of actions &amp; single-tasked activit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stochastic grammar to describe “structure” in multitasked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k articles &amp; people (hands) in sce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ct “evidence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99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ob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related interactions w/ oth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99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im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appearance-based feat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990000"/>
              </a:buClr>
              <a:buFont typeface="CommonBulle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motion described by HM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ine evidence to classify activities or unknown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se high-level behavior from event 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127480" y="1498680"/>
            <a:ext cx="40165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background snapsh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classes for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 objects 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related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 actions using hidden Markov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000" y="348840"/>
            <a:ext cx="866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raining Setup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vars_config_scene" descr=""/>
          <p:cNvPicPr/>
          <p:nvPr/>
        </p:nvPicPr>
        <p:blipFill>
          <a:blip r:embed="rId1"/>
          <a:stretch/>
        </p:blipFill>
        <p:spPr>
          <a:xfrm>
            <a:off x="365040" y="1442880"/>
            <a:ext cx="4716720" cy="3171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7040" y="1755720"/>
            <a:ext cx="2789280" cy="1984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181080" y="4846680"/>
            <a:ext cx="914400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07960" y="4756320"/>
            <a:ext cx="8369280" cy="1844640"/>
            <a:chOff x="507960" y="4756320"/>
            <a:chExt cx="8369280" cy="1844640"/>
          </a:xfrm>
        </p:grpSpPr>
        <p:sp>
          <p:nvSpPr>
            <p:cNvPr id="111" name=""/>
            <p:cNvSpPr/>
            <p:nvPr/>
          </p:nvSpPr>
          <p:spPr>
            <a:xfrm>
              <a:off x="507960" y="4756320"/>
              <a:ext cx="4162320" cy="18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520" rIns="18252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ass SteeringWheel : child of Art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ounding Box = [9,9,190,181]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entroid     = (100,9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abel        = SteeringWhe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requency    = 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oveable     = 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gid        = Tr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ccluded     = 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29040" y="4994280"/>
              <a:ext cx="404820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520" rIns="18252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nt Array  = [14:05:31,14:06:11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EFTHAND, personID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one detected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tion HMMs  = [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i="1" lang="en-US" sz="1400" spc="-1" strike="noStrike" baseline="-25000">
                  <a:solidFill>
                    <a:srgbClr val="990000"/>
                  </a:solidFill>
                  <a:latin typeface="Courier New"/>
                </a:rPr>
                <a:t>turn left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i="1" lang="en-US" sz="1400" spc="-1" strike="noStrike" baseline="-25000">
                  <a:solidFill>
                    <a:srgbClr val="990000"/>
                  </a:solidFill>
                  <a:latin typeface="Courier New"/>
                </a:rPr>
                <a:t>turn right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281240"/>
            <a:ext cx="2898720" cy="503064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t">
            <a:normAutofit fontScale="94000"/>
          </a:bodyPr>
          <a:p>
            <a:pPr marL="1072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07280" indent="0" algn="ctr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cene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-214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ervises inter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-214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s domain-specific context &amp; activity mod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Objec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-214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re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-214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 datab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Extraction Layer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-214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nd track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9480" indent="-214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monBullet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tion analy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035160" y="1682640"/>
            <a:ext cx="5810400" cy="2505240"/>
          </a:xfrm>
          <a:prstGeom prst="roundRect">
            <a:avLst>
              <a:gd name="adj" fmla="val 7542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581280" y="4813200"/>
            <a:ext cx="4761000" cy="1873440"/>
            <a:chOff x="3581280" y="4813200"/>
            <a:chExt cx="4761000" cy="1873440"/>
          </a:xfrm>
        </p:grpSpPr>
        <p:sp>
          <p:nvSpPr>
            <p:cNvPr id="116" name=""/>
            <p:cNvSpPr/>
            <p:nvPr/>
          </p:nvSpPr>
          <p:spPr>
            <a:xfrm>
              <a:off x="3581280" y="5870520"/>
              <a:ext cx="4761000" cy="816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767040" y="6016680"/>
              <a:ext cx="768240" cy="477360"/>
              <a:chOff x="3767040" y="6016680"/>
              <a:chExt cx="768240" cy="477360"/>
            </a:xfrm>
          </p:grpSpPr>
          <p:sp>
            <p:nvSpPr>
              <p:cNvPr id="118" name=""/>
              <p:cNvSpPr/>
              <p:nvPr/>
            </p:nvSpPr>
            <p:spPr>
              <a:xfrm>
                <a:off x="3767040" y="6016680"/>
                <a:ext cx="713160" cy="41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2120" y="6077520"/>
                <a:ext cx="713160" cy="416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890880" y="6141960"/>
              <a:ext cx="70812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m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ap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67280" y="6141960"/>
              <a:ext cx="82872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e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xtr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7800" y="6138720"/>
              <a:ext cx="700200" cy="42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l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Track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18360" y="6159600"/>
              <a:ext cx="1004760" cy="3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HMMs     Hand Ac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08360" y="6350040"/>
              <a:ext cx="358920" cy="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8880" y="6350040"/>
              <a:ext cx="358920" cy="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61240" y="6350040"/>
              <a:ext cx="358560" cy="0"/>
            </a:xfrm>
            <a:prstGeom prst="line">
              <a:avLst/>
            </a:prstGeom>
            <a:ln w="12600">
              <a:solidFill>
                <a:srgbClr val="33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31080" y="5916600"/>
              <a:ext cx="12538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81520" y="5203800"/>
              <a:ext cx="596880" cy="3142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oma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04000" y="5529240"/>
              <a:ext cx="128520" cy="317520"/>
            </a:xfrm>
            <a:prstGeom prst="upDownArrow">
              <a:avLst>
                <a:gd name="adj1" fmla="val 50000"/>
                <a:gd name="adj2" fmla="val 49183"/>
              </a:avLst>
            </a:prstGeom>
            <a:solidFill>
              <a:srgbClr val="ffffff"/>
            </a:solidFill>
            <a:ln w="6480">
              <a:solidFill>
                <a:srgbClr val="333333"/>
              </a:solidFill>
              <a:miter/>
            </a:ln>
            <a:effectLst>
              <a:outerShdw dist="50760" dir="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75160" y="4813200"/>
              <a:ext cx="990720" cy="727200"/>
            </a:xfrm>
            <a:custGeom>
              <a:avLst/>
              <a:gdLst>
                <a:gd name="textAreaLeft" fmla="*/ 195840 w 990720"/>
                <a:gd name="textAreaRight" fmla="*/ 878400 w 990720"/>
                <a:gd name="textAreaTop" fmla="*/ 479880 h 727200"/>
                <a:gd name="textAreaBottom" fmla="*/ 644760 h 72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701"/>
                  </a:moveTo>
                  <a:lnTo>
                    <a:pt x="4272" y="11801"/>
                  </a:lnTo>
                  <a:lnTo>
                    <a:pt x="4272" y="14255"/>
                  </a:lnTo>
                  <a:lnTo>
                    <a:pt x="14255" y="14255"/>
                  </a:lnTo>
                  <a:lnTo>
                    <a:pt x="14255" y="4272"/>
                  </a:lnTo>
                  <a:lnTo>
                    <a:pt x="11801" y="4272"/>
                  </a:lnTo>
                  <a:lnTo>
                    <a:pt x="16701" y="0"/>
                  </a:lnTo>
                  <a:lnTo>
                    <a:pt x="21600" y="4272"/>
                  </a:lnTo>
                  <a:lnTo>
                    <a:pt x="19146" y="4272"/>
                  </a:lnTo>
                  <a:lnTo>
                    <a:pt x="19146" y="19146"/>
                  </a:lnTo>
                  <a:lnTo>
                    <a:pt x="4272" y="19146"/>
                  </a:lnTo>
                  <a:lnTo>
                    <a:pt x="42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60000"/>
                </a:gs>
                <a:gs pos="100000">
                  <a:srgbClr val="990000"/>
                </a:gs>
              </a:gsLst>
              <a:lin ang="5400000"/>
            </a:gradFill>
            <a:ln w="6480">
              <a:solidFill>
                <a:srgbClr val="333333"/>
              </a:solidFill>
              <a:miter/>
            </a:ln>
            <a:effectLst>
              <a:outerShdw dist="81185" dir="232196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654440" y="4813200"/>
              <a:ext cx="990720" cy="727200"/>
            </a:xfrm>
            <a:custGeom>
              <a:avLst/>
              <a:gdLst>
                <a:gd name="textAreaLeft" fmla="*/ 195840 w 990720"/>
                <a:gd name="textAreaRight" fmla="*/ 878400 w 990720"/>
                <a:gd name="textAreaTop" fmla="*/ 479880 h 727200"/>
                <a:gd name="textAreaBottom" fmla="*/ 644760 h 72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701"/>
                  </a:moveTo>
                  <a:lnTo>
                    <a:pt x="4272" y="11801"/>
                  </a:lnTo>
                  <a:lnTo>
                    <a:pt x="4272" y="14255"/>
                  </a:lnTo>
                  <a:lnTo>
                    <a:pt x="14255" y="14255"/>
                  </a:lnTo>
                  <a:lnTo>
                    <a:pt x="14255" y="4272"/>
                  </a:lnTo>
                  <a:lnTo>
                    <a:pt x="11801" y="4272"/>
                  </a:lnTo>
                  <a:lnTo>
                    <a:pt x="16701" y="0"/>
                  </a:lnTo>
                  <a:lnTo>
                    <a:pt x="21600" y="4272"/>
                  </a:lnTo>
                  <a:lnTo>
                    <a:pt x="19146" y="4272"/>
                  </a:lnTo>
                  <a:lnTo>
                    <a:pt x="19146" y="19146"/>
                  </a:lnTo>
                  <a:lnTo>
                    <a:pt x="4272" y="19146"/>
                  </a:lnTo>
                  <a:lnTo>
                    <a:pt x="4272" y="21600"/>
                  </a:ln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073320" y="4264200"/>
            <a:ext cx="5772240" cy="5428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7840" y="4346640"/>
            <a:ext cx="2770200" cy="380880"/>
          </a:xfrm>
          <a:prstGeom prst="rect">
            <a:avLst/>
          </a:prstGeom>
          <a:solidFill>
            <a:srgbClr val="ffffff"/>
          </a:solidFill>
          <a:ln w="648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ene Artic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air, Mouse, Keyboar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Laptop, 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21360" y="4346640"/>
            <a:ext cx="2741760" cy="380880"/>
          </a:xfrm>
          <a:prstGeom prst="rect">
            <a:avLst/>
          </a:prstGeom>
          <a:solidFill>
            <a:srgbClr val="990000"/>
          </a:solid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cene Articl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hair, Mouse, Book, Keyboard,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47840" y="1832040"/>
            <a:ext cx="2746440" cy="206280"/>
          </a:xfrm>
          <a:prstGeom prst="rect">
            <a:avLst/>
          </a:prstGeom>
          <a:solidFill>
            <a:srgbClr val="ffffff"/>
          </a:solidFill>
          <a:ln w="648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omain: Computer L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21360" y="1841400"/>
            <a:ext cx="2741760" cy="196920"/>
          </a:xfrm>
          <a:prstGeom prst="rect">
            <a:avLst/>
          </a:prstGeom>
          <a:solidFill>
            <a:srgbClr val="99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omain: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background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021360" y="2117880"/>
            <a:ext cx="2741760" cy="1973160"/>
          </a:xfrm>
          <a:prstGeom prst="rect">
            <a:avLst/>
          </a:prstGeom>
          <a:ln w="12600">
            <a:solidFill>
              <a:srgbClr val="990000"/>
            </a:solidFill>
            <a:miter/>
          </a:ln>
        </p:spPr>
      </p:pic>
      <p:pic>
        <p:nvPicPr>
          <p:cNvPr id="138" name="lab" descr=""/>
          <p:cNvPicPr/>
          <p:nvPr/>
        </p:nvPicPr>
        <p:blipFill>
          <a:blip r:embed="rId2"/>
          <a:stretch/>
        </p:blipFill>
        <p:spPr>
          <a:xfrm>
            <a:off x="3159000" y="2125800"/>
            <a:ext cx="2741760" cy="197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96600" y="2440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paces Framework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35120" y="1177200"/>
            <a:ext cx="77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Organizes, manages &amp; stores information - Supports multiple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7:08:16Z</dcterms:created>
  <dc:creator>Darnell J Moore</dc:creator>
  <dc:description/>
  <cp:keywords>vision recognition action context activity HMM</cp:keywords>
  <dc:language>en-US</dc:language>
  <cp:lastModifiedBy>Darnell J. Moore</cp:lastModifiedBy>
  <cp:lastPrinted>1999-09-17T19:52:49Z</cp:lastPrinted>
  <dcterms:modified xsi:type="dcterms:W3CDTF">2000-04-26T15:10:46Z</dcterms:modified>
  <cp:revision>254</cp:revision>
  <dc:subject>Thesis Defense</dc:subject>
  <dc:title>Vision-Based Recognition of Actions using Context</dc:title>
</cp:coreProperties>
</file>